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6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6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1280" y="441792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7DDBDE-8B19-4B23-9F8C-C6B399675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E56483-9F65-405E-AFD0-F8F296926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75232C-8028-437A-8CD5-16BA2CBB2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253B64-6764-4E65-96CA-EFAFD60F7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MTA Cap Constr copy"/>
          <p:cNvPicPr/>
          <p:nvPr/>
        </p:nvPicPr>
        <p:blipFill>
          <a:blip r:embed="rId2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22"/>
          <p:cNvSpPr/>
          <p:nvPr/>
        </p:nvSpPr>
        <p:spPr>
          <a:xfrm>
            <a:off x="0" y="309600"/>
            <a:ext cx="1854360" cy="78084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92" y="0"/>
                </a:lnTo>
                <a:lnTo>
                  <a:pt x="21600" y="10800"/>
                </a:lnTo>
                <a:lnTo>
                  <a:pt x="167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Text Box 23"/>
          <p:cNvSpPr/>
          <p:nvPr/>
        </p:nvSpPr>
        <p:spPr>
          <a:xfrm>
            <a:off x="7421400" y="6607080"/>
            <a:ext cx="193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8010360" cy="251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182880" rIns="182880" tIns="137160" bIns="13716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Avenue Subway TBM Drive #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ssue: Complete TBM run by March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BM Drive #1 completed February 4, ahead of the required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42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09160" y="1333080"/>
            <a:ext cx="8839080" cy="5343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137160" bIns="13716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ast Side Access Systems Contra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Issue: Reduce risks of del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aft Risk Assessment identified a number of risks that, if not mitigated, could lead to project dela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ons already tak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designed bench wall to increase production of cable install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vanced bench wall, walkway, and other scope for earlier completions and reduced volume of concurrent wor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vanced two substations to reduce testing and commissioning delay ri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ducting peer review of critical track installation site access pl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ilding 4-D model to confirm work plan and resolve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alyzing feasibility of additional work shifts; if feasible, could greatly reduce delay ri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ther risk mitigation strategies that result from the Follow-up Risk Assessment will be included in contract specs.  The procurement of first Systems contract is planned to start in April with award in March-201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FP procurement process allows team to evaluate and negotiate contract schedule and other ter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4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71160" y="1504800"/>
            <a:ext cx="8505720" cy="509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182880" rIns="182880" tIns="137160" bIns="13716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st Side Access Manhattan Caver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Issue: Hold to recovery plan and restore schedule conting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 taken to increase produ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actor now working 24 hours a day, six days per week, every week (seventh day being evaluat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nged running tunnel waterproofing design to simplify concrete production. This approach has been discussed with LIR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ting up additional material delivery access points in Manhattan (Wellway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gress since last repor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ed concrete operations in W/B Cavern this month as plan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rrently forecast start of concrete operations in E/B Cavern in April, but pushing for March start to meet pl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6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4:13:11Z</dcterms:created>
  <dc:creator>MTACC</dc:creator>
  <dc:description/>
  <dc:language>en-US</dc:language>
  <cp:lastModifiedBy>Michael Jew-Geralds</cp:lastModifiedBy>
  <cp:lastPrinted>2011-02-16T22:34:08Z</cp:lastPrinted>
  <dcterms:modified xsi:type="dcterms:W3CDTF">2011-02-16T22:36:23Z</dcterms:modified>
  <cp:revision>111</cp:revision>
  <dc:subject/>
  <dc:title>MTACC Quarterly Progress Report to CPOC</dc:title>
</cp:coreProperties>
</file>