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24.wmf" ContentType="image/x-wmf"/>
  <Override PartName="/ppt/media/image23.wmf" ContentType="image/x-wmf"/>
  <Override PartName="/ppt/media/image18.wmf" ContentType="image/x-wmf"/>
  <Override PartName="/ppt/media/image32.jpeg" ContentType="image/jpeg"/>
  <Override PartName="/ppt/media/image20.wmf" ContentType="image/x-wmf"/>
  <Override PartName="/ppt/media/image9.wmf" ContentType="image/x-wmf"/>
  <Override PartName="/ppt/media/image14.png" ContentType="image/png"/>
  <Override PartName="/ppt/media/image12.wmf" ContentType="image/x-wmf"/>
  <Override PartName="/ppt/media/image1.jpeg" ContentType="image/jpeg"/>
  <Override PartName="/ppt/media/image7.png" ContentType="image/png"/>
  <Override PartName="/ppt/media/image5.jpeg" ContentType="image/jpeg"/>
  <Override PartName="/ppt/media/image11.wmf" ContentType="image/x-wmf"/>
  <Override PartName="/ppt/media/image10.wmf" ContentType="image/x-wmf"/>
  <Override PartName="/ppt/media/image31.jpeg" ContentType="image/jpeg"/>
  <Override PartName="/ppt/media/image28.png" ContentType="image/png"/>
  <Override PartName="/ppt/media/image8.jpeg" ContentType="image/jpeg"/>
  <Override PartName="/ppt/media/image13.wmf" ContentType="image/x-wmf"/>
  <Override PartName="/ppt/media/image30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15.jpeg" ContentType="image/jpeg"/>
  <Override PartName="/ppt/media/image25.wmf" ContentType="image/x-wmf"/>
  <Override PartName="/ppt/media/image4.wmf" ContentType="image/x-wmf"/>
  <Override PartName="/ppt/media/image27.wmf" ContentType="image/x-wmf"/>
  <Override PartName="/ppt/media/image16.wmf" ContentType="image/x-wmf"/>
  <Override PartName="/ppt/media/image17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7F46-4314-4667-96C0-A124AC283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218B-7D6F-4BC7-A6F8-56BC0370C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87BB-60E8-42BF-BFF1-3D4B7BCEF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C2C9-32C3-48BD-B423-E18A31633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CFE6-F0E2-4EBA-BD43-8BB247D96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2392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DA78E59-F7E4-46F2-89A2-897497737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EF43-16C8-420F-9719-9224A4DED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F14D-4FFB-4CE0-8CAE-447CFE282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2392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DA4D182-F8A8-4327-88EB-4F98AEAEF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ABBA-5AF8-435B-B79B-9B28C78A5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9EA7-DAC6-4798-9D2F-EFE34022E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F4D2-FD4E-4904-BA94-F26AE0D7A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AA87-E38D-4D04-B06E-BA8A52F7C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C3E9-2B3C-4F7D-A85A-A99C5C1B1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9C07-9111-4730-9388-A8759AC33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6E7C-F9AF-4048-AB8B-C42BFF272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87E5-2D79-43A0-91D1-7E5FE47AA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8B1A-6C27-4812-927E-254A2EA75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5E7B-7E77-404B-93A4-FA0D208F8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6854-123A-4010-B49A-26EEDD5B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D868-EE54-4FE6-ADFF-1254696FC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C221-AE74-42F6-A67B-E4C643CB7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9437-02D9-4BA1-BF05-EBF4012DB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59AB-67B9-4B2D-9395-0BE6DF20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610C-C10D-433E-8120-CC58A3C4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1F3F-8197-4F7A-A37F-0C4BF3C8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F3A7-87B8-468A-AE64-71FDD306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584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2D2D-AFAB-4277-AD5D-81235F9F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D95C-9425-475B-A712-BE9EC2B3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0B70-7CC5-4EA7-AB1F-FE1D7234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DB0B-3BE1-423B-A511-0850FE2C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96DE-AF22-4193-B481-AF92488D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4C61-7696-4C96-B124-0D8D0C90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C18B-2A8F-4E2D-8B47-F987EACED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3AE6-7434-40B6-BFD2-7D72EA94D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E95F-3A22-40D2-B8CC-612A6EAC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28A4-237E-44E3-8CF7-CD056FB0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D5DC-D5DB-4CEA-A7EA-A072586F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584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EEC1-EBEE-4894-845C-1FBDADA1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F3A0-90A7-4321-9E04-617C29D9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752A-EF1A-491F-A270-6029A692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0CB0-123C-4538-8D73-4294DB64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-115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162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174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8640" y="6416280"/>
            <a:ext cx="213372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84CD-0F18-4C59-832B-70A2040BC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-115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162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174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E3A9-CE8A-4EE0-B9E1-546B8262D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image" Target="../media/image5.jpeg"/><Relationship Id="rId8" Type="http://schemas.openxmlformats.org/officeDocument/2006/relationships/hyperlink" Target="http://upload.wikimedia.org/wikipedia/commons/8/8f/Little_Neck_LIRR_jeh.JPG" TargetMode="External"/><Relationship Id="rId9" Type="http://schemas.openxmlformats.org/officeDocument/2006/relationships/image" Target="../media/image6.jpeg"/><Relationship Id="rId10" Type="http://schemas.openxmlformats.org/officeDocument/2006/relationships/image" Target="../media/image7.pn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8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9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4C5F-2DF5-4D73-A7AD-11C938C5B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1640" y="194940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TA Track Program 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1062000" y="3191040"/>
            <a:ext cx="70772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ation to CPO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bruary 17, 20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1" descr="mta-logo"/>
          <p:cNvPicPr/>
          <p:nvPr/>
        </p:nvPicPr>
        <p:blipFill>
          <a:blip r:embed="rId1"/>
          <a:stretch/>
        </p:blipFill>
        <p:spPr>
          <a:xfrm>
            <a:off x="5729400" y="3718080"/>
            <a:ext cx="2409840" cy="26859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3"/>
          <p:cNvSpPr/>
          <p:nvPr/>
        </p:nvSpPr>
        <p:spPr>
          <a:xfrm>
            <a:off x="8158320" y="589104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9"/>
          <p:cNvSpPr/>
          <p:nvPr/>
        </p:nvSpPr>
        <p:spPr>
          <a:xfrm>
            <a:off x="1062000" y="5688000"/>
            <a:ext cx="51102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TEGIC INITIATIVES GROU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ITAL PROGRAM 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ICE OF CONSTRUCTION OVERSIGHT / IEC AGENCY TRACK PROGRA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1768-7AFE-49A2-A6D5-A5184FDF1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285840" y="274680"/>
            <a:ext cx="8389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10% improvement in each of the identified areas of opportunity suggests $50 million in annual efficiency potenti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2021040" y="1449360"/>
            <a:ext cx="522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ual MTA-wide efficiency potential, $ mill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6"/>
          <p:cNvSpPr/>
          <p:nvPr/>
        </p:nvSpPr>
        <p:spPr>
          <a:xfrm>
            <a:off x="1324080" y="1724040"/>
            <a:ext cx="591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traight Connector 2"/>
          <p:cNvSpPr/>
          <p:nvPr/>
        </p:nvSpPr>
        <p:spPr>
          <a:xfrm>
            <a:off x="6808680" y="3036960"/>
            <a:ext cx="0" cy="2667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traight Connector 1"/>
          <p:cNvSpPr/>
          <p:nvPr/>
        </p:nvSpPr>
        <p:spPr>
          <a:xfrm>
            <a:off x="5189400" y="2446200"/>
            <a:ext cx="0" cy="2667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Object 1"/>
          <p:cNvGraphicFramePr/>
          <p:nvPr/>
        </p:nvGraphicFramePr>
        <p:xfrm>
          <a:off x="2236680" y="1884240"/>
          <a:ext cx="4943520" cy="20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6680" y="1884240"/>
                    <a:ext cx="4943520" cy="20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Rectangle 4"/>
          <p:cNvSpPr/>
          <p:nvPr/>
        </p:nvSpPr>
        <p:spPr>
          <a:xfrm>
            <a:off x="1903320" y="3363840"/>
            <a:ext cx="393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1519200" y="2768760"/>
            <a:ext cx="77796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"/>
          <p:cNvSpPr/>
          <p:nvPr/>
        </p:nvSpPr>
        <p:spPr>
          <a:xfrm>
            <a:off x="1744560" y="2173320"/>
            <a:ext cx="552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Isosceles Triangle 1"/>
          <p:cNvSpPr/>
          <p:nvPr/>
        </p:nvSpPr>
        <p:spPr>
          <a:xfrm rot="10800000">
            <a:off x="3247560" y="4260600"/>
            <a:ext cx="273852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27"/>
          <p:cNvSpPr/>
          <p:nvPr/>
        </p:nvSpPr>
        <p:spPr>
          <a:xfrm>
            <a:off x="3438360" y="4892760"/>
            <a:ext cx="2389320" cy="114624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58"/>
          <p:cNvSpPr/>
          <p:nvPr/>
        </p:nvSpPr>
        <p:spPr>
          <a:xfrm>
            <a:off x="3551400" y="5103720"/>
            <a:ext cx="220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ncies are presently working to pursue this efficiency potenti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10BB-7C52-4E18-90D2-EA6B2A5F2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12" descr=""/>
          <p:cNvPicPr/>
          <p:nvPr/>
        </p:nvPicPr>
        <p:blipFill>
          <a:blip r:embed="rId1"/>
          <a:stretch/>
        </p:blipFill>
        <p:spPr>
          <a:xfrm>
            <a:off x="2282760" y="3503520"/>
            <a:ext cx="2067120" cy="150660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17"/>
          <p:cNvSpPr/>
          <p:nvPr/>
        </p:nvSpPr>
        <p:spPr>
          <a:xfrm>
            <a:off x="2200320" y="5048280"/>
            <a:ext cx="19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: full renew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11" descr=""/>
          <p:cNvPicPr/>
          <p:nvPr/>
        </p:nvPicPr>
        <p:blipFill>
          <a:blip r:embed="rId2"/>
          <a:stretch/>
        </p:blipFill>
        <p:spPr>
          <a:xfrm>
            <a:off x="4527720" y="3503520"/>
            <a:ext cx="2066760" cy="1505160"/>
          </a:xfrm>
          <a:prstGeom prst="rect">
            <a:avLst/>
          </a:prstGeom>
          <a:ln w="0">
            <a:noFill/>
          </a:ln>
        </p:spPr>
      </p:pic>
      <p:sp>
        <p:nvSpPr>
          <p:cNvPr id="395" name="Oval 43"/>
          <p:cNvSpPr/>
          <p:nvPr/>
        </p:nvSpPr>
        <p:spPr>
          <a:xfrm>
            <a:off x="7248600" y="386856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58"/>
          <p:cNvSpPr/>
          <p:nvPr/>
        </p:nvSpPr>
        <p:spPr>
          <a:xfrm>
            <a:off x="7310520" y="404352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 cost and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Isosceles Triangle 25"/>
          <p:cNvSpPr/>
          <p:nvPr/>
        </p:nvSpPr>
        <p:spPr>
          <a:xfrm rot="5400000">
            <a:off x="6173280" y="4157640"/>
            <a:ext cx="15303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2397240" y="973080"/>
            <a:ext cx="46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 analysis of nighttime track work, hou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6"/>
          <p:cNvSpPr/>
          <p:nvPr/>
        </p:nvSpPr>
        <p:spPr>
          <a:xfrm>
            <a:off x="2284560" y="1281240"/>
            <a:ext cx="430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Object 1"/>
          <p:cNvGraphicFramePr/>
          <p:nvPr/>
        </p:nvGraphicFramePr>
        <p:xfrm>
          <a:off x="3446640" y="1324080"/>
          <a:ext cx="3009600" cy="18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1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46640" y="1324080"/>
                    <a:ext cx="300960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Rectangle 23"/>
          <p:cNvSpPr/>
          <p:nvPr/>
        </p:nvSpPr>
        <p:spPr>
          <a:xfrm>
            <a:off x="2284560" y="2703600"/>
            <a:ext cx="1222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ductive ti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6"/>
          <p:cNvSpPr/>
          <p:nvPr/>
        </p:nvSpPr>
        <p:spPr>
          <a:xfrm>
            <a:off x="2451240" y="2146320"/>
            <a:ext cx="10555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ork windo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0"/>
          <p:cNvSpPr/>
          <p:nvPr/>
        </p:nvSpPr>
        <p:spPr>
          <a:xfrm>
            <a:off x="2619360" y="1589040"/>
            <a:ext cx="8874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ift lengt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39"/>
          <p:cNvSpPr/>
          <p:nvPr/>
        </p:nvSpPr>
        <p:spPr>
          <a:xfrm>
            <a:off x="7248600" y="1878120"/>
            <a:ext cx="1569960" cy="8031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58"/>
          <p:cNvSpPr/>
          <p:nvPr/>
        </p:nvSpPr>
        <p:spPr>
          <a:xfrm>
            <a:off x="7310520" y="205272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d labor efficienc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Isosceles Triangle 25"/>
          <p:cNvSpPr/>
          <p:nvPr/>
        </p:nvSpPr>
        <p:spPr>
          <a:xfrm rot="5400000">
            <a:off x="6172200" y="2167560"/>
            <a:ext cx="15321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8" name="Straight Arrow Connector 45"/>
          <p:cNvCxnSpPr/>
          <p:nvPr/>
        </p:nvCxnSpPr>
        <p:spPr>
          <a:xfrm>
            <a:off x="5103720" y="2800440"/>
            <a:ext cx="488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9" name="Pentagon 15"/>
          <p:cNvSpPr/>
          <p:nvPr/>
        </p:nvSpPr>
        <p:spPr>
          <a:xfrm>
            <a:off x="476280" y="1065240"/>
            <a:ext cx="1423800" cy="2021040"/>
          </a:xfrm>
          <a:custGeom>
            <a:avLst/>
            <a:gdLst>
              <a:gd name="textAreaLeft" fmla="*/ 0 w 1423800"/>
              <a:gd name="textAreaRight" fmla="*/ 1424160 w 1423800"/>
              <a:gd name="textAreaTop" fmla="*/ 0 h 2021040"/>
              <a:gd name="textAreaBottom" fmla="*/ 2021400 h 20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13" y="0"/>
                </a:lnTo>
                <a:lnTo>
                  <a:pt x="21600" y="10800"/>
                </a:lnTo>
                <a:lnTo>
                  <a:pt x="160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603360" tIns="797040" bIns="798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cc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0" name="Straight Arrow Connector 45"/>
          <p:cNvCxnSpPr/>
          <p:nvPr/>
        </p:nvCxnSpPr>
        <p:spPr>
          <a:xfrm>
            <a:off x="5581440" y="2252160"/>
            <a:ext cx="487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1" name="Pentagon 15"/>
          <p:cNvSpPr/>
          <p:nvPr/>
        </p:nvSpPr>
        <p:spPr>
          <a:xfrm>
            <a:off x="476280" y="3363840"/>
            <a:ext cx="1423800" cy="2021040"/>
          </a:xfrm>
          <a:custGeom>
            <a:avLst/>
            <a:gdLst>
              <a:gd name="textAreaLeft" fmla="*/ 0 w 1423800"/>
              <a:gd name="textAreaRight" fmla="*/ 1424160 w 1423800"/>
              <a:gd name="textAreaTop" fmla="*/ 0 h 2021040"/>
              <a:gd name="textAreaBottom" fmla="*/ 2021400 h 20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13" y="0"/>
                </a:lnTo>
                <a:lnTo>
                  <a:pt x="21600" y="10800"/>
                </a:lnTo>
                <a:lnTo>
                  <a:pt x="160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34960" tIns="690480" bIns="692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renewal meth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7"/>
          <p:cNvSpPr/>
          <p:nvPr/>
        </p:nvSpPr>
        <p:spPr>
          <a:xfrm>
            <a:off x="4441680" y="5046840"/>
            <a:ext cx="24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lot: component renew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85840" y="274680"/>
            <a:ext cx="8389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opportunities being pursued at NY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entagon 15"/>
          <p:cNvSpPr/>
          <p:nvPr/>
        </p:nvSpPr>
        <p:spPr>
          <a:xfrm>
            <a:off x="476280" y="5638680"/>
            <a:ext cx="1281240" cy="906480"/>
          </a:xfrm>
          <a:custGeom>
            <a:avLst/>
            <a:gdLst>
              <a:gd name="textAreaLeft" fmla="*/ 0 w 1281240"/>
              <a:gd name="textAreaRight" fmla="*/ 1281240 w 12812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16" y="0"/>
                </a:lnTo>
                <a:lnTo>
                  <a:pt x="21600" y="10800"/>
                </a:lnTo>
                <a:lnTo>
                  <a:pt x="1881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671400" tIns="345960" bIns="347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6"/>
          <p:cNvSpPr/>
          <p:nvPr/>
        </p:nvSpPr>
        <p:spPr>
          <a:xfrm>
            <a:off x="2076480" y="5705640"/>
            <a:ext cx="6680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iew substitute servi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lot video-based track inspec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D15D-4E99-47B0-BFB3-3EFA30C8F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43"/>
          <p:cNvSpPr/>
          <p:nvPr/>
        </p:nvSpPr>
        <p:spPr>
          <a:xfrm>
            <a:off x="7248600" y="400212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58"/>
          <p:cNvSpPr/>
          <p:nvPr/>
        </p:nvSpPr>
        <p:spPr>
          <a:xfrm>
            <a:off x="7310520" y="417672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d labor efficienc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Isosceles Triangle 25"/>
          <p:cNvSpPr/>
          <p:nvPr/>
        </p:nvSpPr>
        <p:spPr>
          <a:xfrm rot="5400000">
            <a:off x="6173280" y="4291200"/>
            <a:ext cx="15303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39"/>
          <p:cNvSpPr/>
          <p:nvPr/>
        </p:nvSpPr>
        <p:spPr>
          <a:xfrm>
            <a:off x="7248600" y="1878120"/>
            <a:ext cx="1569960" cy="8031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58"/>
          <p:cNvSpPr/>
          <p:nvPr/>
        </p:nvSpPr>
        <p:spPr>
          <a:xfrm>
            <a:off x="7310520" y="205272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 cost and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Isosceles Triangle 25"/>
          <p:cNvSpPr/>
          <p:nvPr/>
        </p:nvSpPr>
        <p:spPr>
          <a:xfrm rot="5400000">
            <a:off x="6172200" y="2167560"/>
            <a:ext cx="15321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entagon 15"/>
          <p:cNvSpPr/>
          <p:nvPr/>
        </p:nvSpPr>
        <p:spPr>
          <a:xfrm>
            <a:off x="476280" y="1065240"/>
            <a:ext cx="1423800" cy="2021040"/>
          </a:xfrm>
          <a:custGeom>
            <a:avLst/>
            <a:gdLst>
              <a:gd name="textAreaLeft" fmla="*/ 0 w 1423800"/>
              <a:gd name="textAreaRight" fmla="*/ 1424160 w 1423800"/>
              <a:gd name="textAreaTop" fmla="*/ 0 h 2021040"/>
              <a:gd name="textAreaBottom" fmla="*/ 2021400 h 20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13" y="0"/>
                </a:lnTo>
                <a:lnTo>
                  <a:pt x="21600" y="10800"/>
                </a:lnTo>
                <a:lnTo>
                  <a:pt x="160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209520" tIns="797040" bIns="798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ulated joint failur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entagon 15"/>
          <p:cNvSpPr/>
          <p:nvPr/>
        </p:nvSpPr>
        <p:spPr>
          <a:xfrm>
            <a:off x="476280" y="3363840"/>
            <a:ext cx="1423800" cy="2021040"/>
          </a:xfrm>
          <a:custGeom>
            <a:avLst/>
            <a:gdLst>
              <a:gd name="textAreaLeft" fmla="*/ 0 w 1423800"/>
              <a:gd name="textAreaRight" fmla="*/ 1424160 w 1423800"/>
              <a:gd name="textAreaTop" fmla="*/ 0 h 2021040"/>
              <a:gd name="textAreaBottom" fmla="*/ 2021400 h 20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13" y="0"/>
                </a:lnTo>
                <a:lnTo>
                  <a:pt x="21600" y="10800"/>
                </a:lnTo>
                <a:lnTo>
                  <a:pt x="160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603360" tIns="797040" bIns="798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cc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2"/>
          <p:cNvSpPr/>
          <p:nvPr/>
        </p:nvSpPr>
        <p:spPr>
          <a:xfrm>
            <a:off x="285840" y="274680"/>
            <a:ext cx="8389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opportunities being pursued at LIRR and MN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entagon 15"/>
          <p:cNvSpPr/>
          <p:nvPr/>
        </p:nvSpPr>
        <p:spPr>
          <a:xfrm>
            <a:off x="476280" y="5638680"/>
            <a:ext cx="1281240" cy="906480"/>
          </a:xfrm>
          <a:custGeom>
            <a:avLst/>
            <a:gdLst>
              <a:gd name="textAreaLeft" fmla="*/ 0 w 1281240"/>
              <a:gd name="textAreaRight" fmla="*/ 1281240 w 12812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16" y="0"/>
                </a:lnTo>
                <a:lnTo>
                  <a:pt x="21600" y="10800"/>
                </a:lnTo>
                <a:lnTo>
                  <a:pt x="1881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671400" tIns="345960" bIns="347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2076480" y="5705640"/>
            <a:ext cx="6680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iew asset renewal rat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y good practices through ISRBG benchmarking grou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6"/>
          <p:cNvSpPr/>
          <p:nvPr/>
        </p:nvSpPr>
        <p:spPr>
          <a:xfrm>
            <a:off x="2077920" y="3747960"/>
            <a:ext cx="43434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ze cost/benefit of increasing work windo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y industrial engineering techniques to maximize productive work ti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multi-department approach of NYCT study (involving track, operations, budget, etc.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4" descr="IMG_1044"/>
          <p:cNvPicPr/>
          <p:nvPr/>
        </p:nvPicPr>
        <p:blipFill>
          <a:blip r:embed="rId1"/>
          <a:stretch/>
        </p:blipFill>
        <p:spPr>
          <a:xfrm>
            <a:off x="2287440" y="1487520"/>
            <a:ext cx="1855800" cy="139212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17"/>
          <p:cNvSpPr/>
          <p:nvPr/>
        </p:nvSpPr>
        <p:spPr>
          <a:xfrm>
            <a:off x="2181240" y="2894040"/>
            <a:ext cx="20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ilures cause delay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14" descr="96"/>
          <p:cNvPicPr/>
          <p:nvPr/>
        </p:nvPicPr>
        <p:blipFill>
          <a:blip r:embed="rId2"/>
          <a:stretch/>
        </p:blipFill>
        <p:spPr>
          <a:xfrm>
            <a:off x="4349880" y="1509840"/>
            <a:ext cx="2081160" cy="1368360"/>
          </a:xfrm>
          <a:prstGeom prst="rect">
            <a:avLst/>
          </a:prstGeom>
          <a:ln w="0">
            <a:noFill/>
          </a:ln>
        </p:spPr>
      </p:pic>
      <p:sp>
        <p:nvSpPr>
          <p:cNvPr id="433" name="Text Box 17"/>
          <p:cNvSpPr/>
          <p:nvPr/>
        </p:nvSpPr>
        <p:spPr>
          <a:xfrm>
            <a:off x="4264200" y="2894040"/>
            <a:ext cx="19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airs are laboriou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7"/>
          <p:cNvSpPr/>
          <p:nvPr/>
        </p:nvSpPr>
        <p:spPr>
          <a:xfrm>
            <a:off x="2198520" y="971640"/>
            <a:ext cx="426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joint LIRR / MNR study is investigating ways to prevent insulated joint failures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A0B6-2C67-49C4-ABFE-4CAF56DD0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Rectangle 2"/>
          <p:cNvGraphicFramePr/>
          <p:nvPr/>
        </p:nvGraphicFramePr>
        <p:xfrm>
          <a:off x="-93600" y="-20520"/>
          <a:ext cx="3477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0" y="-20520"/>
                    <a:ext cx="3477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6"/>
          <p:cNvSpPr/>
          <p:nvPr/>
        </p:nvSpPr>
        <p:spPr>
          <a:xfrm>
            <a:off x="2097000" y="1503360"/>
            <a:ext cx="6653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ing has provided insight into track program spending, agency-specific approaches and opportunities for improv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ed areas of opportunity suggest $50 million in annual track program efficiency improvement potenti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gencies will evaluate identified opportunities and develop agency-specific action plans to maximize efficiency in 2011 and out yea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gencies will provide periodic progress updates to CPOC on their action pla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9"/>
          <p:cNvSpPr/>
          <p:nvPr/>
        </p:nvSpPr>
        <p:spPr>
          <a:xfrm>
            <a:off x="493560" y="1386000"/>
            <a:ext cx="1413000" cy="85068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32" y="0"/>
                </a:lnTo>
                <a:lnTo>
                  <a:pt x="21600" y="10800"/>
                </a:lnTo>
                <a:lnTo>
                  <a:pt x="1923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280" rIns="135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90AC-39CD-41B9-8FE4-8649D1119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2097000" y="1214280"/>
            <a:ext cx="6653160" cy="7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TA agency track programs deliver safe and reliable tra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ency track program spending varies widely due to significant differences in methods, constraints and asset nee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 areas of opportunity suggest $50 million in annual MTA-wide track efficiency improvement potential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or efficienc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ti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stitute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TA agencies are presently pursuing initiatives directed towards realizing the identified efficiency potenti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9"/>
          <p:cNvSpPr/>
          <p:nvPr/>
        </p:nvSpPr>
        <p:spPr>
          <a:xfrm>
            <a:off x="493560" y="1096920"/>
            <a:ext cx="1413000" cy="84780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47800"/>
              <a:gd name="textAreaBottom" fmla="*/ 848160 h 84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1" y="0"/>
                </a:lnTo>
                <a:lnTo>
                  <a:pt x="21600" y="10800"/>
                </a:lnTo>
                <a:lnTo>
                  <a:pt x="19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280" rIns="135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82D8-6855-488C-8FE1-DEA0B10FA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85840" y="279360"/>
            <a:ext cx="85629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ck statistics defy typical MTA rankings, with each agency leading in a different asset area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689040" y="1109520"/>
            <a:ext cx="199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line track mile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388800" y="1384200"/>
            <a:ext cx="848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11"/>
          <p:cNvGraphicFramePr/>
          <p:nvPr/>
        </p:nvGraphicFramePr>
        <p:xfrm>
          <a:off x="941400" y="1590840"/>
          <a:ext cx="2552760" cy="188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1400" y="1590840"/>
                    <a:ext cx="255276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12"/>
          <p:cNvSpPr/>
          <p:nvPr/>
        </p:nvSpPr>
        <p:spPr>
          <a:xfrm>
            <a:off x="596880" y="297504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0"/>
          <p:cNvSpPr/>
          <p:nvPr/>
        </p:nvSpPr>
        <p:spPr>
          <a:xfrm>
            <a:off x="517680" y="186048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596880" y="241776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0"/>
          <p:cNvSpPr/>
          <p:nvPr/>
        </p:nvSpPr>
        <p:spPr>
          <a:xfrm>
            <a:off x="371520" y="4183200"/>
            <a:ext cx="399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1"/>
          <p:cNvSpPr/>
          <p:nvPr/>
        </p:nvSpPr>
        <p:spPr>
          <a:xfrm>
            <a:off x="719280" y="3889440"/>
            <a:ext cx="21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line track switche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42"/>
          <p:cNvGraphicFramePr/>
          <p:nvPr/>
        </p:nvGraphicFramePr>
        <p:xfrm>
          <a:off x="941400" y="4336920"/>
          <a:ext cx="1380960" cy="18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41400" y="4336920"/>
                    <a:ext cx="138096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Rectangle 46"/>
          <p:cNvSpPr/>
          <p:nvPr/>
        </p:nvSpPr>
        <p:spPr>
          <a:xfrm>
            <a:off x="517680" y="460692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7"/>
          <p:cNvSpPr/>
          <p:nvPr/>
        </p:nvSpPr>
        <p:spPr>
          <a:xfrm>
            <a:off x="596880" y="516420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8"/>
          <p:cNvSpPr/>
          <p:nvPr/>
        </p:nvSpPr>
        <p:spPr>
          <a:xfrm>
            <a:off x="596880" y="57214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6"/>
          <p:cNvSpPr/>
          <p:nvPr/>
        </p:nvSpPr>
        <p:spPr>
          <a:xfrm>
            <a:off x="1405080" y="516420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4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7"/>
          <p:cNvSpPr/>
          <p:nvPr/>
        </p:nvSpPr>
        <p:spPr>
          <a:xfrm>
            <a:off x="1557360" y="572148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5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5"/>
          <p:cNvSpPr/>
          <p:nvPr/>
        </p:nvSpPr>
        <p:spPr>
          <a:xfrm>
            <a:off x="2004840" y="4606920"/>
            <a:ext cx="493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,75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44"/>
          <p:cNvGraphicFramePr/>
          <p:nvPr/>
        </p:nvGraphicFramePr>
        <p:xfrm>
          <a:off x="5491080" y="4336920"/>
          <a:ext cx="1381320" cy="18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Object 4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1080" y="4336920"/>
                    <a:ext cx="138132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Rectangle 50"/>
          <p:cNvSpPr/>
          <p:nvPr/>
        </p:nvSpPr>
        <p:spPr>
          <a:xfrm>
            <a:off x="5146560" y="516420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6554880" y="516420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4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9"/>
          <p:cNvSpPr/>
          <p:nvPr/>
        </p:nvSpPr>
        <p:spPr>
          <a:xfrm>
            <a:off x="5067360" y="460692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1"/>
          <p:cNvSpPr/>
          <p:nvPr/>
        </p:nvSpPr>
        <p:spPr>
          <a:xfrm>
            <a:off x="5146560" y="57214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9"/>
          <p:cNvSpPr/>
          <p:nvPr/>
        </p:nvSpPr>
        <p:spPr>
          <a:xfrm>
            <a:off x="5964120" y="5721480"/>
            <a:ext cx="346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5"/>
          <p:cNvSpPr/>
          <p:nvPr/>
        </p:nvSpPr>
        <p:spPr>
          <a:xfrm>
            <a:off x="5319720" y="3908520"/>
            <a:ext cx="34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line track grade (road) crossing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5" descr="MNR High Speed x-overs"/>
          <p:cNvPicPr/>
          <p:nvPr/>
        </p:nvPicPr>
        <p:blipFill>
          <a:blip r:embed="rId7"/>
          <a:srcRect l="0" t="6219" r="0" b="32753"/>
          <a:stretch/>
        </p:blipFill>
        <p:spPr>
          <a:xfrm>
            <a:off x="2589120" y="4594320"/>
            <a:ext cx="1689120" cy="1401840"/>
          </a:xfrm>
          <a:prstGeom prst="rect">
            <a:avLst/>
          </a:prstGeom>
          <a:ln w="0">
            <a:noFill/>
          </a:ln>
        </p:spPr>
      </p:pic>
      <p:sp>
        <p:nvSpPr>
          <p:cNvPr id="128" name="Line 66"/>
          <p:cNvSpPr/>
          <p:nvPr/>
        </p:nvSpPr>
        <p:spPr>
          <a:xfrm>
            <a:off x="5081760" y="4183200"/>
            <a:ext cx="37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1" descr="File:Little Neck LIRR jeh.JPG">
            <a:hlinkClick r:id="rId8"/>
          </p:cNvPr>
          <p:cNvPicPr/>
          <p:nvPr/>
        </p:nvPicPr>
        <p:blipFill>
          <a:blip r:embed="rId9"/>
          <a:srcRect l="11217" t="0" r="0" b="0"/>
          <a:stretch/>
        </p:blipFill>
        <p:spPr>
          <a:xfrm>
            <a:off x="7101000" y="4567320"/>
            <a:ext cx="1673280" cy="1412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0"/>
          <p:cNvSpPr/>
          <p:nvPr/>
        </p:nvSpPr>
        <p:spPr>
          <a:xfrm>
            <a:off x="371520" y="6129360"/>
            <a:ext cx="8504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 scope of this study is restricted to mainline track and does not examine yard trac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0" descr=""/>
          <p:cNvPicPr/>
          <p:nvPr/>
        </p:nvPicPr>
        <p:blipFill>
          <a:blip r:embed="rId10"/>
          <a:srcRect l="19938" t="64425" r="66207" b="11813"/>
          <a:stretch/>
        </p:blipFill>
        <p:spPr>
          <a:xfrm>
            <a:off x="6031080" y="2062080"/>
            <a:ext cx="2011320" cy="1379520"/>
          </a:xfrm>
          <a:prstGeom prst="rect">
            <a:avLst/>
          </a:prstGeom>
          <a:ln w="0">
            <a:noFill/>
          </a:ln>
        </p:spPr>
      </p:pic>
      <p:sp>
        <p:nvSpPr>
          <p:cNvPr id="132" name="Line 58"/>
          <p:cNvSpPr/>
          <p:nvPr/>
        </p:nvSpPr>
        <p:spPr>
          <a:xfrm flipH="1">
            <a:off x="7019640" y="2784600"/>
            <a:ext cx="5331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9"/>
          <p:cNvSpPr/>
          <p:nvPr/>
        </p:nvSpPr>
        <p:spPr>
          <a:xfrm>
            <a:off x="7551720" y="2787480"/>
            <a:ext cx="747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60"/>
          <p:cNvSpPr/>
          <p:nvPr/>
        </p:nvSpPr>
        <p:spPr>
          <a:xfrm flipH="1">
            <a:off x="7108920" y="2486160"/>
            <a:ext cx="444240" cy="45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1"/>
          <p:cNvSpPr/>
          <p:nvPr/>
        </p:nvSpPr>
        <p:spPr>
          <a:xfrm>
            <a:off x="7553160" y="2486160"/>
            <a:ext cx="746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2"/>
          <p:cNvSpPr/>
          <p:nvPr/>
        </p:nvSpPr>
        <p:spPr>
          <a:xfrm flipH="1">
            <a:off x="7391520" y="2187720"/>
            <a:ext cx="257040" cy="164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4"/>
          <p:cNvSpPr/>
          <p:nvPr/>
        </p:nvSpPr>
        <p:spPr>
          <a:xfrm>
            <a:off x="7639200" y="2187720"/>
            <a:ext cx="660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5"/>
          <p:cNvSpPr/>
          <p:nvPr/>
        </p:nvSpPr>
        <p:spPr>
          <a:xfrm>
            <a:off x="8261280" y="2044800"/>
            <a:ext cx="77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i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6"/>
          <p:cNvSpPr/>
          <p:nvPr/>
        </p:nvSpPr>
        <p:spPr>
          <a:xfrm>
            <a:off x="8271000" y="2330280"/>
            <a:ext cx="76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7"/>
          <p:cNvSpPr/>
          <p:nvPr/>
        </p:nvSpPr>
        <p:spPr>
          <a:xfrm>
            <a:off x="8261280" y="2631960"/>
            <a:ext cx="77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lla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6" descr="tunnel02"/>
          <p:cNvPicPr/>
          <p:nvPr/>
        </p:nvPicPr>
        <p:blipFill>
          <a:blip r:embed="rId11"/>
          <a:stretch/>
        </p:blipFill>
        <p:spPr>
          <a:xfrm>
            <a:off x="3649680" y="1684440"/>
            <a:ext cx="2070000" cy="13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4932360" y="1049400"/>
            <a:ext cx="3803760" cy="53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entagon 1"/>
          <p:cNvSpPr/>
          <p:nvPr/>
        </p:nvSpPr>
        <p:spPr>
          <a:xfrm>
            <a:off x="376200" y="1049400"/>
            <a:ext cx="4863960" cy="5367240"/>
          </a:xfrm>
          <a:custGeom>
            <a:avLst/>
            <a:gdLst>
              <a:gd name="textAreaLeft" fmla="*/ 0 w 4863960"/>
              <a:gd name="textAreaRight" fmla="*/ 4864320 w 4863960"/>
              <a:gd name="textAreaTop" fmla="*/ 0 h 5367240"/>
              <a:gd name="textAreaBottom" fmla="*/ 5367600 h 53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64" y="0"/>
                </a:lnTo>
                <a:lnTo>
                  <a:pt x="21600" y="10800"/>
                </a:lnTo>
                <a:lnTo>
                  <a:pt x="172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8FA4-D858-4B5D-8BB1-FFCA5CA6E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285840" y="274680"/>
            <a:ext cx="8589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uring 2005 - 2009, the agencies invested an average of $520 million per year through programs tailored to deliver safe and reliable tr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1"/>
          <p:cNvGraphicFramePr/>
          <p:nvPr/>
        </p:nvGraphicFramePr>
        <p:xfrm>
          <a:off x="6002280" y="2085840"/>
          <a:ext cx="1381320" cy="18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2280" y="2085840"/>
                    <a:ext cx="138132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Rectangle 23"/>
          <p:cNvSpPr/>
          <p:nvPr/>
        </p:nvSpPr>
        <p:spPr>
          <a:xfrm>
            <a:off x="5587920" y="3470400"/>
            <a:ext cx="474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4"/>
          <p:cNvSpPr/>
          <p:nvPr/>
        </p:nvSpPr>
        <p:spPr>
          <a:xfrm>
            <a:off x="6380280" y="3470400"/>
            <a:ext cx="307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5657760" y="291312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6"/>
          <p:cNvSpPr/>
          <p:nvPr/>
        </p:nvSpPr>
        <p:spPr>
          <a:xfrm>
            <a:off x="6561000" y="2913120"/>
            <a:ext cx="3081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0"/>
          <p:cNvSpPr/>
          <p:nvPr/>
        </p:nvSpPr>
        <p:spPr>
          <a:xfrm>
            <a:off x="5578560" y="235584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6694560" y="2355840"/>
            <a:ext cx="307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5756400" y="1300320"/>
            <a:ext cx="257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% train delays due to track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5456160" y="178740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71520" y="6129360"/>
            <a:ext cx="8504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MNR figures based upon East of Hudson network (92% of track-mile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Isosceles Triangle 25"/>
          <p:cNvSpPr/>
          <p:nvPr/>
        </p:nvSpPr>
        <p:spPr>
          <a:xfrm rot="10800000">
            <a:off x="6221160" y="4285800"/>
            <a:ext cx="153180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430200" y="1155600"/>
            <a:ext cx="563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annual track investment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849240" y="1508040"/>
            <a:ext cx="564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 mill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6"/>
          <p:cNvSpPr/>
          <p:nvPr/>
        </p:nvSpPr>
        <p:spPr>
          <a:xfrm>
            <a:off x="549360" y="1782720"/>
            <a:ext cx="3682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4"/>
          <p:cNvGraphicFramePr/>
          <p:nvPr/>
        </p:nvGraphicFramePr>
        <p:xfrm>
          <a:off x="1104840" y="1889280"/>
          <a:ext cx="2857680" cy="188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04840" y="1889280"/>
                    <a:ext cx="285768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19"/>
          <p:cNvSpPr/>
          <p:nvPr/>
        </p:nvSpPr>
        <p:spPr>
          <a:xfrm>
            <a:off x="2130480" y="271620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8"/>
          <p:cNvSpPr/>
          <p:nvPr/>
        </p:nvSpPr>
        <p:spPr>
          <a:xfrm>
            <a:off x="1728720" y="2716200"/>
            <a:ext cx="247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681120" y="215892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3882960" y="2158920"/>
            <a:ext cx="346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7"/>
          <p:cNvSpPr/>
          <p:nvPr/>
        </p:nvSpPr>
        <p:spPr>
          <a:xfrm>
            <a:off x="2860560" y="2158920"/>
            <a:ext cx="346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1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760320" y="32734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0"/>
          <p:cNvSpPr/>
          <p:nvPr/>
        </p:nvSpPr>
        <p:spPr>
          <a:xfrm>
            <a:off x="1882800" y="3273480"/>
            <a:ext cx="247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600200" y="3273480"/>
            <a:ext cx="247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60320" y="271620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2776680" y="2992320"/>
            <a:ext cx="250560" cy="187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2776680" y="3255840"/>
            <a:ext cx="250560" cy="187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3078000" y="2987640"/>
            <a:ext cx="777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"/>
          <p:cNvSpPr/>
          <p:nvPr/>
        </p:nvSpPr>
        <p:spPr>
          <a:xfrm>
            <a:off x="3078000" y="3251160"/>
            <a:ext cx="552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1"/>
          <p:cNvSpPr/>
          <p:nvPr/>
        </p:nvSpPr>
        <p:spPr>
          <a:xfrm>
            <a:off x="892080" y="3905280"/>
            <a:ext cx="335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 thousand / mainline track mi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61"/>
          <p:cNvGraphicFramePr/>
          <p:nvPr/>
        </p:nvGraphicFramePr>
        <p:xfrm>
          <a:off x="1117440" y="4348080"/>
          <a:ext cx="2847960" cy="18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9" name="Object 6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7440" y="4348080"/>
                    <a:ext cx="284796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Straight Connector 1"/>
          <p:cNvSpPr/>
          <p:nvPr/>
        </p:nvSpPr>
        <p:spPr>
          <a:xfrm flipV="1">
            <a:off x="1684440" y="5956200"/>
            <a:ext cx="0" cy="61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1"/>
          <p:cNvSpPr/>
          <p:nvPr/>
        </p:nvSpPr>
        <p:spPr>
          <a:xfrm>
            <a:off x="693720" y="5732640"/>
            <a:ext cx="40500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8"/>
          <p:cNvSpPr/>
          <p:nvPr/>
        </p:nvSpPr>
        <p:spPr>
          <a:xfrm>
            <a:off x="1828800" y="5732640"/>
            <a:ext cx="34596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3"/>
          <p:cNvSpPr/>
          <p:nvPr/>
        </p:nvSpPr>
        <p:spPr>
          <a:xfrm>
            <a:off x="693720" y="517536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2"/>
          <p:cNvSpPr/>
          <p:nvPr/>
        </p:nvSpPr>
        <p:spPr>
          <a:xfrm>
            <a:off x="2343240" y="517536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1219320" y="5732640"/>
            <a:ext cx="406440" cy="212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5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481040" y="601812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5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1281240" y="517536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9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1800360" y="517536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7"/>
          <p:cNvSpPr/>
          <p:nvPr/>
        </p:nvSpPr>
        <p:spPr>
          <a:xfrm>
            <a:off x="614520" y="461808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6"/>
          <p:cNvSpPr/>
          <p:nvPr/>
        </p:nvSpPr>
        <p:spPr>
          <a:xfrm>
            <a:off x="3886200" y="461808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1547640" y="461808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"/>
          <p:cNvSpPr/>
          <p:nvPr/>
        </p:nvSpPr>
        <p:spPr>
          <a:xfrm>
            <a:off x="2838600" y="4618080"/>
            <a:ext cx="4060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4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40"/>
          <p:cNvSpPr/>
          <p:nvPr/>
        </p:nvSpPr>
        <p:spPr>
          <a:xfrm>
            <a:off x="544680" y="4181400"/>
            <a:ext cx="368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56"/>
          <p:cNvSpPr/>
          <p:nvPr/>
        </p:nvSpPr>
        <p:spPr>
          <a:xfrm>
            <a:off x="6202440" y="485136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7"/>
          <p:cNvSpPr/>
          <p:nvPr/>
        </p:nvSpPr>
        <p:spPr>
          <a:xfrm>
            <a:off x="6299280" y="500364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al delays due to trac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Rectangle 2"/>
          <p:cNvGraphicFramePr/>
          <p:nvPr/>
        </p:nvGraphicFramePr>
        <p:xfrm>
          <a:off x="-114480" y="-63360"/>
          <a:ext cx="387360" cy="28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Rectangle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14480" y="-63360"/>
                    <a:ext cx="387360" cy="28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6" descr=""/>
          <p:cNvPicPr/>
          <p:nvPr/>
        </p:nvPicPr>
        <p:blipFill>
          <a:blip r:embed="rId4"/>
          <a:stretch/>
        </p:blipFill>
        <p:spPr>
          <a:xfrm>
            <a:off x="3255840" y="1087560"/>
            <a:ext cx="2014560" cy="1469880"/>
          </a:xfrm>
          <a:prstGeom prst="rect">
            <a:avLst/>
          </a:prstGeom>
          <a:ln w="0">
            <a:noFill/>
          </a:ln>
        </p:spPr>
      </p:pic>
      <p:sp>
        <p:nvSpPr>
          <p:cNvPr id="202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38DA-3301-46D1-BB0A-0B23A0A1A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285840" y="274680"/>
            <a:ext cx="80262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ariations in agency track spending are attributable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ing methods, constraints and asset nee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entagon 15"/>
          <p:cNvSpPr/>
          <p:nvPr/>
        </p:nvSpPr>
        <p:spPr>
          <a:xfrm>
            <a:off x="493560" y="1141560"/>
            <a:ext cx="1392480" cy="1341360"/>
          </a:xfrm>
          <a:custGeom>
            <a:avLst/>
            <a:gdLst>
              <a:gd name="textAreaLeft" fmla="*/ 0 w 1392480"/>
              <a:gd name="textAreaRight" fmla="*/ 1392840 w 1392480"/>
              <a:gd name="textAreaTop" fmla="*/ 0 h 1341360"/>
              <a:gd name="textAreaBottom" fmla="*/ 1341720 h 134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07" y="0"/>
                </a:lnTo>
                <a:lnTo>
                  <a:pt x="21600" y="10800"/>
                </a:lnTo>
                <a:lnTo>
                  <a:pt x="178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65200" tIns="351000" bIns="352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renewal meth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2152800" y="2857680"/>
            <a:ext cx="6680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ccess: hours of operation, OTP, location, special events, other projec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 rules: scheduling flexibility, overtime, job title restric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t life: track geometry, utilization, environment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entagon 15"/>
          <p:cNvSpPr/>
          <p:nvPr/>
        </p:nvSpPr>
        <p:spPr>
          <a:xfrm>
            <a:off x="493560" y="2901960"/>
            <a:ext cx="1392480" cy="846000"/>
          </a:xfrm>
          <a:custGeom>
            <a:avLst/>
            <a:gdLst>
              <a:gd name="textAreaLeft" fmla="*/ 0 w 1392480"/>
              <a:gd name="textAreaRight" fmla="*/ 1392840 w 1392480"/>
              <a:gd name="textAreaTop" fmla="*/ 0 h 846000"/>
              <a:gd name="textAreaBottom" fmla="*/ 846360 h 84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11" y="0"/>
                </a:lnTo>
                <a:lnTo>
                  <a:pt x="21600" y="10800"/>
                </a:lnTo>
                <a:lnTo>
                  <a:pt x="192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334800" tIns="316080" bIns="317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4" descr="MNR Tie Installation"/>
          <p:cNvPicPr/>
          <p:nvPr/>
        </p:nvPicPr>
        <p:blipFill>
          <a:blip r:embed="rId5"/>
          <a:stretch/>
        </p:blipFill>
        <p:spPr>
          <a:xfrm>
            <a:off x="6684840" y="1101600"/>
            <a:ext cx="1957680" cy="14684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"/>
          <p:cNvSpPr/>
          <p:nvPr/>
        </p:nvSpPr>
        <p:spPr>
          <a:xfrm>
            <a:off x="2354400" y="1087560"/>
            <a:ext cx="887400" cy="14698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374920" y="1108080"/>
            <a:ext cx="9176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 track renew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0"/>
          <p:cNvSpPr/>
          <p:nvPr/>
        </p:nvSpPr>
        <p:spPr>
          <a:xfrm>
            <a:off x="5796000" y="1090440"/>
            <a:ext cx="887400" cy="147024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5807160" y="1101600"/>
            <a:ext cx="91764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/ MNR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-ent track renew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2554200" y="4032360"/>
            <a:ext cx="125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il, thousand f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6"/>
          <p:cNvSpPr/>
          <p:nvPr/>
        </p:nvSpPr>
        <p:spPr>
          <a:xfrm>
            <a:off x="2184480" y="4505400"/>
            <a:ext cx="480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Object 11"/>
          <p:cNvGraphicFramePr/>
          <p:nvPr/>
        </p:nvGraphicFramePr>
        <p:xfrm>
          <a:off x="2733840" y="4648320"/>
          <a:ext cx="1380960" cy="1885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5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33840" y="4648320"/>
                    <a:ext cx="138096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12"/>
          <p:cNvSpPr/>
          <p:nvPr/>
        </p:nvSpPr>
        <p:spPr>
          <a:xfrm>
            <a:off x="2389320" y="6032520"/>
            <a:ext cx="404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216240" y="603252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6"/>
          <p:cNvSpPr/>
          <p:nvPr/>
        </p:nvSpPr>
        <p:spPr>
          <a:xfrm>
            <a:off x="2389320" y="5475240"/>
            <a:ext cx="404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2987640" y="547524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2309760" y="491796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"/>
          <p:cNvSpPr/>
          <p:nvPr/>
        </p:nvSpPr>
        <p:spPr>
          <a:xfrm>
            <a:off x="3359160" y="491796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868560" y="4032360"/>
            <a:ext cx="135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es, thousan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4950000" y="4032360"/>
            <a:ext cx="99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es, eac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Object 11"/>
          <p:cNvGraphicFramePr/>
          <p:nvPr/>
        </p:nvGraphicFramePr>
        <p:xfrm>
          <a:off x="4894200" y="4648320"/>
          <a:ext cx="1381320" cy="1885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5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894200" y="4648320"/>
                    <a:ext cx="138132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Rectangle 37"/>
          <p:cNvSpPr/>
          <p:nvPr/>
        </p:nvSpPr>
        <p:spPr>
          <a:xfrm>
            <a:off x="5519880" y="603252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8"/>
          <p:cNvSpPr/>
          <p:nvPr/>
        </p:nvSpPr>
        <p:spPr>
          <a:xfrm>
            <a:off x="5214960" y="5475240"/>
            <a:ext cx="247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9"/>
          <p:cNvSpPr/>
          <p:nvPr/>
        </p:nvSpPr>
        <p:spPr>
          <a:xfrm>
            <a:off x="5415120" y="491796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5911920" y="4022640"/>
            <a:ext cx="116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de xings, eac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11"/>
          <p:cNvGraphicFramePr/>
          <p:nvPr/>
        </p:nvGraphicFramePr>
        <p:xfrm>
          <a:off x="5915160" y="4648320"/>
          <a:ext cx="1380960" cy="1885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1" name="Object 1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915160" y="4648320"/>
                    <a:ext cx="138096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Rectangle 43"/>
          <p:cNvSpPr/>
          <p:nvPr/>
        </p:nvSpPr>
        <p:spPr>
          <a:xfrm>
            <a:off x="6540480" y="547524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entagon 15"/>
          <p:cNvSpPr/>
          <p:nvPr/>
        </p:nvSpPr>
        <p:spPr>
          <a:xfrm>
            <a:off x="493560" y="4172040"/>
            <a:ext cx="1392480" cy="2257200"/>
          </a:xfrm>
          <a:custGeom>
            <a:avLst/>
            <a:gdLst>
              <a:gd name="textAreaLeft" fmla="*/ 0 w 1392480"/>
              <a:gd name="textAreaRight" fmla="*/ 1392840 w 1392480"/>
              <a:gd name="textAreaTop" fmla="*/ 0 h 2257200"/>
              <a:gd name="textAreaBottom" fmla="*/ 2257560 h 22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80" y="0"/>
                </a:lnTo>
                <a:lnTo>
                  <a:pt x="21600" y="10800"/>
                </a:lnTo>
                <a:lnTo>
                  <a:pt x="1628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192240" tIns="306360" bIns="307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ts renewed by capital program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6"/>
          <p:cNvSpPr/>
          <p:nvPr/>
        </p:nvSpPr>
        <p:spPr>
          <a:xfrm>
            <a:off x="6994440" y="4689360"/>
            <a:ext cx="1944720" cy="15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b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il fasten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il joi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surfac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7170840" y="4246560"/>
            <a:ext cx="16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renew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6"/>
          <p:cNvSpPr/>
          <p:nvPr/>
        </p:nvSpPr>
        <p:spPr>
          <a:xfrm>
            <a:off x="7156440" y="4503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Object 1"/>
          <p:cNvGraphicFramePr/>
          <p:nvPr/>
        </p:nvGraphicFramePr>
        <p:xfrm>
          <a:off x="3830760" y="4648320"/>
          <a:ext cx="1380960" cy="1885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38" name="Object 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830760" y="4648320"/>
                    <a:ext cx="138096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Rectangle 6"/>
          <p:cNvSpPr/>
          <p:nvPr/>
        </p:nvSpPr>
        <p:spPr>
          <a:xfrm>
            <a:off x="4475160" y="603252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4332240" y="547524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1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4227480" y="491796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57C2-F6B4-4A5D-A409-AFECFFD95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285840" y="274680"/>
            <a:ext cx="83930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gardless of differences, labor expense is the largest opportunity for reducing track program co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1368360" y="1204920"/>
            <a:ext cx="666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uction / maintenance labor as % of track program expense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Object 1"/>
          <p:cNvGraphicFramePr/>
          <p:nvPr/>
        </p:nvGraphicFramePr>
        <p:xfrm>
          <a:off x="1554120" y="1635120"/>
          <a:ext cx="4743360" cy="27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4120" y="1635120"/>
                    <a:ext cx="474336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4"/>
          <p:cNvSpPr/>
          <p:nvPr/>
        </p:nvSpPr>
        <p:spPr>
          <a:xfrm>
            <a:off x="1209600" y="378144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1209600" y="291924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1130400" y="205740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6786720" y="2055960"/>
            <a:ext cx="250560" cy="18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6786720" y="1792440"/>
            <a:ext cx="250560" cy="187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7088040" y="2050920"/>
            <a:ext cx="777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7088040" y="1787400"/>
            <a:ext cx="552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8"/>
          <p:cNvSpPr/>
          <p:nvPr/>
        </p:nvSpPr>
        <p:spPr>
          <a:xfrm>
            <a:off x="977760" y="1468440"/>
            <a:ext cx="716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6"/>
          <p:cNvSpPr/>
          <p:nvPr/>
        </p:nvSpPr>
        <p:spPr>
          <a:xfrm>
            <a:off x="3470400" y="5253120"/>
            <a:ext cx="2260440" cy="10587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6"/>
          <p:cNvSpPr/>
          <p:nvPr/>
        </p:nvSpPr>
        <p:spPr>
          <a:xfrm>
            <a:off x="3598920" y="5557680"/>
            <a:ext cx="207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rove labor efficiency and reduce overti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Isosceles Triangle 1"/>
          <p:cNvSpPr/>
          <p:nvPr/>
        </p:nvSpPr>
        <p:spPr>
          <a:xfrm rot="10800000">
            <a:off x="3263400" y="4752720"/>
            <a:ext cx="273852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53"/>
          <p:cNvSpPr/>
          <p:nvPr/>
        </p:nvSpPr>
        <p:spPr>
          <a:xfrm>
            <a:off x="7311960" y="538488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50"/>
          <p:cNvSpPr/>
          <p:nvPr/>
        </p:nvSpPr>
        <p:spPr>
          <a:xfrm>
            <a:off x="7302600" y="353052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"/>
          <p:cNvSpPr/>
          <p:nvPr/>
        </p:nvSpPr>
        <p:spPr>
          <a:xfrm>
            <a:off x="7305840" y="1738440"/>
            <a:ext cx="1569960" cy="80460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Isosceles Triangle 56"/>
          <p:cNvSpPr/>
          <p:nvPr/>
        </p:nvSpPr>
        <p:spPr>
          <a:xfrm rot="5400000">
            <a:off x="6406920" y="5719680"/>
            <a:ext cx="84132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E6F0-4D3B-4307-A392-1C2D6F030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28584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ous indicators highlight opportunities for improving track program labor effici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2401920" y="1033560"/>
            <a:ext cx="371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ypical NYCT nighttime track access, hou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6"/>
          <p:cNvSpPr/>
          <p:nvPr/>
        </p:nvSpPr>
        <p:spPr>
          <a:xfrm>
            <a:off x="2208240" y="1308240"/>
            <a:ext cx="425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Object 11"/>
          <p:cNvGraphicFramePr/>
          <p:nvPr/>
        </p:nvGraphicFramePr>
        <p:xfrm>
          <a:off x="3541680" y="1514520"/>
          <a:ext cx="2200320" cy="13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1680" y="1514520"/>
                    <a:ext cx="220032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Straight Connector 10"/>
          <p:cNvSpPr/>
          <p:nvPr/>
        </p:nvSpPr>
        <p:spPr>
          <a:xfrm flipH="1">
            <a:off x="5011200" y="2448000"/>
            <a:ext cx="814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8"/>
          <p:cNvSpPr/>
          <p:nvPr/>
        </p:nvSpPr>
        <p:spPr>
          <a:xfrm>
            <a:off x="5668920" y="1890720"/>
            <a:ext cx="15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9"/>
          <p:cNvSpPr/>
          <p:nvPr/>
        </p:nvSpPr>
        <p:spPr>
          <a:xfrm>
            <a:off x="5826240" y="1890720"/>
            <a:ext cx="0" cy="55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22"/>
          <p:cNvSpPr/>
          <p:nvPr/>
        </p:nvSpPr>
        <p:spPr>
          <a:xfrm>
            <a:off x="5532480" y="2031840"/>
            <a:ext cx="587160" cy="273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38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3"/>
          <p:cNvSpPr/>
          <p:nvPr/>
        </p:nvSpPr>
        <p:spPr>
          <a:xfrm>
            <a:off x="2714760" y="1784520"/>
            <a:ext cx="88740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ift lengt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2546280" y="2341440"/>
            <a:ext cx="10558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ork windo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371520" y="5964120"/>
            <a:ext cx="8504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mtrak’s Infrastructure Maintenance Program Evaluation Report, Amtrak Office of Inspector General, Sep 200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2374920" y="2841480"/>
            <a:ext cx="49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workers per track mi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2208240" y="3127320"/>
            <a:ext cx="425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Object 11"/>
          <p:cNvGraphicFramePr/>
          <p:nvPr/>
        </p:nvGraphicFramePr>
        <p:xfrm>
          <a:off x="3541680" y="3333600"/>
          <a:ext cx="2343240" cy="13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41680" y="3333600"/>
                    <a:ext cx="234324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Straight Connector 4"/>
          <p:cNvSpPr/>
          <p:nvPr/>
        </p:nvSpPr>
        <p:spPr>
          <a:xfrm flipH="1">
            <a:off x="5378040" y="4267080"/>
            <a:ext cx="523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3"/>
          <p:cNvSpPr/>
          <p:nvPr/>
        </p:nvSpPr>
        <p:spPr>
          <a:xfrm>
            <a:off x="5902200" y="3710160"/>
            <a:ext cx="0" cy="55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traight Connector 2"/>
          <p:cNvSpPr/>
          <p:nvPr/>
        </p:nvSpPr>
        <p:spPr>
          <a:xfrm>
            <a:off x="5826240" y="371016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0"/>
          <p:cNvSpPr/>
          <p:nvPr/>
        </p:nvSpPr>
        <p:spPr>
          <a:xfrm>
            <a:off x="3197160" y="360360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34"/>
          <p:cNvSpPr/>
          <p:nvPr/>
        </p:nvSpPr>
        <p:spPr>
          <a:xfrm>
            <a:off x="5608800" y="3851280"/>
            <a:ext cx="587160" cy="27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26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6"/>
          <p:cNvSpPr/>
          <p:nvPr/>
        </p:nvSpPr>
        <p:spPr>
          <a:xfrm>
            <a:off x="3197160" y="41608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entagon 15"/>
          <p:cNvSpPr/>
          <p:nvPr/>
        </p:nvSpPr>
        <p:spPr>
          <a:xfrm>
            <a:off x="476280" y="1684440"/>
            <a:ext cx="1413000" cy="84600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46000"/>
              <a:gd name="textAreaBottom" fmla="*/ 846360 h 84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6" y="0"/>
                </a:lnTo>
                <a:lnTo>
                  <a:pt x="21600" y="10800"/>
                </a:lnTo>
                <a:lnTo>
                  <a:pt x="192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82480" tIns="209520" bIns="21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 examp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entagon 15"/>
          <p:cNvSpPr/>
          <p:nvPr/>
        </p:nvSpPr>
        <p:spPr>
          <a:xfrm>
            <a:off x="476280" y="3503520"/>
            <a:ext cx="1413000" cy="84636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46360"/>
              <a:gd name="textAreaBottom" fmla="*/ 846720 h 84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6" y="0"/>
                </a:lnTo>
                <a:lnTo>
                  <a:pt x="21600" y="10800"/>
                </a:lnTo>
                <a:lnTo>
                  <a:pt x="192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82480" tIns="209520" bIns="21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  examp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2397240" y="4670280"/>
            <a:ext cx="48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switch renewal interval, yea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6"/>
          <p:cNvSpPr/>
          <p:nvPr/>
        </p:nvSpPr>
        <p:spPr>
          <a:xfrm>
            <a:off x="2208240" y="4944960"/>
            <a:ext cx="425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Object 11"/>
          <p:cNvGraphicFramePr/>
          <p:nvPr/>
        </p:nvGraphicFramePr>
        <p:xfrm>
          <a:off x="3541680" y="5151600"/>
          <a:ext cx="2295720" cy="132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2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41680" y="5151600"/>
                    <a:ext cx="229572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Straight Connector 19"/>
          <p:cNvSpPr/>
          <p:nvPr/>
        </p:nvSpPr>
        <p:spPr>
          <a:xfrm>
            <a:off x="5843520" y="5527800"/>
            <a:ext cx="0" cy="55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traight Connector 20"/>
          <p:cNvSpPr/>
          <p:nvPr/>
        </p:nvSpPr>
        <p:spPr>
          <a:xfrm flipH="1">
            <a:off x="5386320" y="6084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traight Connector 18"/>
          <p:cNvSpPr/>
          <p:nvPr/>
        </p:nvSpPr>
        <p:spPr>
          <a:xfrm>
            <a:off x="5767560" y="55278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2065320" y="5421240"/>
            <a:ext cx="1536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rnational peer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7"/>
          <p:cNvSpPr/>
          <p:nvPr/>
        </p:nvSpPr>
        <p:spPr>
          <a:xfrm>
            <a:off x="5549760" y="5668920"/>
            <a:ext cx="587520" cy="273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22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5"/>
          <p:cNvSpPr/>
          <p:nvPr/>
        </p:nvSpPr>
        <p:spPr>
          <a:xfrm>
            <a:off x="3197160" y="597852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entagon 15"/>
          <p:cNvSpPr/>
          <p:nvPr/>
        </p:nvSpPr>
        <p:spPr>
          <a:xfrm>
            <a:off x="476280" y="5321160"/>
            <a:ext cx="1413000" cy="84636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46360"/>
              <a:gd name="textAreaBottom" fmla="*/ 846720 h 84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6" y="0"/>
                </a:lnTo>
                <a:lnTo>
                  <a:pt x="21600" y="10800"/>
                </a:lnTo>
                <a:lnTo>
                  <a:pt x="192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82480" tIns="209520" bIns="21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  examp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Isosceles Triangle 1"/>
          <p:cNvSpPr/>
          <p:nvPr/>
        </p:nvSpPr>
        <p:spPr>
          <a:xfrm rot="5400000">
            <a:off x="6402240" y="2072880"/>
            <a:ext cx="841320" cy="1908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Isosceles Triangle 55"/>
          <p:cNvSpPr/>
          <p:nvPr/>
        </p:nvSpPr>
        <p:spPr>
          <a:xfrm rot="5400000">
            <a:off x="6399000" y="3857760"/>
            <a:ext cx="84132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7"/>
          <p:cNvSpPr/>
          <p:nvPr/>
        </p:nvSpPr>
        <p:spPr>
          <a:xfrm>
            <a:off x="7402680" y="189072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and track acc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58"/>
          <p:cNvSpPr/>
          <p:nvPr/>
        </p:nvSpPr>
        <p:spPr>
          <a:xfrm>
            <a:off x="7373880" y="364968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aluate staffing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61"/>
          <p:cNvSpPr/>
          <p:nvPr/>
        </p:nvSpPr>
        <p:spPr>
          <a:xfrm>
            <a:off x="7380360" y="555948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ize asset renew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6"/>
          <p:cNvSpPr/>
          <p:nvPr/>
        </p:nvSpPr>
        <p:spPr>
          <a:xfrm>
            <a:off x="7172280" y="131292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7270920" y="1028880"/>
            <a:ext cx="14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4572000" y="1020600"/>
            <a:ext cx="4203720" cy="53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842F-7760-4821-BE08-91A3FB57B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285840" y="274680"/>
            <a:ext cx="8489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ducing overtime will also help to minimize track program labor expense, particularly in the capital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entagon 1"/>
          <p:cNvSpPr/>
          <p:nvPr/>
        </p:nvSpPr>
        <p:spPr>
          <a:xfrm>
            <a:off x="371520" y="1020600"/>
            <a:ext cx="4556160" cy="5396040"/>
          </a:xfrm>
          <a:custGeom>
            <a:avLst/>
            <a:gdLst>
              <a:gd name="textAreaLeft" fmla="*/ 0 w 4556160"/>
              <a:gd name="textAreaRight" fmla="*/ 4556520 w 4556160"/>
              <a:gd name="textAreaTop" fmla="*/ 0 h 5396040"/>
              <a:gd name="textAreaBottom" fmla="*/ 5396400 h 539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1" y="0"/>
                </a:lnTo>
                <a:lnTo>
                  <a:pt x="21600" y="10800"/>
                </a:lnTo>
                <a:lnTo>
                  <a:pt x="169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573120" y="1233360"/>
            <a:ext cx="312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ertime as % of track program labor expense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traight Connector 8"/>
          <p:cNvSpPr/>
          <p:nvPr/>
        </p:nvSpPr>
        <p:spPr>
          <a:xfrm>
            <a:off x="573120" y="1730520"/>
            <a:ext cx="335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46"/>
          <p:cNvSpPr/>
          <p:nvPr/>
        </p:nvSpPr>
        <p:spPr>
          <a:xfrm>
            <a:off x="754200" y="5065560"/>
            <a:ext cx="2260440" cy="105912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Isosceles Triangle 25"/>
          <p:cNvSpPr/>
          <p:nvPr/>
        </p:nvSpPr>
        <p:spPr>
          <a:xfrm rot="10800000">
            <a:off x="1117440" y="4578120"/>
            <a:ext cx="15321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6"/>
          <p:cNvSpPr/>
          <p:nvPr/>
        </p:nvSpPr>
        <p:spPr>
          <a:xfrm>
            <a:off x="870120" y="5327640"/>
            <a:ext cx="207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nsive track program overti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4967280" y="2087640"/>
            <a:ext cx="35085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edule more work on weekdays (facilitated by expanded track acces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llocate staff to shorten shifts     (16 hour weekend shifts are typica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oid early start times in instances that will trigger full-day overtime p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ssess work rules that provide overtime for routinely scheduled weekend workdays (only NYCT has first 8 hours of Saturday and Sunday on straight tim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Object 1"/>
          <p:cNvGraphicFramePr/>
          <p:nvPr/>
        </p:nvGraphicFramePr>
        <p:xfrm>
          <a:off x="1109520" y="1974960"/>
          <a:ext cx="1638360" cy="22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1974960"/>
                    <a:ext cx="163836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Rectangle 4"/>
          <p:cNvSpPr/>
          <p:nvPr/>
        </p:nvSpPr>
        <p:spPr>
          <a:xfrm>
            <a:off x="765000" y="365436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1782720" y="377820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2668680" y="353520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765000" y="29782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878120" y="310212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2363760" y="285912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685800" y="230184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"/>
          <p:cNvSpPr/>
          <p:nvPr/>
        </p:nvSpPr>
        <p:spPr>
          <a:xfrm>
            <a:off x="1477800" y="2425680"/>
            <a:ext cx="3081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"/>
          <p:cNvSpPr/>
          <p:nvPr/>
        </p:nvSpPr>
        <p:spPr>
          <a:xfrm>
            <a:off x="2058840" y="218268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962440" y="2131920"/>
            <a:ext cx="250560" cy="187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8"/>
          <p:cNvSpPr/>
          <p:nvPr/>
        </p:nvSpPr>
        <p:spPr>
          <a:xfrm>
            <a:off x="2962440" y="2395440"/>
            <a:ext cx="250560" cy="187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263760" y="2390760"/>
            <a:ext cx="777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3263760" y="2127240"/>
            <a:ext cx="552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5060880" y="1454040"/>
            <a:ext cx="312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8"/>
          <p:cNvSpPr/>
          <p:nvPr/>
        </p:nvSpPr>
        <p:spPr>
          <a:xfrm>
            <a:off x="5060880" y="1731960"/>
            <a:ext cx="342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9"/>
          <p:cNvSpPr/>
          <p:nvPr/>
        </p:nvSpPr>
        <p:spPr>
          <a:xfrm>
            <a:off x="4572000" y="1020600"/>
            <a:ext cx="4203720" cy="53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5F54-0F66-40FF-A5E8-9C04F3373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285840" y="274680"/>
            <a:ext cx="81900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bstitute service represents a further significant opportunity for reducing track capital program cost at NY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entagon 1"/>
          <p:cNvSpPr/>
          <p:nvPr/>
        </p:nvSpPr>
        <p:spPr>
          <a:xfrm>
            <a:off x="371520" y="1020600"/>
            <a:ext cx="4556160" cy="5396040"/>
          </a:xfrm>
          <a:custGeom>
            <a:avLst/>
            <a:gdLst>
              <a:gd name="textAreaLeft" fmla="*/ 0 w 4556160"/>
              <a:gd name="textAreaRight" fmla="*/ 4556520 w 4556160"/>
              <a:gd name="textAreaTop" fmla="*/ 0 h 5396040"/>
              <a:gd name="textAreaBottom" fmla="*/ 5396400 h 539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1" y="0"/>
                </a:lnTo>
                <a:lnTo>
                  <a:pt x="21600" y="10800"/>
                </a:lnTo>
                <a:lnTo>
                  <a:pt x="169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573120" y="1233360"/>
            <a:ext cx="3341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stitute service as % of typical NYCT renewal project expen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8"/>
          <p:cNvSpPr/>
          <p:nvPr/>
        </p:nvSpPr>
        <p:spPr>
          <a:xfrm>
            <a:off x="573120" y="1730520"/>
            <a:ext cx="335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6"/>
          <p:cNvSpPr/>
          <p:nvPr/>
        </p:nvSpPr>
        <p:spPr>
          <a:xfrm>
            <a:off x="4967280" y="2157480"/>
            <a:ext cx="35085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ize duration of substitute service (use efficiency gains to speed project completion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minate replacement bus service in areas with numerous alternatives (e.g., Manhattan CBD, Downtown Brooklyn, Long Island Cit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ize overtime incurred by staff supporting divers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Object 1"/>
          <p:cNvGraphicFramePr/>
          <p:nvPr/>
        </p:nvGraphicFramePr>
        <p:xfrm>
          <a:off x="1109520" y="1836720"/>
          <a:ext cx="1638360" cy="18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1836720"/>
                    <a:ext cx="163836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Straight Connector 12"/>
          <p:cNvSpPr/>
          <p:nvPr/>
        </p:nvSpPr>
        <p:spPr>
          <a:xfrm flipH="1">
            <a:off x="3112560" y="3336840"/>
            <a:ext cx="476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8"/>
          <p:cNvSpPr/>
          <p:nvPr/>
        </p:nvSpPr>
        <p:spPr>
          <a:xfrm>
            <a:off x="3027240" y="21985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traight Connector 7"/>
          <p:cNvSpPr/>
          <p:nvPr/>
        </p:nvSpPr>
        <p:spPr>
          <a:xfrm>
            <a:off x="2274840" y="2198520"/>
            <a:ext cx="75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1"/>
          <p:cNvSpPr/>
          <p:nvPr/>
        </p:nvSpPr>
        <p:spPr>
          <a:xfrm>
            <a:off x="3589200" y="303696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10"/>
          <p:cNvSpPr/>
          <p:nvPr/>
        </p:nvSpPr>
        <p:spPr>
          <a:xfrm>
            <a:off x="2455920" y="3036960"/>
            <a:ext cx="113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9"/>
          <p:cNvSpPr/>
          <p:nvPr/>
        </p:nvSpPr>
        <p:spPr>
          <a:xfrm flipH="1">
            <a:off x="2550600" y="2498760"/>
            <a:ext cx="476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9"/>
          <p:cNvSpPr/>
          <p:nvPr/>
        </p:nvSpPr>
        <p:spPr>
          <a:xfrm>
            <a:off x="2106720" y="239220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8"/>
          <p:cNvSpPr/>
          <p:nvPr/>
        </p:nvSpPr>
        <p:spPr>
          <a:xfrm>
            <a:off x="1830240" y="209232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9"/>
          <p:cNvSpPr/>
          <p:nvPr/>
        </p:nvSpPr>
        <p:spPr>
          <a:xfrm>
            <a:off x="2703600" y="2211480"/>
            <a:ext cx="649080" cy="27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5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646200" y="2239920"/>
            <a:ext cx="523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4"/>
          <p:cNvSpPr/>
          <p:nvPr/>
        </p:nvSpPr>
        <p:spPr>
          <a:xfrm>
            <a:off x="3265560" y="3049560"/>
            <a:ext cx="649080" cy="273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9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727200" y="3078000"/>
            <a:ext cx="442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2"/>
          <p:cNvSpPr/>
          <p:nvPr/>
        </p:nvSpPr>
        <p:spPr>
          <a:xfrm>
            <a:off x="2668680" y="323064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1"/>
          <p:cNvSpPr/>
          <p:nvPr/>
        </p:nvSpPr>
        <p:spPr>
          <a:xfrm>
            <a:off x="2011320" y="293040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3479760" y="2257560"/>
            <a:ext cx="250920" cy="18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3479760" y="1994040"/>
            <a:ext cx="250920" cy="187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3781440" y="2252520"/>
            <a:ext cx="393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3781440" y="1989000"/>
            <a:ext cx="393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Object 11"/>
          <p:cNvGraphicFramePr/>
          <p:nvPr/>
        </p:nvGraphicFramePr>
        <p:xfrm>
          <a:off x="1109520" y="4406760"/>
          <a:ext cx="2400480" cy="18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09520" y="4406760"/>
                    <a:ext cx="240048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Rectangle 20"/>
          <p:cNvSpPr/>
          <p:nvPr/>
        </p:nvSpPr>
        <p:spPr>
          <a:xfrm>
            <a:off x="685800" y="467676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"/>
          <p:cNvSpPr/>
          <p:nvPr/>
        </p:nvSpPr>
        <p:spPr>
          <a:xfrm>
            <a:off x="3421080" y="467676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2"/>
          <p:cNvSpPr/>
          <p:nvPr/>
        </p:nvSpPr>
        <p:spPr>
          <a:xfrm>
            <a:off x="765000" y="579132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1411200" y="5791320"/>
            <a:ext cx="3081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6"/>
          <p:cNvSpPr/>
          <p:nvPr/>
        </p:nvSpPr>
        <p:spPr>
          <a:xfrm>
            <a:off x="765000" y="523404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1592280" y="5234040"/>
            <a:ext cx="307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590400" y="3868560"/>
            <a:ext cx="334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stitute service as % of capital track program expense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traight Connector 8"/>
          <p:cNvSpPr/>
          <p:nvPr/>
        </p:nvSpPr>
        <p:spPr>
          <a:xfrm>
            <a:off x="590400" y="4365720"/>
            <a:ext cx="335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5060880" y="1454040"/>
            <a:ext cx="312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traight Connector 8"/>
          <p:cNvSpPr/>
          <p:nvPr/>
        </p:nvSpPr>
        <p:spPr>
          <a:xfrm>
            <a:off x="5060880" y="1731960"/>
            <a:ext cx="342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21:18:03Z</dcterms:created>
  <dc:creator>MTA</dc:creator>
  <dc:description/>
  <dc:language>en-US</dc:language>
  <cp:lastModifiedBy>MTA</cp:lastModifiedBy>
  <cp:lastPrinted>2011-01-31T19:57:00Z</cp:lastPrinted>
  <dcterms:modified xsi:type="dcterms:W3CDTF">2011-02-16T20:52:02Z</dcterms:modified>
  <cp:revision>1116</cp:revision>
  <dc:subject/>
  <dc:title>Slide 1</dc:title>
</cp:coreProperties>
</file>