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792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52C823-0730-4221-A57E-D68FC20C1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0505DD-A750-460B-B341-BC7B398A5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D878BC-21CD-4B47-A9A1-8465123C1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8FB538-1908-479B-9026-D04B78CDE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23"/>
          <p:cNvSpPr/>
          <p:nvPr/>
        </p:nvSpPr>
        <p:spPr>
          <a:xfrm>
            <a:off x="7421400" y="6607080"/>
            <a:ext cx="193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1036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Avenue Subway TBM Drive #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ssue: Complete TBM run by March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BM Drive #1 completed February 4, ahead of the required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42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160" y="1333080"/>
            <a:ext cx="8839080" cy="534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137160" bIns="13716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st Side Access Systems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Issue: Reduce risks of de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ft Risk Assessment identified a number of risks that, if not mitigated, could lead to project de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s already tak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esigned bench wall to increase production of cable instal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bench wall, walkway, and other scope for earlier completions and reduced volume of concurrent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two substations to reduce testing and commissioning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ducting peer review of critical track installation site access p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4-D model to confirm work plan and resolve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zing feasibility of additional work shifts; if feasible, could greatly reduce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risk mitigation strategies that result from the Follow-up Risk Assessment will be included in contract specs.  The procurement of first Systems contract is planned to start in April with award in March-201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P procurement process allows team to evaluate and negotiate contract schedule and other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4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71160" y="1504800"/>
            <a:ext cx="8505720" cy="509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st Side Access Manhattan Cav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Issue: Hold to recovery plan and restore schedule contin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 taken to increase prod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ctor now working 24 hours a day, six days per week, every week (seventh day being evalua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d running tunnel waterproofing design to simplify concrete production. This approach has been discussed with LIR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up additional material delivery access points in Manhattan (Wellway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since last rep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ed concrete operations in W/B Cavern this month as plan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forecast start of concrete operations in E/B Cavern in April, but pushing for March start to meet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13:11Z</dcterms:created>
  <dc:creator>MTACC</dc:creator>
  <dc:description/>
  <dc:language>en-US</dc:language>
  <cp:lastModifiedBy>Michael Jew-Geralds</cp:lastModifiedBy>
  <cp:lastPrinted>2011-02-16T22:34:08Z</cp:lastPrinted>
  <dcterms:modified xsi:type="dcterms:W3CDTF">2011-02-16T22:36:23Z</dcterms:modified>
  <cp:revision>111</cp:revision>
  <dc:subject/>
  <dc:title>MTACC Quarterly Progress Report to CPOC</dc:title>
</cp:coreProperties>
</file>