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E5934C8-518E-4BA9-900A-80CDE427F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89FF34D-FBBF-47CA-A1DE-9720FBCEF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C7AFC-1212-4A9D-93E6-6E401E243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7CC1155-38FA-4F74-B882-03A46BB45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1A931EF-26CB-40F8-BBAE-FFE8B9CCB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7E9993A-DA92-4D52-BFE5-C60D986A9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9D11389-D74A-4C62-BAB6-001746892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A389C5A-06F5-4C91-981F-EBACE66D2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A6AC9CA-2AA1-4676-8BEB-536BB9F10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8200A0D-2F9B-4AEA-934F-47C856A02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D9CD-C404-4282-961A-29153CE21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F903-76BF-478E-A232-9D2131A15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0454-8B89-4060-8007-CF1C19CD6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1969-5192-4E97-9185-61390B9CF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09B14-B54A-4953-A3B2-CE132CB8E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4A70E-B0F6-4725-A629-0D4CA7E77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47464-DF26-466A-84D0-441C54961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8D430-24AF-492A-BF1E-D0F53F890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8C375-B80F-4519-9354-88E5982E6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85840" y="27432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E54B1-1181-4642-897B-75B71FFBC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0F3BE-A4AE-40F2-8262-E58CC6A1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7BDD-BDCC-4E43-85A4-A0628DD7D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7D8E9-DB2C-42A9-8A82-D18F8A4B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7544A-9688-4C26-A68E-C38E0D76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D0421-7A7D-435A-AE7B-DDC465C6C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8D153-FC12-493C-9D69-9ECFD3E2E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9182C-ACE1-4DF3-940D-59F126B7B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8447-C51C-41CC-A5B9-A96F6C151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9ADF-B906-498E-8DA4-C0B44C12B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35DB-CD3B-4AB3-BFA2-2133DABA1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5840" y="27432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9610-E829-4147-B137-9DFE2DD23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3327-1431-4F08-B4D8-84267674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8614-323F-4065-A380-619EFA98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83D2-8171-43F5-BA25-8126648A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5920" indent="-1159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1620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089000" indent="-174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8640" y="6416280"/>
            <a:ext cx="213372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E67F4-B224-4A5B-9E9D-7ED704CC9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5920" indent="-1159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1620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089000" indent="-174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7081B-FBB7-4E09-9739-2E71668BE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6E18F-976B-4D41-9B40-4913585C1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4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DF13E-DE11-4E62-90DE-77296C759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1640" y="124920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ject Gat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062000" y="2362320"/>
            <a:ext cx="70772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iefing to th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ital Program Oversight Committe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bruary 201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mta-logo"/>
          <p:cNvPicPr/>
          <p:nvPr/>
        </p:nvPicPr>
        <p:blipFill>
          <a:blip r:embed="rId1"/>
          <a:stretch/>
        </p:blipFill>
        <p:spPr>
          <a:xfrm>
            <a:off x="885960" y="5272200"/>
            <a:ext cx="1110960" cy="12380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6"/>
          <p:cNvSpPr/>
          <p:nvPr/>
        </p:nvSpPr>
        <p:spPr>
          <a:xfrm>
            <a:off x="8158320" y="5891040"/>
            <a:ext cx="914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2176560" y="5619600"/>
            <a:ext cx="61722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pital Program Mana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BEAFE-071E-441C-9C2A-277BF7BBB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2"/>
          <p:cNvGrpSpPr/>
          <p:nvPr/>
        </p:nvGrpSpPr>
        <p:grpSpPr>
          <a:xfrm>
            <a:off x="3664080" y="1541520"/>
            <a:ext cx="1793880" cy="779400"/>
            <a:chOff x="3664080" y="1541520"/>
            <a:chExt cx="1793880" cy="779400"/>
          </a:xfrm>
        </p:grpSpPr>
        <p:sp>
          <p:nvSpPr>
            <p:cNvPr id="98" name="AutoShape 82"/>
            <p:cNvSpPr/>
            <p:nvPr/>
          </p:nvSpPr>
          <p:spPr>
            <a:xfrm>
              <a:off x="4381560" y="1541520"/>
              <a:ext cx="355680" cy="331560"/>
            </a:xfrm>
            <a:prstGeom prst="triangle">
              <a:avLst>
                <a:gd name="adj" fmla="val 50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3"/>
            <p:cNvSpPr/>
            <p:nvPr/>
          </p:nvSpPr>
          <p:spPr>
            <a:xfrm>
              <a:off x="3664080" y="1863720"/>
              <a:ext cx="1793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Validat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Benefits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,2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ital Program Reviews to Ensure Best Val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27160" y="2747880"/>
            <a:ext cx="7067520" cy="18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14480" indent="-114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 intervention points where targeted analysis of needs, alternatives, and outcomes ens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02120" indent="-174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tegic Align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02120" indent="-174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est life-cycle cost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02120" indent="-174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nded bene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5AD6A-D600-465E-A092-906908E2F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86"/>
          <p:cNvSpPr/>
          <p:nvPr/>
        </p:nvSpPr>
        <p:spPr>
          <a:xfrm>
            <a:off x="4264200" y="1033560"/>
            <a:ext cx="2474640" cy="507960"/>
          </a:xfrm>
          <a:custGeom>
            <a:avLst/>
            <a:gdLst>
              <a:gd name="textAreaLeft" fmla="*/ 0 w 2474640"/>
              <a:gd name="textAreaRight" fmla="*/ 2475000 w 247464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06" y="0"/>
                </a:lnTo>
                <a:lnTo>
                  <a:pt x="21600" y="10800"/>
                </a:lnTo>
                <a:lnTo>
                  <a:pt x="20106" y="21600"/>
                </a:lnTo>
                <a:lnTo>
                  <a:pt x="0" y="21600"/>
                </a:lnTo>
                <a:lnTo>
                  <a:pt x="1494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str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85"/>
          <p:cNvSpPr/>
          <p:nvPr/>
        </p:nvSpPr>
        <p:spPr>
          <a:xfrm>
            <a:off x="2513160" y="1033560"/>
            <a:ext cx="2224080" cy="507960"/>
          </a:xfrm>
          <a:custGeom>
            <a:avLst/>
            <a:gdLst>
              <a:gd name="textAreaLeft" fmla="*/ 0 w 2224080"/>
              <a:gd name="textAreaRight" fmla="*/ 2224440 w 222408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0" y="0"/>
                </a:lnTo>
                <a:lnTo>
                  <a:pt x="21600" y="10800"/>
                </a:lnTo>
                <a:lnTo>
                  <a:pt x="19800" y="21600"/>
                </a:lnTo>
                <a:lnTo>
                  <a:pt x="0" y="21600"/>
                </a:lnTo>
                <a:lnTo>
                  <a:pt x="1800" y="10800"/>
                </a:lnTo>
                <a:close/>
              </a:path>
            </a:pathLst>
          </a:custGeom>
          <a:solidFill>
            <a:srgbClr val="a7bac1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83"/>
          <p:cNvSpPr/>
          <p:nvPr/>
        </p:nvSpPr>
        <p:spPr>
          <a:xfrm>
            <a:off x="598320" y="1033560"/>
            <a:ext cx="2291040" cy="507960"/>
          </a:xfrm>
          <a:custGeom>
            <a:avLst/>
            <a:gdLst>
              <a:gd name="textAreaLeft" fmla="*/ 0 w 2291040"/>
              <a:gd name="textAreaRight" fmla="*/ 2291400 w 229104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07" y="0"/>
                </a:lnTo>
                <a:lnTo>
                  <a:pt x="21600" y="10800"/>
                </a:lnTo>
                <a:lnTo>
                  <a:pt x="192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75a69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cep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265"/>
          <p:cNvSpPr/>
          <p:nvPr/>
        </p:nvSpPr>
        <p:spPr>
          <a:xfrm>
            <a:off x="6523200" y="1033560"/>
            <a:ext cx="2189160" cy="507960"/>
          </a:xfrm>
          <a:custGeom>
            <a:avLst/>
            <a:gdLst>
              <a:gd name="textAreaLeft" fmla="*/ 0 w 2189160"/>
              <a:gd name="textAreaRight" fmla="*/ 2189520 w 218916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0" y="0"/>
                </a:lnTo>
                <a:lnTo>
                  <a:pt x="21600" y="10800"/>
                </a:lnTo>
                <a:lnTo>
                  <a:pt x="19800" y="21600"/>
                </a:lnTo>
                <a:lnTo>
                  <a:pt x="0" y="21600"/>
                </a:lnTo>
                <a:lnTo>
                  <a:pt x="1800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 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4"/>
          <p:cNvGrpSpPr/>
          <p:nvPr/>
        </p:nvGrpSpPr>
        <p:grpSpPr>
          <a:xfrm>
            <a:off x="2060640" y="1541520"/>
            <a:ext cx="1168200" cy="782640"/>
            <a:chOff x="2060640" y="1541520"/>
            <a:chExt cx="1168200" cy="782640"/>
          </a:xfrm>
        </p:grpSpPr>
        <p:sp>
          <p:nvSpPr>
            <p:cNvPr id="109" name="AutoShape 82"/>
            <p:cNvSpPr/>
            <p:nvPr/>
          </p:nvSpPr>
          <p:spPr>
            <a:xfrm>
              <a:off x="2469960" y="1541520"/>
              <a:ext cx="355680" cy="331560"/>
            </a:xfrm>
            <a:prstGeom prst="triangle">
              <a:avLst>
                <a:gd name="adj" fmla="val 50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3"/>
            <p:cNvSpPr/>
            <p:nvPr/>
          </p:nvSpPr>
          <p:spPr>
            <a:xfrm>
              <a:off x="2060640" y="1866960"/>
              <a:ext cx="1168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Analytical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Review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17"/>
          <p:cNvGrpSpPr/>
          <p:nvPr/>
        </p:nvGrpSpPr>
        <p:grpSpPr>
          <a:xfrm>
            <a:off x="6043680" y="1547640"/>
            <a:ext cx="1030320" cy="776520"/>
            <a:chOff x="6043680" y="1547640"/>
            <a:chExt cx="1030320" cy="776520"/>
          </a:xfrm>
        </p:grpSpPr>
        <p:sp>
          <p:nvSpPr>
            <p:cNvPr id="112" name="AutoShape 82"/>
            <p:cNvSpPr/>
            <p:nvPr/>
          </p:nvSpPr>
          <p:spPr>
            <a:xfrm>
              <a:off x="6383160" y="1547640"/>
              <a:ext cx="355680" cy="331920"/>
            </a:xfrm>
            <a:prstGeom prst="triangle">
              <a:avLst>
                <a:gd name="adj" fmla="val 50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3"/>
            <p:cNvSpPr/>
            <p:nvPr/>
          </p:nvSpPr>
          <p:spPr>
            <a:xfrm>
              <a:off x="6043680" y="1866960"/>
              <a:ext cx="1030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Lessons Learned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Rectangle 20"/>
          <p:cNvSpPr/>
          <p:nvPr/>
        </p:nvSpPr>
        <p:spPr>
          <a:xfrm>
            <a:off x="2060640" y="379872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1"/>
          <p:cNvSpPr/>
          <p:nvPr/>
        </p:nvSpPr>
        <p:spPr>
          <a:xfrm>
            <a:off x="2021040" y="384804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29"/>
          <p:cNvGrpSpPr/>
          <p:nvPr/>
        </p:nvGrpSpPr>
        <p:grpSpPr>
          <a:xfrm>
            <a:off x="58680" y="1547640"/>
            <a:ext cx="1147680" cy="792360"/>
            <a:chOff x="58680" y="1547640"/>
            <a:chExt cx="1147680" cy="792360"/>
          </a:xfrm>
        </p:grpSpPr>
        <p:sp>
          <p:nvSpPr>
            <p:cNvPr id="117" name="AutoShape 82"/>
            <p:cNvSpPr/>
            <p:nvPr/>
          </p:nvSpPr>
          <p:spPr>
            <a:xfrm>
              <a:off x="419040" y="1547640"/>
              <a:ext cx="355680" cy="331920"/>
            </a:xfrm>
            <a:prstGeom prst="triangle">
              <a:avLst>
                <a:gd name="adj" fmla="val 50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3"/>
            <p:cNvSpPr/>
            <p:nvPr/>
          </p:nvSpPr>
          <p:spPr>
            <a:xfrm>
              <a:off x="58680" y="1882800"/>
              <a:ext cx="1147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</a:rPr>
                <a:t>Program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</a:rPr>
                <a:t>Initiation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Text Box 52"/>
          <p:cNvSpPr/>
          <p:nvPr/>
        </p:nvSpPr>
        <p:spPr>
          <a:xfrm>
            <a:off x="774720" y="4552920"/>
            <a:ext cx="85518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8360" indent="-32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liver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planned benefi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the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lowest life-cycle co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32"/>
          <p:cNvSpPr/>
          <p:nvPr/>
        </p:nvSpPr>
        <p:spPr>
          <a:xfrm>
            <a:off x="201600" y="5145120"/>
            <a:ext cx="792000" cy="669960"/>
          </a:xfrm>
          <a:prstGeom prst="rightArrow">
            <a:avLst>
              <a:gd name="adj1" fmla="val 50000"/>
              <a:gd name="adj2" fmla="val 2955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8D00D-2D4E-45DA-B4ED-A9EB05CD8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,2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53520" y="1899720"/>
            <a:ext cx="853308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5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of projects before including in the Capit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hat used to happe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rocess allowed for full asset replacement in-kind, individual agencies established standalone strategies, missing opportunities for shared eff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ew value added review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nsure benefits of improving safety, reliability and service delivered at lowest life-cycle cos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liminate projects that are not priorit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place only those components of the asset that need replacem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ek shared investment opportunities to serve needs of more than one agenc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xamp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YCT Subways: stations and other assets changed from full rehabilitations to component-based renewa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NR Harmon Shop: provides capacity to service locomotives for both LIRR and MN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ults:  Resubmitted 2010-2014 Capital Program reduced by $2 billion without compromising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608EA-11C3-4228-B1A3-4C0A303B3A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86"/>
          <p:cNvSpPr/>
          <p:nvPr/>
        </p:nvSpPr>
        <p:spPr>
          <a:xfrm>
            <a:off x="4264200" y="861840"/>
            <a:ext cx="2474640" cy="255600"/>
          </a:xfrm>
          <a:custGeom>
            <a:avLst/>
            <a:gdLst>
              <a:gd name="textAreaLeft" fmla="*/ 0 w 2474640"/>
              <a:gd name="textAreaRight" fmla="*/ 2475000 w 2474640"/>
              <a:gd name="textAreaTop" fmla="*/ 0 h 255600"/>
              <a:gd name="textAreaBottom" fmla="*/ 255600 h 25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06" y="0"/>
                </a:lnTo>
                <a:lnTo>
                  <a:pt x="21600" y="10800"/>
                </a:lnTo>
                <a:lnTo>
                  <a:pt x="20106" y="21600"/>
                </a:lnTo>
                <a:lnTo>
                  <a:pt x="0" y="21600"/>
                </a:lnTo>
                <a:lnTo>
                  <a:pt x="1494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str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85"/>
          <p:cNvSpPr/>
          <p:nvPr/>
        </p:nvSpPr>
        <p:spPr>
          <a:xfrm>
            <a:off x="2513160" y="861840"/>
            <a:ext cx="2224080" cy="255600"/>
          </a:xfrm>
          <a:custGeom>
            <a:avLst/>
            <a:gdLst>
              <a:gd name="textAreaLeft" fmla="*/ 0 w 2224080"/>
              <a:gd name="textAreaRight" fmla="*/ 2224440 w 2224080"/>
              <a:gd name="textAreaTop" fmla="*/ 0 h 255600"/>
              <a:gd name="textAreaBottom" fmla="*/ 255600 h 25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0" y="0"/>
                </a:lnTo>
                <a:lnTo>
                  <a:pt x="21600" y="10800"/>
                </a:lnTo>
                <a:lnTo>
                  <a:pt x="19800" y="21600"/>
                </a:lnTo>
                <a:lnTo>
                  <a:pt x="0" y="21600"/>
                </a:lnTo>
                <a:lnTo>
                  <a:pt x="1800" y="10800"/>
                </a:lnTo>
                <a:close/>
              </a:path>
            </a:pathLst>
          </a:custGeom>
          <a:solidFill>
            <a:srgbClr val="a7bac1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3"/>
          <p:cNvSpPr/>
          <p:nvPr/>
        </p:nvSpPr>
        <p:spPr>
          <a:xfrm>
            <a:off x="501480" y="158760"/>
            <a:ext cx="2222640" cy="692280"/>
          </a:xfrm>
          <a:custGeom>
            <a:avLst/>
            <a:gdLst>
              <a:gd name="textAreaLeft" fmla="*/ 0 w 2222640"/>
              <a:gd name="textAreaRight" fmla="*/ 2223000 w 2222640"/>
              <a:gd name="textAreaTop" fmla="*/ 0 h 692280"/>
              <a:gd name="textAreaBottom" fmla="*/ 692640 h 69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22" y="0"/>
                </a:lnTo>
                <a:lnTo>
                  <a:pt x="21600" y="10800"/>
                </a:lnTo>
                <a:lnTo>
                  <a:pt x="1952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75a69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cep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265"/>
          <p:cNvSpPr/>
          <p:nvPr/>
        </p:nvSpPr>
        <p:spPr>
          <a:xfrm>
            <a:off x="6523200" y="861840"/>
            <a:ext cx="2189160" cy="255600"/>
          </a:xfrm>
          <a:custGeom>
            <a:avLst/>
            <a:gdLst>
              <a:gd name="textAreaLeft" fmla="*/ 0 w 2189160"/>
              <a:gd name="textAreaRight" fmla="*/ 2189520 w 2189160"/>
              <a:gd name="textAreaTop" fmla="*/ 0 h 255600"/>
              <a:gd name="textAreaBottom" fmla="*/ 255600 h 25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0" y="0"/>
                </a:lnTo>
                <a:lnTo>
                  <a:pt x="21600" y="10800"/>
                </a:lnTo>
                <a:lnTo>
                  <a:pt x="19800" y="21600"/>
                </a:lnTo>
                <a:lnTo>
                  <a:pt x="0" y="21600"/>
                </a:lnTo>
                <a:lnTo>
                  <a:pt x="1800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 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0"/>
          <p:cNvSpPr/>
          <p:nvPr/>
        </p:nvSpPr>
        <p:spPr>
          <a:xfrm>
            <a:off x="2060640" y="379872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1"/>
          <p:cNvSpPr/>
          <p:nvPr/>
        </p:nvSpPr>
        <p:spPr>
          <a:xfrm>
            <a:off x="2021040" y="384804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28"/>
          <p:cNvGrpSpPr/>
          <p:nvPr/>
        </p:nvGrpSpPr>
        <p:grpSpPr>
          <a:xfrm>
            <a:off x="-36360" y="870120"/>
            <a:ext cx="1147680" cy="791640"/>
            <a:chOff x="-36360" y="870120"/>
            <a:chExt cx="1147680" cy="791640"/>
          </a:xfrm>
        </p:grpSpPr>
        <p:sp>
          <p:nvSpPr>
            <p:cNvPr id="132" name="AutoShape 82"/>
            <p:cNvSpPr/>
            <p:nvPr/>
          </p:nvSpPr>
          <p:spPr>
            <a:xfrm>
              <a:off x="324000" y="870120"/>
              <a:ext cx="355680" cy="331560"/>
            </a:xfrm>
            <a:prstGeom prst="triangle">
              <a:avLst>
                <a:gd name="adj" fmla="val 50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3"/>
            <p:cNvSpPr/>
            <p:nvPr/>
          </p:nvSpPr>
          <p:spPr>
            <a:xfrm>
              <a:off x="-36360" y="1204920"/>
              <a:ext cx="11476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Program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Initiation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6C8DA-7D43-405C-B4C1-E4FCEAC1B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,2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8E46A-A769-4DF0-A80B-FE140554F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86"/>
          <p:cNvSpPr/>
          <p:nvPr/>
        </p:nvSpPr>
        <p:spPr>
          <a:xfrm>
            <a:off x="4264200" y="847800"/>
            <a:ext cx="2474640" cy="249120"/>
          </a:xfrm>
          <a:custGeom>
            <a:avLst/>
            <a:gdLst>
              <a:gd name="textAreaLeft" fmla="*/ 0 w 2474640"/>
              <a:gd name="textAreaRight" fmla="*/ 2475000 w 247464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06" y="0"/>
                </a:lnTo>
                <a:lnTo>
                  <a:pt x="21600" y="10800"/>
                </a:lnTo>
                <a:lnTo>
                  <a:pt x="20106" y="21600"/>
                </a:lnTo>
                <a:lnTo>
                  <a:pt x="0" y="21600"/>
                </a:lnTo>
                <a:lnTo>
                  <a:pt x="1494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str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85"/>
          <p:cNvSpPr/>
          <p:nvPr/>
        </p:nvSpPr>
        <p:spPr>
          <a:xfrm>
            <a:off x="2305080" y="144360"/>
            <a:ext cx="2143080" cy="695520"/>
          </a:xfrm>
          <a:custGeom>
            <a:avLst/>
            <a:gdLst>
              <a:gd name="textAreaLeft" fmla="*/ 0 w 2143080"/>
              <a:gd name="textAreaRight" fmla="*/ 2143440 w 2143080"/>
              <a:gd name="textAreaTop" fmla="*/ 0 h 695520"/>
              <a:gd name="textAreaBottom" fmla="*/ 695880 h 69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9" y="0"/>
                </a:lnTo>
                <a:lnTo>
                  <a:pt x="21600" y="10800"/>
                </a:lnTo>
                <a:lnTo>
                  <a:pt x="19639" y="21600"/>
                </a:lnTo>
                <a:lnTo>
                  <a:pt x="0" y="21600"/>
                </a:lnTo>
                <a:lnTo>
                  <a:pt x="1961" y="10800"/>
                </a:lnTo>
                <a:close/>
              </a:path>
            </a:pathLst>
          </a:custGeom>
          <a:solidFill>
            <a:srgbClr val="a7bac1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83"/>
          <p:cNvSpPr/>
          <p:nvPr/>
        </p:nvSpPr>
        <p:spPr>
          <a:xfrm>
            <a:off x="598320" y="853920"/>
            <a:ext cx="1955880" cy="243000"/>
          </a:xfrm>
          <a:custGeom>
            <a:avLst/>
            <a:gdLst>
              <a:gd name="textAreaLeft" fmla="*/ 0 w 1955880"/>
              <a:gd name="textAreaRight" fmla="*/ 1956240 w 195588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69" y="0"/>
                </a:lnTo>
                <a:lnTo>
                  <a:pt x="21600" y="10800"/>
                </a:lnTo>
                <a:lnTo>
                  <a:pt x="1886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75a69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cep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265"/>
          <p:cNvSpPr/>
          <p:nvPr/>
        </p:nvSpPr>
        <p:spPr>
          <a:xfrm>
            <a:off x="6523200" y="847800"/>
            <a:ext cx="2189160" cy="249120"/>
          </a:xfrm>
          <a:custGeom>
            <a:avLst/>
            <a:gdLst>
              <a:gd name="textAreaLeft" fmla="*/ 0 w 2189160"/>
              <a:gd name="textAreaRight" fmla="*/ 2189520 w 218916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0" y="0"/>
                </a:lnTo>
                <a:lnTo>
                  <a:pt x="21600" y="10800"/>
                </a:lnTo>
                <a:lnTo>
                  <a:pt x="19800" y="21600"/>
                </a:lnTo>
                <a:lnTo>
                  <a:pt x="0" y="21600"/>
                </a:lnTo>
                <a:lnTo>
                  <a:pt x="1800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 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2060640" y="379872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1"/>
          <p:cNvSpPr/>
          <p:nvPr/>
        </p:nvSpPr>
        <p:spPr>
          <a:xfrm>
            <a:off x="2021040" y="384804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27"/>
          <p:cNvGrpSpPr/>
          <p:nvPr/>
        </p:nvGrpSpPr>
        <p:grpSpPr>
          <a:xfrm>
            <a:off x="2152800" y="853920"/>
            <a:ext cx="1168200" cy="782640"/>
            <a:chOff x="2152800" y="853920"/>
            <a:chExt cx="1168200" cy="782640"/>
          </a:xfrm>
        </p:grpSpPr>
        <p:sp>
          <p:nvSpPr>
            <p:cNvPr id="144" name="AutoShape 82"/>
            <p:cNvSpPr/>
            <p:nvPr/>
          </p:nvSpPr>
          <p:spPr>
            <a:xfrm>
              <a:off x="2562120" y="853920"/>
              <a:ext cx="355680" cy="331560"/>
            </a:xfrm>
            <a:prstGeom prst="triangle">
              <a:avLst>
                <a:gd name="adj" fmla="val 50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3"/>
            <p:cNvSpPr/>
            <p:nvPr/>
          </p:nvSpPr>
          <p:spPr>
            <a:xfrm>
              <a:off x="2152800" y="1179360"/>
              <a:ext cx="1168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Analytical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Review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71600" y="1711080"/>
            <a:ext cx="847872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5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Before Final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hat used to happe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Little MTA oversight of operating impacts or alternatives analysis to affirmatively capture sav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ew value added review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onfirm th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oject is still necessa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needed benefit cannot be delivered for less (Alternatives Analysis and Asset Class Review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investment will deliver Operating Budget saving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r complex projects, that all risks have been identified, mitigated and appropriately considered in preparing the cost and schedule (Risk Assessments on complex project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xamp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NR Bridge-23 Substation in Mount Vernon: $523k annual energy cost saving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YCT 207</a:t>
            </a:r>
            <a:r>
              <a:rPr b="0" lang="en-US" sz="15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St. Overhaul Shop Heating: $5m in up front capital cost saving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ults:  In addition to up front capital savings, $13 million in operating savings have been identified to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B1E4A-1DAA-443F-B47C-DB1B4A0C8E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,2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1885C-00B0-4F1D-9B23-B89D243F5C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86"/>
          <p:cNvSpPr/>
          <p:nvPr/>
        </p:nvSpPr>
        <p:spPr>
          <a:xfrm>
            <a:off x="4543560" y="144360"/>
            <a:ext cx="2119320" cy="695520"/>
          </a:xfrm>
          <a:custGeom>
            <a:avLst/>
            <a:gdLst>
              <a:gd name="textAreaLeft" fmla="*/ 0 w 2119320"/>
              <a:gd name="textAreaRight" fmla="*/ 2119680 w 2119320"/>
              <a:gd name="textAreaTop" fmla="*/ 0 h 695520"/>
              <a:gd name="textAreaBottom" fmla="*/ 695880 h 69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047" y="0"/>
                </a:lnTo>
                <a:lnTo>
                  <a:pt x="21600" y="10800"/>
                </a:lnTo>
                <a:lnTo>
                  <a:pt x="20047" y="21600"/>
                </a:lnTo>
                <a:lnTo>
                  <a:pt x="0" y="21600"/>
                </a:lnTo>
                <a:lnTo>
                  <a:pt x="1553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str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85"/>
          <p:cNvSpPr/>
          <p:nvPr/>
        </p:nvSpPr>
        <p:spPr>
          <a:xfrm>
            <a:off x="2513160" y="847800"/>
            <a:ext cx="2224080" cy="261720"/>
          </a:xfrm>
          <a:custGeom>
            <a:avLst/>
            <a:gdLst>
              <a:gd name="textAreaLeft" fmla="*/ 0 w 2224080"/>
              <a:gd name="textAreaRight" fmla="*/ 2224440 w 2224080"/>
              <a:gd name="textAreaTop" fmla="*/ 0 h 261720"/>
              <a:gd name="textAreaBottom" fmla="*/ 261720 h 26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0" y="0"/>
                </a:lnTo>
                <a:lnTo>
                  <a:pt x="21600" y="10800"/>
                </a:lnTo>
                <a:lnTo>
                  <a:pt x="19800" y="21600"/>
                </a:lnTo>
                <a:lnTo>
                  <a:pt x="0" y="21600"/>
                </a:lnTo>
                <a:lnTo>
                  <a:pt x="1800" y="10800"/>
                </a:lnTo>
                <a:close/>
              </a:path>
            </a:pathLst>
          </a:custGeom>
          <a:solidFill>
            <a:srgbClr val="a7bac1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83"/>
          <p:cNvSpPr/>
          <p:nvPr/>
        </p:nvSpPr>
        <p:spPr>
          <a:xfrm>
            <a:off x="598320" y="847800"/>
            <a:ext cx="2291040" cy="261720"/>
          </a:xfrm>
          <a:custGeom>
            <a:avLst/>
            <a:gdLst>
              <a:gd name="textAreaLeft" fmla="*/ 0 w 2291040"/>
              <a:gd name="textAreaRight" fmla="*/ 2291400 w 2291040"/>
              <a:gd name="textAreaTop" fmla="*/ 0 h 261720"/>
              <a:gd name="textAreaBottom" fmla="*/ 261720 h 26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07" y="0"/>
                </a:lnTo>
                <a:lnTo>
                  <a:pt x="21600" y="10800"/>
                </a:lnTo>
                <a:lnTo>
                  <a:pt x="192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75a69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cep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265"/>
          <p:cNvSpPr/>
          <p:nvPr/>
        </p:nvSpPr>
        <p:spPr>
          <a:xfrm>
            <a:off x="6523200" y="847800"/>
            <a:ext cx="2189160" cy="261720"/>
          </a:xfrm>
          <a:custGeom>
            <a:avLst/>
            <a:gdLst>
              <a:gd name="textAreaLeft" fmla="*/ 0 w 2189160"/>
              <a:gd name="textAreaRight" fmla="*/ 2189520 w 2189160"/>
              <a:gd name="textAreaTop" fmla="*/ 0 h 261720"/>
              <a:gd name="textAreaBottom" fmla="*/ 261720 h 26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0" y="0"/>
                </a:lnTo>
                <a:lnTo>
                  <a:pt x="21600" y="10800"/>
                </a:lnTo>
                <a:lnTo>
                  <a:pt x="19800" y="21600"/>
                </a:lnTo>
                <a:lnTo>
                  <a:pt x="0" y="21600"/>
                </a:lnTo>
                <a:lnTo>
                  <a:pt x="1800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 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0"/>
          <p:cNvSpPr/>
          <p:nvPr/>
        </p:nvSpPr>
        <p:spPr>
          <a:xfrm>
            <a:off x="2060640" y="379872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1"/>
          <p:cNvSpPr/>
          <p:nvPr/>
        </p:nvSpPr>
        <p:spPr>
          <a:xfrm>
            <a:off x="2021040" y="384804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27"/>
          <p:cNvGrpSpPr/>
          <p:nvPr/>
        </p:nvGrpSpPr>
        <p:grpSpPr>
          <a:xfrm>
            <a:off x="4006800" y="852480"/>
            <a:ext cx="1793880" cy="779400"/>
            <a:chOff x="4006800" y="852480"/>
            <a:chExt cx="1793880" cy="779400"/>
          </a:xfrm>
        </p:grpSpPr>
        <p:sp>
          <p:nvSpPr>
            <p:cNvPr id="157" name="AutoShape 82"/>
            <p:cNvSpPr/>
            <p:nvPr/>
          </p:nvSpPr>
          <p:spPr>
            <a:xfrm>
              <a:off x="4724280" y="852480"/>
              <a:ext cx="355680" cy="331560"/>
            </a:xfrm>
            <a:prstGeom prst="triangle">
              <a:avLst>
                <a:gd name="adj" fmla="val 50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3"/>
            <p:cNvSpPr/>
            <p:nvPr/>
          </p:nvSpPr>
          <p:spPr>
            <a:xfrm>
              <a:off x="4006800" y="1174680"/>
              <a:ext cx="1793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Validat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Benefits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71680" y="1952280"/>
            <a:ext cx="822960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5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after design but before proceeding to 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hat used to happe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Projects within budget largely moved forward once design completed, including Technology projects which have a history of installation difficul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ew value added review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Ensure the business case still ho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firms implementation risks are accounted fo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nsures appropriate allowances for testing and commission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nalysis allows for a go or no go decision based on budget/schedul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apture bid savings for future project need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ults:  To date, $200 million in bid savings have been captured.  The overall goal is for original intended benefits to be delivered on time and on budget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F6DBF-32F9-4C30-99DB-0EA2F90EF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,2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826F9-B5D9-4AE3-A514-A199784D2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86"/>
          <p:cNvSpPr/>
          <p:nvPr/>
        </p:nvSpPr>
        <p:spPr>
          <a:xfrm>
            <a:off x="4264200" y="847800"/>
            <a:ext cx="2474640" cy="280800"/>
          </a:xfrm>
          <a:custGeom>
            <a:avLst/>
            <a:gdLst>
              <a:gd name="textAreaLeft" fmla="*/ 0 w 2474640"/>
              <a:gd name="textAreaRight" fmla="*/ 2475000 w 247464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06" y="0"/>
                </a:lnTo>
                <a:lnTo>
                  <a:pt x="21600" y="10800"/>
                </a:lnTo>
                <a:lnTo>
                  <a:pt x="20106" y="21600"/>
                </a:lnTo>
                <a:lnTo>
                  <a:pt x="0" y="21600"/>
                </a:lnTo>
                <a:lnTo>
                  <a:pt x="1494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str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85"/>
          <p:cNvSpPr/>
          <p:nvPr/>
        </p:nvSpPr>
        <p:spPr>
          <a:xfrm>
            <a:off x="2513160" y="847800"/>
            <a:ext cx="2224080" cy="280800"/>
          </a:xfrm>
          <a:custGeom>
            <a:avLst/>
            <a:gdLst>
              <a:gd name="textAreaLeft" fmla="*/ 0 w 2224080"/>
              <a:gd name="textAreaRight" fmla="*/ 2224440 w 222408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0" y="0"/>
                </a:lnTo>
                <a:lnTo>
                  <a:pt x="21600" y="10800"/>
                </a:lnTo>
                <a:lnTo>
                  <a:pt x="19800" y="21600"/>
                </a:lnTo>
                <a:lnTo>
                  <a:pt x="0" y="21600"/>
                </a:lnTo>
                <a:lnTo>
                  <a:pt x="1800" y="10800"/>
                </a:lnTo>
                <a:close/>
              </a:path>
            </a:pathLst>
          </a:custGeom>
          <a:solidFill>
            <a:srgbClr val="a7bac1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83"/>
          <p:cNvSpPr/>
          <p:nvPr/>
        </p:nvSpPr>
        <p:spPr>
          <a:xfrm>
            <a:off x="598320" y="847800"/>
            <a:ext cx="2291040" cy="280800"/>
          </a:xfrm>
          <a:custGeom>
            <a:avLst/>
            <a:gdLst>
              <a:gd name="textAreaLeft" fmla="*/ 0 w 2291040"/>
              <a:gd name="textAreaRight" fmla="*/ 2291400 w 229104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07" y="0"/>
                </a:lnTo>
                <a:lnTo>
                  <a:pt x="21600" y="10800"/>
                </a:lnTo>
                <a:lnTo>
                  <a:pt x="192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75a69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cep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265"/>
          <p:cNvSpPr/>
          <p:nvPr/>
        </p:nvSpPr>
        <p:spPr>
          <a:xfrm>
            <a:off x="6572160" y="152280"/>
            <a:ext cx="1919520" cy="695520"/>
          </a:xfrm>
          <a:custGeom>
            <a:avLst/>
            <a:gdLst>
              <a:gd name="textAreaLeft" fmla="*/ 0 w 1919520"/>
              <a:gd name="textAreaRight" fmla="*/ 1919880 w 1919520"/>
              <a:gd name="textAreaTop" fmla="*/ 0 h 695520"/>
              <a:gd name="textAreaBottom" fmla="*/ 695880 h 69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27" y="0"/>
                </a:lnTo>
                <a:lnTo>
                  <a:pt x="21600" y="10800"/>
                </a:lnTo>
                <a:lnTo>
                  <a:pt x="19527" y="21600"/>
                </a:lnTo>
                <a:lnTo>
                  <a:pt x="0" y="21600"/>
                </a:lnTo>
                <a:lnTo>
                  <a:pt x="2073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 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17"/>
          <p:cNvGrpSpPr/>
          <p:nvPr/>
        </p:nvGrpSpPr>
        <p:grpSpPr>
          <a:xfrm>
            <a:off x="6359400" y="857160"/>
            <a:ext cx="1030320" cy="776520"/>
            <a:chOff x="6359400" y="857160"/>
            <a:chExt cx="1030320" cy="776520"/>
          </a:xfrm>
        </p:grpSpPr>
        <p:sp>
          <p:nvSpPr>
            <p:cNvPr id="168" name="AutoShape 82"/>
            <p:cNvSpPr/>
            <p:nvPr/>
          </p:nvSpPr>
          <p:spPr>
            <a:xfrm>
              <a:off x="6698880" y="857160"/>
              <a:ext cx="355680" cy="331920"/>
            </a:xfrm>
            <a:prstGeom prst="triangle">
              <a:avLst>
                <a:gd name="adj" fmla="val 50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3"/>
            <p:cNvSpPr/>
            <p:nvPr/>
          </p:nvSpPr>
          <p:spPr>
            <a:xfrm>
              <a:off x="6359400" y="1176480"/>
              <a:ext cx="1030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Lessons Learned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Rectangle 20"/>
          <p:cNvSpPr/>
          <p:nvPr/>
        </p:nvSpPr>
        <p:spPr>
          <a:xfrm>
            <a:off x="2060640" y="379872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1"/>
          <p:cNvSpPr/>
          <p:nvPr/>
        </p:nvSpPr>
        <p:spPr>
          <a:xfrm>
            <a:off x="2021040" y="384804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528120" y="1956960"/>
            <a:ext cx="8285400" cy="41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5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at conclusion of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hat used to happe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Identification of lessons learned varied by agency and project; not consistently applied; no shared best pract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ew value added review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ntinuous Improv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dentify failures and challenges and modify going-forward approac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hare implementation mitigation strategies across the agenc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tter prepare for operating and maintaining the new asset on a life-cycle bas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ticipated Results:  Objective is to deliver on time &amp; budget our commitments to stakeholders by eliminating avoidable recurring proble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6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CCBF1-6DF0-486E-8013-97C86A8E1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ture Opportunities for Reviews and Interven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774880" y="1181160"/>
            <a:ext cx="61372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5920" indent="-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hat used to happen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tics insufficient to support  prioritization of investments across asset classes and agen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ew value added review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ransit Asset Management Data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odel tradeoffs when applying constraints of a funded 5-Year Plan to unconstrained 20-Year Need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ioritization within and across asset clas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nticipated Results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xecutive / Board ability to understand and influence tradeoffs between needed invest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hat used to happe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ception review limited to consistency with 20-Year Needs; decentralized prioritiz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ew value added review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iority projects identified by selection criteria consistent with MTA strategic goa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sset Class Strategies: Rolling Stock initiativ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nticipated Results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nly priority work is funded without compromising benefi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4"/>
          <p:cNvSpPr/>
          <p:nvPr/>
        </p:nvSpPr>
        <p:spPr>
          <a:xfrm>
            <a:off x="326880" y="1270080"/>
            <a:ext cx="2448000" cy="220176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Twenty-Year Needs Assessment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5"/>
          <p:cNvSpPr/>
          <p:nvPr/>
        </p:nvSpPr>
        <p:spPr>
          <a:xfrm>
            <a:off x="511200" y="3782880"/>
            <a:ext cx="2111400" cy="189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Five-Year Capital Program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7"/>
          <p:cNvGrpSpPr/>
          <p:nvPr/>
        </p:nvGrpSpPr>
        <p:grpSpPr>
          <a:xfrm>
            <a:off x="422280" y="6040440"/>
            <a:ext cx="8551800" cy="520560"/>
            <a:chOff x="422280" y="6040440"/>
            <a:chExt cx="8551800" cy="520560"/>
          </a:xfrm>
        </p:grpSpPr>
        <p:sp>
          <p:nvSpPr>
            <p:cNvPr id="179" name="AutoShape 8"/>
            <p:cNvSpPr/>
            <p:nvPr/>
          </p:nvSpPr>
          <p:spPr>
            <a:xfrm>
              <a:off x="2255760" y="6178680"/>
              <a:ext cx="791640" cy="297000"/>
            </a:xfrm>
            <a:prstGeom prst="rightArrow">
              <a:avLst>
                <a:gd name="adj1" fmla="val 50000"/>
                <a:gd name="adj2" fmla="val 66636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2"/>
            <p:cNvSpPr/>
            <p:nvPr/>
          </p:nvSpPr>
          <p:spPr>
            <a:xfrm>
              <a:off x="422280" y="6040440"/>
              <a:ext cx="855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0000"/>
                  </a:solidFill>
                  <a:latin typeface="Arial"/>
                </a:rPr>
                <a:t>Outcome </a:t>
              </a:r>
              <a:r>
                <a:rPr b="1" i="1" lang="en-US" sz="2800" spc="-1" strike="noStrike">
                  <a:solidFill>
                    <a:srgbClr val="cc0000"/>
                  </a:solidFill>
                  <a:latin typeface="Arial"/>
                </a:rPr>
                <a:t>	</a:t>
              </a:r>
              <a:r>
                <a:rPr b="1" i="1" lang="en-US" sz="2800" spc="-1" strike="noStrike">
                  <a:solidFill>
                    <a:srgbClr val="cc0000"/>
                  </a:solidFill>
                  <a:latin typeface="Arial"/>
                </a:rPr>
                <a:t>	</a:t>
              </a:r>
              <a:r>
                <a:rPr b="1" i="1" lang="en-US" sz="2800" spc="-1" strike="noStrike">
                  <a:solidFill>
                    <a:srgbClr val="cc0000"/>
                  </a:solidFill>
                  <a:latin typeface="Arial"/>
                </a:rPr>
                <a:t>Make Every Dollar Count!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3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2AD3E-332A-43E8-BAAC-11A62543E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2"/>
          <p:cNvSpPr/>
          <p:nvPr/>
        </p:nvSpPr>
        <p:spPr>
          <a:xfrm>
            <a:off x="385920" y="235080"/>
            <a:ext cx="74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 Added Reviews Replace Paper Proce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,2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F3020-3A69-40AA-BB4B-D31198168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2"/>
          <p:cNvSpPr/>
          <p:nvPr/>
        </p:nvSpPr>
        <p:spPr>
          <a:xfrm>
            <a:off x="5778360" y="2413080"/>
            <a:ext cx="2070360" cy="1592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333399"/>
                </a:solidFill>
                <a:latin typeface="Arial"/>
              </a:rPr>
              <a:t>Project Gate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3"/>
          <p:cNvGrpSpPr/>
          <p:nvPr/>
        </p:nvGrpSpPr>
        <p:grpSpPr>
          <a:xfrm>
            <a:off x="5261400" y="1631880"/>
            <a:ext cx="2257920" cy="2543400"/>
            <a:chOff x="5261400" y="1631880"/>
            <a:chExt cx="2257920" cy="2543400"/>
          </a:xfrm>
        </p:grpSpPr>
        <p:sp>
          <p:nvSpPr>
            <p:cNvPr id="187" name="Freeform 14"/>
            <p:cNvSpPr/>
            <p:nvPr/>
          </p:nvSpPr>
          <p:spPr>
            <a:xfrm>
              <a:off x="5291280" y="1631880"/>
              <a:ext cx="1577520" cy="2376360"/>
            </a:xfrm>
            <a:custGeom>
              <a:avLst/>
              <a:gdLst/>
              <a:ahLst/>
              <a:rect l="l" t="t" r="r" b="b"/>
              <a:pathLst>
                <a:path w="994" h="1497">
                  <a:moveTo>
                    <a:pt x="131" y="1497"/>
                  </a:moveTo>
                  <a:lnTo>
                    <a:pt x="125" y="1480"/>
                  </a:lnTo>
                  <a:lnTo>
                    <a:pt x="114" y="1463"/>
                  </a:lnTo>
                  <a:lnTo>
                    <a:pt x="108" y="1446"/>
                  </a:lnTo>
                  <a:lnTo>
                    <a:pt x="97" y="1434"/>
                  </a:lnTo>
                  <a:lnTo>
                    <a:pt x="91" y="1417"/>
                  </a:lnTo>
                  <a:lnTo>
                    <a:pt x="85" y="1400"/>
                  </a:lnTo>
                  <a:lnTo>
                    <a:pt x="80" y="1383"/>
                  </a:lnTo>
                  <a:lnTo>
                    <a:pt x="68" y="1371"/>
                  </a:lnTo>
                  <a:lnTo>
                    <a:pt x="62" y="1354"/>
                  </a:lnTo>
                  <a:lnTo>
                    <a:pt x="57" y="1337"/>
                  </a:lnTo>
                  <a:lnTo>
                    <a:pt x="51" y="1320"/>
                  </a:lnTo>
                  <a:lnTo>
                    <a:pt x="45" y="1303"/>
                  </a:lnTo>
                  <a:lnTo>
                    <a:pt x="40" y="1286"/>
                  </a:lnTo>
                  <a:lnTo>
                    <a:pt x="34" y="1268"/>
                  </a:lnTo>
                  <a:lnTo>
                    <a:pt x="34" y="1251"/>
                  </a:lnTo>
                  <a:lnTo>
                    <a:pt x="28" y="1234"/>
                  </a:lnTo>
                  <a:lnTo>
                    <a:pt x="22" y="1223"/>
                  </a:lnTo>
                  <a:lnTo>
                    <a:pt x="22" y="1206"/>
                  </a:lnTo>
                  <a:lnTo>
                    <a:pt x="17" y="1188"/>
                  </a:lnTo>
                  <a:lnTo>
                    <a:pt x="11" y="1171"/>
                  </a:lnTo>
                  <a:lnTo>
                    <a:pt x="11" y="1154"/>
                  </a:lnTo>
                  <a:lnTo>
                    <a:pt x="5" y="1137"/>
                  </a:lnTo>
                  <a:lnTo>
                    <a:pt x="5" y="1120"/>
                  </a:lnTo>
                  <a:lnTo>
                    <a:pt x="5" y="1097"/>
                  </a:lnTo>
                  <a:lnTo>
                    <a:pt x="0" y="1080"/>
                  </a:lnTo>
                  <a:lnTo>
                    <a:pt x="0" y="1063"/>
                  </a:lnTo>
                  <a:lnTo>
                    <a:pt x="0" y="1046"/>
                  </a:lnTo>
                  <a:lnTo>
                    <a:pt x="0" y="1028"/>
                  </a:lnTo>
                  <a:lnTo>
                    <a:pt x="0" y="1011"/>
                  </a:lnTo>
                  <a:lnTo>
                    <a:pt x="0" y="994"/>
                  </a:lnTo>
                  <a:lnTo>
                    <a:pt x="0" y="977"/>
                  </a:lnTo>
                  <a:lnTo>
                    <a:pt x="0" y="960"/>
                  </a:lnTo>
                  <a:lnTo>
                    <a:pt x="0" y="943"/>
                  </a:lnTo>
                  <a:lnTo>
                    <a:pt x="0" y="926"/>
                  </a:lnTo>
                  <a:lnTo>
                    <a:pt x="0" y="908"/>
                  </a:lnTo>
                  <a:lnTo>
                    <a:pt x="5" y="891"/>
                  </a:lnTo>
                  <a:lnTo>
                    <a:pt x="5" y="874"/>
                  </a:lnTo>
                  <a:lnTo>
                    <a:pt x="5" y="857"/>
                  </a:lnTo>
                  <a:lnTo>
                    <a:pt x="11" y="840"/>
                  </a:lnTo>
                  <a:lnTo>
                    <a:pt x="11" y="823"/>
                  </a:lnTo>
                  <a:lnTo>
                    <a:pt x="17" y="806"/>
                  </a:lnTo>
                  <a:lnTo>
                    <a:pt x="22" y="788"/>
                  </a:lnTo>
                  <a:lnTo>
                    <a:pt x="22" y="771"/>
                  </a:lnTo>
                  <a:lnTo>
                    <a:pt x="28" y="754"/>
                  </a:lnTo>
                  <a:lnTo>
                    <a:pt x="34" y="737"/>
                  </a:lnTo>
                  <a:lnTo>
                    <a:pt x="34" y="720"/>
                  </a:lnTo>
                  <a:lnTo>
                    <a:pt x="40" y="703"/>
                  </a:lnTo>
                  <a:lnTo>
                    <a:pt x="45" y="686"/>
                  </a:lnTo>
                  <a:lnTo>
                    <a:pt x="51" y="668"/>
                  </a:lnTo>
                  <a:lnTo>
                    <a:pt x="57" y="657"/>
                  </a:lnTo>
                  <a:lnTo>
                    <a:pt x="62" y="640"/>
                  </a:lnTo>
                  <a:lnTo>
                    <a:pt x="68" y="623"/>
                  </a:lnTo>
                  <a:lnTo>
                    <a:pt x="80" y="606"/>
                  </a:lnTo>
                  <a:lnTo>
                    <a:pt x="85" y="588"/>
                  </a:lnTo>
                  <a:lnTo>
                    <a:pt x="91" y="577"/>
                  </a:lnTo>
                  <a:lnTo>
                    <a:pt x="97" y="560"/>
                  </a:lnTo>
                  <a:lnTo>
                    <a:pt x="108" y="543"/>
                  </a:lnTo>
                  <a:lnTo>
                    <a:pt x="114" y="526"/>
                  </a:lnTo>
                  <a:lnTo>
                    <a:pt x="125" y="514"/>
                  </a:lnTo>
                  <a:lnTo>
                    <a:pt x="131" y="497"/>
                  </a:lnTo>
                  <a:lnTo>
                    <a:pt x="142" y="480"/>
                  </a:lnTo>
                  <a:lnTo>
                    <a:pt x="148" y="468"/>
                  </a:lnTo>
                  <a:lnTo>
                    <a:pt x="160" y="451"/>
                  </a:lnTo>
                  <a:lnTo>
                    <a:pt x="165" y="440"/>
                  </a:lnTo>
                  <a:lnTo>
                    <a:pt x="177" y="423"/>
                  </a:lnTo>
                  <a:lnTo>
                    <a:pt x="188" y="411"/>
                  </a:lnTo>
                  <a:lnTo>
                    <a:pt x="200" y="394"/>
                  </a:lnTo>
                  <a:lnTo>
                    <a:pt x="211" y="383"/>
                  </a:lnTo>
                  <a:lnTo>
                    <a:pt x="222" y="366"/>
                  </a:lnTo>
                  <a:lnTo>
                    <a:pt x="228" y="354"/>
                  </a:lnTo>
                  <a:lnTo>
                    <a:pt x="240" y="343"/>
                  </a:lnTo>
                  <a:lnTo>
                    <a:pt x="251" y="326"/>
                  </a:lnTo>
                  <a:lnTo>
                    <a:pt x="262" y="314"/>
                  </a:lnTo>
                  <a:lnTo>
                    <a:pt x="280" y="303"/>
                  </a:lnTo>
                  <a:lnTo>
                    <a:pt x="291" y="291"/>
                  </a:lnTo>
                  <a:lnTo>
                    <a:pt x="302" y="280"/>
                  </a:lnTo>
                  <a:lnTo>
                    <a:pt x="314" y="268"/>
                  </a:lnTo>
                  <a:lnTo>
                    <a:pt x="325" y="257"/>
                  </a:lnTo>
                  <a:lnTo>
                    <a:pt x="342" y="246"/>
                  </a:lnTo>
                  <a:lnTo>
                    <a:pt x="354" y="234"/>
                  </a:lnTo>
                  <a:lnTo>
                    <a:pt x="365" y="223"/>
                  </a:lnTo>
                  <a:lnTo>
                    <a:pt x="382" y="211"/>
                  </a:lnTo>
                  <a:lnTo>
                    <a:pt x="394" y="200"/>
                  </a:lnTo>
                  <a:lnTo>
                    <a:pt x="405" y="188"/>
                  </a:lnTo>
                  <a:lnTo>
                    <a:pt x="422" y="177"/>
                  </a:lnTo>
                  <a:lnTo>
                    <a:pt x="434" y="171"/>
                  </a:lnTo>
                  <a:lnTo>
                    <a:pt x="451" y="160"/>
                  </a:lnTo>
                  <a:lnTo>
                    <a:pt x="468" y="148"/>
                  </a:lnTo>
                  <a:lnTo>
                    <a:pt x="480" y="143"/>
                  </a:lnTo>
                  <a:lnTo>
                    <a:pt x="497" y="131"/>
                  </a:lnTo>
                  <a:lnTo>
                    <a:pt x="508" y="126"/>
                  </a:lnTo>
                  <a:lnTo>
                    <a:pt x="525" y="114"/>
                  </a:lnTo>
                  <a:lnTo>
                    <a:pt x="542" y="108"/>
                  </a:lnTo>
                  <a:lnTo>
                    <a:pt x="554" y="97"/>
                  </a:lnTo>
                  <a:lnTo>
                    <a:pt x="571" y="91"/>
                  </a:lnTo>
                  <a:lnTo>
                    <a:pt x="588" y="86"/>
                  </a:lnTo>
                  <a:lnTo>
                    <a:pt x="605" y="80"/>
                  </a:lnTo>
                  <a:lnTo>
                    <a:pt x="622" y="68"/>
                  </a:lnTo>
                  <a:lnTo>
                    <a:pt x="634" y="63"/>
                  </a:lnTo>
                  <a:lnTo>
                    <a:pt x="651" y="57"/>
                  </a:lnTo>
                  <a:lnTo>
                    <a:pt x="668" y="51"/>
                  </a:lnTo>
                  <a:lnTo>
                    <a:pt x="685" y="46"/>
                  </a:lnTo>
                  <a:lnTo>
                    <a:pt x="702" y="40"/>
                  </a:lnTo>
                  <a:lnTo>
                    <a:pt x="720" y="40"/>
                  </a:lnTo>
                  <a:lnTo>
                    <a:pt x="737" y="34"/>
                  </a:lnTo>
                  <a:lnTo>
                    <a:pt x="754" y="28"/>
                  </a:lnTo>
                  <a:lnTo>
                    <a:pt x="771" y="23"/>
                  </a:lnTo>
                  <a:lnTo>
                    <a:pt x="788" y="23"/>
                  </a:lnTo>
                  <a:lnTo>
                    <a:pt x="805" y="17"/>
                  </a:lnTo>
                  <a:lnTo>
                    <a:pt x="822" y="11"/>
                  </a:lnTo>
                  <a:lnTo>
                    <a:pt x="840" y="11"/>
                  </a:lnTo>
                  <a:lnTo>
                    <a:pt x="857" y="6"/>
                  </a:lnTo>
                  <a:lnTo>
                    <a:pt x="874" y="6"/>
                  </a:lnTo>
                  <a:lnTo>
                    <a:pt x="891" y="6"/>
                  </a:lnTo>
                  <a:lnTo>
                    <a:pt x="908" y="0"/>
                  </a:lnTo>
                  <a:lnTo>
                    <a:pt x="925" y="0"/>
                  </a:lnTo>
                  <a:lnTo>
                    <a:pt x="942" y="0"/>
                  </a:lnTo>
                  <a:lnTo>
                    <a:pt x="960" y="0"/>
                  </a:lnTo>
                  <a:lnTo>
                    <a:pt x="977" y="0"/>
                  </a:lnTo>
                  <a:lnTo>
                    <a:pt x="994" y="0"/>
                  </a:lnTo>
                  <a:lnTo>
                    <a:pt x="994" y="497"/>
                  </a:lnTo>
                  <a:lnTo>
                    <a:pt x="982" y="497"/>
                  </a:lnTo>
                  <a:lnTo>
                    <a:pt x="977" y="497"/>
                  </a:lnTo>
                  <a:lnTo>
                    <a:pt x="965" y="497"/>
                  </a:lnTo>
                  <a:lnTo>
                    <a:pt x="960" y="497"/>
                  </a:lnTo>
                  <a:lnTo>
                    <a:pt x="948" y="497"/>
                  </a:lnTo>
                  <a:lnTo>
                    <a:pt x="942" y="497"/>
                  </a:lnTo>
                  <a:lnTo>
                    <a:pt x="931" y="497"/>
                  </a:lnTo>
                  <a:lnTo>
                    <a:pt x="925" y="503"/>
                  </a:lnTo>
                  <a:lnTo>
                    <a:pt x="914" y="503"/>
                  </a:lnTo>
                  <a:lnTo>
                    <a:pt x="908" y="503"/>
                  </a:lnTo>
                  <a:lnTo>
                    <a:pt x="897" y="503"/>
                  </a:lnTo>
                  <a:lnTo>
                    <a:pt x="891" y="508"/>
                  </a:lnTo>
                  <a:lnTo>
                    <a:pt x="880" y="508"/>
                  </a:lnTo>
                  <a:lnTo>
                    <a:pt x="874" y="508"/>
                  </a:lnTo>
                  <a:lnTo>
                    <a:pt x="862" y="514"/>
                  </a:lnTo>
                  <a:lnTo>
                    <a:pt x="857" y="514"/>
                  </a:lnTo>
                  <a:lnTo>
                    <a:pt x="845" y="520"/>
                  </a:lnTo>
                  <a:lnTo>
                    <a:pt x="840" y="520"/>
                  </a:lnTo>
                  <a:lnTo>
                    <a:pt x="828" y="526"/>
                  </a:lnTo>
                  <a:lnTo>
                    <a:pt x="822" y="526"/>
                  </a:lnTo>
                  <a:lnTo>
                    <a:pt x="817" y="531"/>
                  </a:lnTo>
                  <a:lnTo>
                    <a:pt x="805" y="531"/>
                  </a:lnTo>
                  <a:lnTo>
                    <a:pt x="800" y="537"/>
                  </a:lnTo>
                  <a:lnTo>
                    <a:pt x="788" y="537"/>
                  </a:lnTo>
                  <a:lnTo>
                    <a:pt x="782" y="543"/>
                  </a:lnTo>
                  <a:lnTo>
                    <a:pt x="777" y="548"/>
                  </a:lnTo>
                  <a:lnTo>
                    <a:pt x="765" y="548"/>
                  </a:lnTo>
                  <a:lnTo>
                    <a:pt x="760" y="554"/>
                  </a:lnTo>
                  <a:lnTo>
                    <a:pt x="754" y="560"/>
                  </a:lnTo>
                  <a:lnTo>
                    <a:pt x="742" y="560"/>
                  </a:lnTo>
                  <a:lnTo>
                    <a:pt x="737" y="566"/>
                  </a:lnTo>
                  <a:lnTo>
                    <a:pt x="731" y="571"/>
                  </a:lnTo>
                  <a:lnTo>
                    <a:pt x="720" y="577"/>
                  </a:lnTo>
                  <a:lnTo>
                    <a:pt x="714" y="583"/>
                  </a:lnTo>
                  <a:lnTo>
                    <a:pt x="708" y="588"/>
                  </a:lnTo>
                  <a:lnTo>
                    <a:pt x="702" y="588"/>
                  </a:lnTo>
                  <a:lnTo>
                    <a:pt x="691" y="594"/>
                  </a:lnTo>
                  <a:lnTo>
                    <a:pt x="685" y="600"/>
                  </a:lnTo>
                  <a:lnTo>
                    <a:pt x="680" y="606"/>
                  </a:lnTo>
                  <a:lnTo>
                    <a:pt x="674" y="611"/>
                  </a:lnTo>
                  <a:lnTo>
                    <a:pt x="668" y="617"/>
                  </a:lnTo>
                  <a:lnTo>
                    <a:pt x="662" y="623"/>
                  </a:lnTo>
                  <a:lnTo>
                    <a:pt x="651" y="628"/>
                  </a:lnTo>
                  <a:lnTo>
                    <a:pt x="645" y="634"/>
                  </a:lnTo>
                  <a:lnTo>
                    <a:pt x="640" y="640"/>
                  </a:lnTo>
                  <a:lnTo>
                    <a:pt x="634" y="646"/>
                  </a:lnTo>
                  <a:lnTo>
                    <a:pt x="628" y="657"/>
                  </a:lnTo>
                  <a:lnTo>
                    <a:pt x="622" y="663"/>
                  </a:lnTo>
                  <a:lnTo>
                    <a:pt x="617" y="668"/>
                  </a:lnTo>
                  <a:lnTo>
                    <a:pt x="611" y="674"/>
                  </a:lnTo>
                  <a:lnTo>
                    <a:pt x="605" y="680"/>
                  </a:lnTo>
                  <a:lnTo>
                    <a:pt x="600" y="686"/>
                  </a:lnTo>
                  <a:lnTo>
                    <a:pt x="594" y="697"/>
                  </a:lnTo>
                  <a:lnTo>
                    <a:pt x="588" y="703"/>
                  </a:lnTo>
                  <a:lnTo>
                    <a:pt x="582" y="708"/>
                  </a:lnTo>
                  <a:lnTo>
                    <a:pt x="582" y="714"/>
                  </a:lnTo>
                  <a:lnTo>
                    <a:pt x="577" y="726"/>
                  </a:lnTo>
                  <a:lnTo>
                    <a:pt x="571" y="731"/>
                  </a:lnTo>
                  <a:lnTo>
                    <a:pt x="565" y="737"/>
                  </a:lnTo>
                  <a:lnTo>
                    <a:pt x="560" y="743"/>
                  </a:lnTo>
                  <a:lnTo>
                    <a:pt x="560" y="754"/>
                  </a:lnTo>
                  <a:lnTo>
                    <a:pt x="554" y="760"/>
                  </a:lnTo>
                  <a:lnTo>
                    <a:pt x="548" y="771"/>
                  </a:lnTo>
                  <a:lnTo>
                    <a:pt x="548" y="777"/>
                  </a:lnTo>
                  <a:lnTo>
                    <a:pt x="542" y="783"/>
                  </a:lnTo>
                  <a:lnTo>
                    <a:pt x="537" y="794"/>
                  </a:lnTo>
                  <a:lnTo>
                    <a:pt x="537" y="800"/>
                  </a:lnTo>
                  <a:lnTo>
                    <a:pt x="531" y="806"/>
                  </a:lnTo>
                  <a:lnTo>
                    <a:pt x="531" y="817"/>
                  </a:lnTo>
                  <a:lnTo>
                    <a:pt x="525" y="823"/>
                  </a:lnTo>
                  <a:lnTo>
                    <a:pt x="520" y="834"/>
                  </a:lnTo>
                  <a:lnTo>
                    <a:pt x="520" y="840"/>
                  </a:lnTo>
                  <a:lnTo>
                    <a:pt x="520" y="851"/>
                  </a:lnTo>
                  <a:lnTo>
                    <a:pt x="514" y="857"/>
                  </a:lnTo>
                  <a:lnTo>
                    <a:pt x="514" y="868"/>
                  </a:lnTo>
                  <a:lnTo>
                    <a:pt x="508" y="874"/>
                  </a:lnTo>
                  <a:lnTo>
                    <a:pt x="508" y="886"/>
                  </a:lnTo>
                  <a:lnTo>
                    <a:pt x="508" y="891"/>
                  </a:lnTo>
                  <a:lnTo>
                    <a:pt x="502" y="903"/>
                  </a:lnTo>
                  <a:lnTo>
                    <a:pt x="502" y="908"/>
                  </a:lnTo>
                  <a:lnTo>
                    <a:pt x="502" y="920"/>
                  </a:lnTo>
                  <a:lnTo>
                    <a:pt x="502" y="926"/>
                  </a:lnTo>
                  <a:lnTo>
                    <a:pt x="497" y="937"/>
                  </a:lnTo>
                  <a:lnTo>
                    <a:pt x="497" y="943"/>
                  </a:lnTo>
                  <a:lnTo>
                    <a:pt x="497" y="954"/>
                  </a:lnTo>
                  <a:lnTo>
                    <a:pt x="497" y="960"/>
                  </a:lnTo>
                  <a:lnTo>
                    <a:pt x="497" y="971"/>
                  </a:lnTo>
                  <a:lnTo>
                    <a:pt x="497" y="977"/>
                  </a:lnTo>
                  <a:lnTo>
                    <a:pt x="497" y="988"/>
                  </a:lnTo>
                  <a:lnTo>
                    <a:pt x="497" y="994"/>
                  </a:lnTo>
                  <a:lnTo>
                    <a:pt x="497" y="1006"/>
                  </a:lnTo>
                  <a:lnTo>
                    <a:pt x="497" y="1011"/>
                  </a:lnTo>
                  <a:lnTo>
                    <a:pt x="497" y="1023"/>
                  </a:lnTo>
                  <a:lnTo>
                    <a:pt x="497" y="1028"/>
                  </a:lnTo>
                  <a:lnTo>
                    <a:pt x="497" y="1040"/>
                  </a:lnTo>
                  <a:lnTo>
                    <a:pt x="497" y="1046"/>
                  </a:lnTo>
                  <a:lnTo>
                    <a:pt x="497" y="1057"/>
                  </a:lnTo>
                  <a:lnTo>
                    <a:pt x="502" y="1063"/>
                  </a:lnTo>
                  <a:lnTo>
                    <a:pt x="502" y="1074"/>
                  </a:lnTo>
                  <a:lnTo>
                    <a:pt x="502" y="1080"/>
                  </a:lnTo>
                  <a:lnTo>
                    <a:pt x="502" y="1091"/>
                  </a:lnTo>
                  <a:lnTo>
                    <a:pt x="508" y="1097"/>
                  </a:lnTo>
                  <a:lnTo>
                    <a:pt x="508" y="1108"/>
                  </a:lnTo>
                  <a:lnTo>
                    <a:pt x="508" y="1114"/>
                  </a:lnTo>
                  <a:lnTo>
                    <a:pt x="514" y="1126"/>
                  </a:lnTo>
                  <a:lnTo>
                    <a:pt x="514" y="1131"/>
                  </a:lnTo>
                  <a:lnTo>
                    <a:pt x="520" y="1143"/>
                  </a:lnTo>
                  <a:lnTo>
                    <a:pt x="520" y="1148"/>
                  </a:lnTo>
                  <a:lnTo>
                    <a:pt x="520" y="1160"/>
                  </a:lnTo>
                  <a:lnTo>
                    <a:pt x="525" y="1166"/>
                  </a:lnTo>
                  <a:lnTo>
                    <a:pt x="531" y="1177"/>
                  </a:lnTo>
                  <a:lnTo>
                    <a:pt x="531" y="1183"/>
                  </a:lnTo>
                  <a:lnTo>
                    <a:pt x="537" y="1188"/>
                  </a:lnTo>
                  <a:lnTo>
                    <a:pt x="537" y="1200"/>
                  </a:lnTo>
                  <a:lnTo>
                    <a:pt x="542" y="1206"/>
                  </a:lnTo>
                  <a:lnTo>
                    <a:pt x="548" y="1217"/>
                  </a:lnTo>
                  <a:lnTo>
                    <a:pt x="548" y="1223"/>
                  </a:lnTo>
                  <a:lnTo>
                    <a:pt x="554" y="1228"/>
                  </a:lnTo>
                  <a:lnTo>
                    <a:pt x="560" y="1240"/>
                  </a:lnTo>
                  <a:lnTo>
                    <a:pt x="560" y="1246"/>
                  </a:lnTo>
                  <a:lnTo>
                    <a:pt x="131" y="1497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WordArt 15"/>
            <p:cNvSpPr txBox="1"/>
            <p:nvPr/>
          </p:nvSpPr>
          <p:spPr>
            <a:xfrm rot="17998800">
              <a:off x="5345640" y="2219400"/>
              <a:ext cx="2089080" cy="14014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162997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Targeted Interventions</a:t>
              </a:r>
              <a:endPara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89" name="Freeform 17"/>
          <p:cNvSpPr/>
          <p:nvPr/>
        </p:nvSpPr>
        <p:spPr>
          <a:xfrm>
            <a:off x="6869160" y="1631880"/>
            <a:ext cx="1577880" cy="2376720"/>
          </a:xfrm>
          <a:custGeom>
            <a:avLst/>
            <a:gdLst/>
            <a:ahLst/>
            <a:rect l="l" t="t" r="r" b="b"/>
            <a:pathLst>
              <a:path w="994" h="1497">
                <a:moveTo>
                  <a:pt x="0" y="0"/>
                </a:moveTo>
                <a:lnTo>
                  <a:pt x="17" y="0"/>
                </a:lnTo>
                <a:lnTo>
                  <a:pt x="34" y="0"/>
                </a:lnTo>
                <a:lnTo>
                  <a:pt x="51" y="0"/>
                </a:lnTo>
                <a:lnTo>
                  <a:pt x="68" y="0"/>
                </a:lnTo>
                <a:lnTo>
                  <a:pt x="85" y="0"/>
                </a:lnTo>
                <a:lnTo>
                  <a:pt x="103" y="6"/>
                </a:lnTo>
                <a:lnTo>
                  <a:pt x="120" y="6"/>
                </a:lnTo>
                <a:lnTo>
                  <a:pt x="137" y="6"/>
                </a:lnTo>
                <a:lnTo>
                  <a:pt x="154" y="11"/>
                </a:lnTo>
                <a:lnTo>
                  <a:pt x="171" y="11"/>
                </a:lnTo>
                <a:lnTo>
                  <a:pt x="188" y="17"/>
                </a:lnTo>
                <a:lnTo>
                  <a:pt x="205" y="23"/>
                </a:lnTo>
                <a:lnTo>
                  <a:pt x="223" y="23"/>
                </a:lnTo>
                <a:lnTo>
                  <a:pt x="240" y="28"/>
                </a:lnTo>
                <a:lnTo>
                  <a:pt x="257" y="34"/>
                </a:lnTo>
                <a:lnTo>
                  <a:pt x="274" y="40"/>
                </a:lnTo>
                <a:lnTo>
                  <a:pt x="291" y="40"/>
                </a:lnTo>
                <a:lnTo>
                  <a:pt x="308" y="46"/>
                </a:lnTo>
                <a:lnTo>
                  <a:pt x="320" y="51"/>
                </a:lnTo>
                <a:lnTo>
                  <a:pt x="337" y="57"/>
                </a:lnTo>
                <a:lnTo>
                  <a:pt x="354" y="63"/>
                </a:lnTo>
                <a:lnTo>
                  <a:pt x="371" y="68"/>
                </a:lnTo>
                <a:lnTo>
                  <a:pt x="388" y="80"/>
                </a:lnTo>
                <a:lnTo>
                  <a:pt x="405" y="86"/>
                </a:lnTo>
                <a:lnTo>
                  <a:pt x="417" y="91"/>
                </a:lnTo>
                <a:lnTo>
                  <a:pt x="434" y="97"/>
                </a:lnTo>
                <a:lnTo>
                  <a:pt x="451" y="108"/>
                </a:lnTo>
                <a:lnTo>
                  <a:pt x="463" y="114"/>
                </a:lnTo>
                <a:lnTo>
                  <a:pt x="480" y="126"/>
                </a:lnTo>
                <a:lnTo>
                  <a:pt x="497" y="131"/>
                </a:lnTo>
                <a:lnTo>
                  <a:pt x="508" y="143"/>
                </a:lnTo>
                <a:lnTo>
                  <a:pt x="525" y="148"/>
                </a:lnTo>
                <a:lnTo>
                  <a:pt x="543" y="160"/>
                </a:lnTo>
                <a:lnTo>
                  <a:pt x="554" y="171"/>
                </a:lnTo>
                <a:lnTo>
                  <a:pt x="571" y="177"/>
                </a:lnTo>
                <a:lnTo>
                  <a:pt x="583" y="188"/>
                </a:lnTo>
                <a:lnTo>
                  <a:pt x="594" y="200"/>
                </a:lnTo>
                <a:lnTo>
                  <a:pt x="611" y="211"/>
                </a:lnTo>
                <a:lnTo>
                  <a:pt x="623" y="223"/>
                </a:lnTo>
                <a:lnTo>
                  <a:pt x="640" y="234"/>
                </a:lnTo>
                <a:lnTo>
                  <a:pt x="651" y="246"/>
                </a:lnTo>
                <a:lnTo>
                  <a:pt x="663" y="257"/>
                </a:lnTo>
                <a:lnTo>
                  <a:pt x="674" y="268"/>
                </a:lnTo>
                <a:lnTo>
                  <a:pt x="691" y="280"/>
                </a:lnTo>
                <a:lnTo>
                  <a:pt x="703" y="291"/>
                </a:lnTo>
                <a:lnTo>
                  <a:pt x="714" y="303"/>
                </a:lnTo>
                <a:lnTo>
                  <a:pt x="725" y="314"/>
                </a:lnTo>
                <a:lnTo>
                  <a:pt x="737" y="326"/>
                </a:lnTo>
                <a:lnTo>
                  <a:pt x="748" y="343"/>
                </a:lnTo>
                <a:lnTo>
                  <a:pt x="760" y="354"/>
                </a:lnTo>
                <a:lnTo>
                  <a:pt x="771" y="366"/>
                </a:lnTo>
                <a:lnTo>
                  <a:pt x="783" y="383"/>
                </a:lnTo>
                <a:lnTo>
                  <a:pt x="794" y="394"/>
                </a:lnTo>
                <a:lnTo>
                  <a:pt x="805" y="411"/>
                </a:lnTo>
                <a:lnTo>
                  <a:pt x="811" y="423"/>
                </a:lnTo>
                <a:lnTo>
                  <a:pt x="823" y="440"/>
                </a:lnTo>
                <a:lnTo>
                  <a:pt x="834" y="451"/>
                </a:lnTo>
                <a:lnTo>
                  <a:pt x="840" y="468"/>
                </a:lnTo>
                <a:lnTo>
                  <a:pt x="851" y="480"/>
                </a:lnTo>
                <a:lnTo>
                  <a:pt x="857" y="497"/>
                </a:lnTo>
                <a:lnTo>
                  <a:pt x="868" y="514"/>
                </a:lnTo>
                <a:lnTo>
                  <a:pt x="874" y="526"/>
                </a:lnTo>
                <a:lnTo>
                  <a:pt x="885" y="543"/>
                </a:lnTo>
                <a:lnTo>
                  <a:pt x="891" y="560"/>
                </a:lnTo>
                <a:lnTo>
                  <a:pt x="897" y="577"/>
                </a:lnTo>
                <a:lnTo>
                  <a:pt x="908" y="588"/>
                </a:lnTo>
                <a:lnTo>
                  <a:pt x="914" y="606"/>
                </a:lnTo>
                <a:lnTo>
                  <a:pt x="920" y="623"/>
                </a:lnTo>
                <a:lnTo>
                  <a:pt x="925" y="640"/>
                </a:lnTo>
                <a:lnTo>
                  <a:pt x="931" y="657"/>
                </a:lnTo>
                <a:lnTo>
                  <a:pt x="937" y="668"/>
                </a:lnTo>
                <a:lnTo>
                  <a:pt x="943" y="686"/>
                </a:lnTo>
                <a:lnTo>
                  <a:pt x="948" y="703"/>
                </a:lnTo>
                <a:lnTo>
                  <a:pt x="954" y="720"/>
                </a:lnTo>
                <a:lnTo>
                  <a:pt x="960" y="737"/>
                </a:lnTo>
                <a:lnTo>
                  <a:pt x="965" y="754"/>
                </a:lnTo>
                <a:lnTo>
                  <a:pt x="965" y="771"/>
                </a:lnTo>
                <a:lnTo>
                  <a:pt x="971" y="788"/>
                </a:lnTo>
                <a:lnTo>
                  <a:pt x="977" y="806"/>
                </a:lnTo>
                <a:lnTo>
                  <a:pt x="977" y="823"/>
                </a:lnTo>
                <a:lnTo>
                  <a:pt x="983" y="840"/>
                </a:lnTo>
                <a:lnTo>
                  <a:pt x="983" y="857"/>
                </a:lnTo>
                <a:lnTo>
                  <a:pt x="983" y="874"/>
                </a:lnTo>
                <a:lnTo>
                  <a:pt x="988" y="891"/>
                </a:lnTo>
                <a:lnTo>
                  <a:pt x="988" y="908"/>
                </a:lnTo>
                <a:lnTo>
                  <a:pt x="988" y="926"/>
                </a:lnTo>
                <a:lnTo>
                  <a:pt x="994" y="943"/>
                </a:lnTo>
                <a:lnTo>
                  <a:pt x="994" y="960"/>
                </a:lnTo>
                <a:lnTo>
                  <a:pt x="994" y="977"/>
                </a:lnTo>
                <a:lnTo>
                  <a:pt x="994" y="994"/>
                </a:lnTo>
                <a:lnTo>
                  <a:pt x="994" y="1011"/>
                </a:lnTo>
                <a:lnTo>
                  <a:pt x="994" y="1028"/>
                </a:lnTo>
                <a:lnTo>
                  <a:pt x="994" y="1046"/>
                </a:lnTo>
                <a:lnTo>
                  <a:pt x="988" y="1063"/>
                </a:lnTo>
                <a:lnTo>
                  <a:pt x="988" y="1080"/>
                </a:lnTo>
                <a:lnTo>
                  <a:pt x="988" y="1097"/>
                </a:lnTo>
                <a:lnTo>
                  <a:pt x="983" y="1120"/>
                </a:lnTo>
                <a:lnTo>
                  <a:pt x="983" y="1137"/>
                </a:lnTo>
                <a:lnTo>
                  <a:pt x="983" y="1154"/>
                </a:lnTo>
                <a:lnTo>
                  <a:pt x="977" y="1171"/>
                </a:lnTo>
                <a:lnTo>
                  <a:pt x="977" y="1188"/>
                </a:lnTo>
                <a:lnTo>
                  <a:pt x="971" y="1206"/>
                </a:lnTo>
                <a:lnTo>
                  <a:pt x="965" y="1223"/>
                </a:lnTo>
                <a:lnTo>
                  <a:pt x="965" y="1234"/>
                </a:lnTo>
                <a:lnTo>
                  <a:pt x="960" y="1251"/>
                </a:lnTo>
                <a:lnTo>
                  <a:pt x="954" y="1268"/>
                </a:lnTo>
                <a:lnTo>
                  <a:pt x="948" y="1286"/>
                </a:lnTo>
                <a:lnTo>
                  <a:pt x="943" y="1303"/>
                </a:lnTo>
                <a:lnTo>
                  <a:pt x="937" y="1320"/>
                </a:lnTo>
                <a:lnTo>
                  <a:pt x="931" y="1337"/>
                </a:lnTo>
                <a:lnTo>
                  <a:pt x="925" y="1354"/>
                </a:lnTo>
                <a:lnTo>
                  <a:pt x="920" y="1371"/>
                </a:lnTo>
                <a:lnTo>
                  <a:pt x="914" y="1383"/>
                </a:lnTo>
                <a:lnTo>
                  <a:pt x="908" y="1400"/>
                </a:lnTo>
                <a:lnTo>
                  <a:pt x="897" y="1417"/>
                </a:lnTo>
                <a:lnTo>
                  <a:pt x="891" y="1434"/>
                </a:lnTo>
                <a:lnTo>
                  <a:pt x="885" y="1446"/>
                </a:lnTo>
                <a:lnTo>
                  <a:pt x="874" y="1463"/>
                </a:lnTo>
                <a:lnTo>
                  <a:pt x="868" y="1480"/>
                </a:lnTo>
                <a:lnTo>
                  <a:pt x="857" y="1497"/>
                </a:lnTo>
                <a:lnTo>
                  <a:pt x="428" y="1246"/>
                </a:lnTo>
                <a:lnTo>
                  <a:pt x="434" y="1240"/>
                </a:lnTo>
                <a:lnTo>
                  <a:pt x="440" y="1228"/>
                </a:lnTo>
                <a:lnTo>
                  <a:pt x="440" y="1223"/>
                </a:lnTo>
                <a:lnTo>
                  <a:pt x="445" y="1217"/>
                </a:lnTo>
                <a:lnTo>
                  <a:pt x="451" y="1206"/>
                </a:lnTo>
                <a:lnTo>
                  <a:pt x="451" y="1200"/>
                </a:lnTo>
                <a:lnTo>
                  <a:pt x="457" y="1188"/>
                </a:lnTo>
                <a:lnTo>
                  <a:pt x="457" y="1183"/>
                </a:lnTo>
                <a:lnTo>
                  <a:pt x="463" y="1177"/>
                </a:lnTo>
                <a:lnTo>
                  <a:pt x="468" y="1166"/>
                </a:lnTo>
                <a:lnTo>
                  <a:pt x="468" y="1160"/>
                </a:lnTo>
                <a:lnTo>
                  <a:pt x="468" y="1148"/>
                </a:lnTo>
                <a:lnTo>
                  <a:pt x="474" y="1143"/>
                </a:lnTo>
                <a:lnTo>
                  <a:pt x="474" y="1131"/>
                </a:lnTo>
                <a:lnTo>
                  <a:pt x="480" y="1126"/>
                </a:lnTo>
                <a:lnTo>
                  <a:pt x="480" y="1114"/>
                </a:lnTo>
                <a:lnTo>
                  <a:pt x="485" y="1108"/>
                </a:lnTo>
                <a:lnTo>
                  <a:pt x="485" y="1097"/>
                </a:lnTo>
                <a:lnTo>
                  <a:pt x="485" y="1091"/>
                </a:lnTo>
                <a:lnTo>
                  <a:pt x="485" y="1080"/>
                </a:lnTo>
                <a:lnTo>
                  <a:pt x="491" y="1074"/>
                </a:lnTo>
                <a:lnTo>
                  <a:pt x="491" y="1063"/>
                </a:lnTo>
                <a:lnTo>
                  <a:pt x="491" y="1057"/>
                </a:lnTo>
                <a:lnTo>
                  <a:pt x="491" y="1046"/>
                </a:lnTo>
                <a:lnTo>
                  <a:pt x="491" y="1040"/>
                </a:lnTo>
                <a:lnTo>
                  <a:pt x="497" y="1028"/>
                </a:lnTo>
                <a:lnTo>
                  <a:pt x="497" y="1023"/>
                </a:lnTo>
                <a:lnTo>
                  <a:pt x="497" y="1011"/>
                </a:lnTo>
                <a:lnTo>
                  <a:pt x="497" y="1006"/>
                </a:lnTo>
                <a:lnTo>
                  <a:pt x="497" y="994"/>
                </a:lnTo>
                <a:lnTo>
                  <a:pt x="497" y="988"/>
                </a:lnTo>
                <a:lnTo>
                  <a:pt x="497" y="977"/>
                </a:lnTo>
                <a:lnTo>
                  <a:pt x="497" y="971"/>
                </a:lnTo>
                <a:lnTo>
                  <a:pt x="497" y="960"/>
                </a:lnTo>
                <a:lnTo>
                  <a:pt x="491" y="954"/>
                </a:lnTo>
                <a:lnTo>
                  <a:pt x="491" y="943"/>
                </a:lnTo>
                <a:lnTo>
                  <a:pt x="491" y="937"/>
                </a:lnTo>
                <a:lnTo>
                  <a:pt x="491" y="926"/>
                </a:lnTo>
                <a:lnTo>
                  <a:pt x="491" y="920"/>
                </a:lnTo>
                <a:lnTo>
                  <a:pt x="485" y="908"/>
                </a:lnTo>
                <a:lnTo>
                  <a:pt x="485" y="903"/>
                </a:lnTo>
                <a:lnTo>
                  <a:pt x="485" y="891"/>
                </a:lnTo>
                <a:lnTo>
                  <a:pt x="485" y="886"/>
                </a:lnTo>
                <a:lnTo>
                  <a:pt x="480" y="874"/>
                </a:lnTo>
                <a:lnTo>
                  <a:pt x="480" y="868"/>
                </a:lnTo>
                <a:lnTo>
                  <a:pt x="474" y="857"/>
                </a:lnTo>
                <a:lnTo>
                  <a:pt x="474" y="851"/>
                </a:lnTo>
                <a:lnTo>
                  <a:pt x="468" y="840"/>
                </a:lnTo>
                <a:lnTo>
                  <a:pt x="468" y="834"/>
                </a:lnTo>
                <a:lnTo>
                  <a:pt x="468" y="823"/>
                </a:lnTo>
                <a:lnTo>
                  <a:pt x="463" y="817"/>
                </a:lnTo>
                <a:lnTo>
                  <a:pt x="457" y="806"/>
                </a:lnTo>
                <a:lnTo>
                  <a:pt x="457" y="800"/>
                </a:lnTo>
                <a:lnTo>
                  <a:pt x="451" y="794"/>
                </a:lnTo>
                <a:lnTo>
                  <a:pt x="451" y="783"/>
                </a:lnTo>
                <a:lnTo>
                  <a:pt x="445" y="777"/>
                </a:lnTo>
                <a:lnTo>
                  <a:pt x="440" y="771"/>
                </a:lnTo>
                <a:lnTo>
                  <a:pt x="440" y="760"/>
                </a:lnTo>
                <a:lnTo>
                  <a:pt x="434" y="754"/>
                </a:lnTo>
                <a:lnTo>
                  <a:pt x="428" y="743"/>
                </a:lnTo>
                <a:lnTo>
                  <a:pt x="423" y="737"/>
                </a:lnTo>
                <a:lnTo>
                  <a:pt x="423" y="731"/>
                </a:lnTo>
                <a:lnTo>
                  <a:pt x="417" y="726"/>
                </a:lnTo>
                <a:lnTo>
                  <a:pt x="411" y="714"/>
                </a:lnTo>
                <a:lnTo>
                  <a:pt x="405" y="708"/>
                </a:lnTo>
                <a:lnTo>
                  <a:pt x="400" y="703"/>
                </a:lnTo>
                <a:lnTo>
                  <a:pt x="394" y="697"/>
                </a:lnTo>
                <a:lnTo>
                  <a:pt x="388" y="686"/>
                </a:lnTo>
                <a:lnTo>
                  <a:pt x="383" y="680"/>
                </a:lnTo>
                <a:lnTo>
                  <a:pt x="377" y="674"/>
                </a:lnTo>
                <a:lnTo>
                  <a:pt x="371" y="668"/>
                </a:lnTo>
                <a:lnTo>
                  <a:pt x="365" y="663"/>
                </a:lnTo>
                <a:lnTo>
                  <a:pt x="360" y="657"/>
                </a:lnTo>
                <a:lnTo>
                  <a:pt x="354" y="646"/>
                </a:lnTo>
                <a:lnTo>
                  <a:pt x="348" y="640"/>
                </a:lnTo>
                <a:lnTo>
                  <a:pt x="343" y="634"/>
                </a:lnTo>
                <a:lnTo>
                  <a:pt x="337" y="628"/>
                </a:lnTo>
                <a:lnTo>
                  <a:pt x="331" y="623"/>
                </a:lnTo>
                <a:lnTo>
                  <a:pt x="325" y="617"/>
                </a:lnTo>
                <a:lnTo>
                  <a:pt x="320" y="611"/>
                </a:lnTo>
                <a:lnTo>
                  <a:pt x="314" y="606"/>
                </a:lnTo>
                <a:lnTo>
                  <a:pt x="303" y="600"/>
                </a:lnTo>
                <a:lnTo>
                  <a:pt x="297" y="594"/>
                </a:lnTo>
                <a:lnTo>
                  <a:pt x="291" y="588"/>
                </a:lnTo>
                <a:lnTo>
                  <a:pt x="285" y="588"/>
                </a:lnTo>
                <a:lnTo>
                  <a:pt x="274" y="583"/>
                </a:lnTo>
                <a:lnTo>
                  <a:pt x="268" y="577"/>
                </a:lnTo>
                <a:lnTo>
                  <a:pt x="263" y="571"/>
                </a:lnTo>
                <a:lnTo>
                  <a:pt x="257" y="566"/>
                </a:lnTo>
                <a:lnTo>
                  <a:pt x="245" y="560"/>
                </a:lnTo>
                <a:lnTo>
                  <a:pt x="240" y="560"/>
                </a:lnTo>
                <a:lnTo>
                  <a:pt x="234" y="554"/>
                </a:lnTo>
                <a:lnTo>
                  <a:pt x="223" y="548"/>
                </a:lnTo>
                <a:lnTo>
                  <a:pt x="217" y="548"/>
                </a:lnTo>
                <a:lnTo>
                  <a:pt x="211" y="543"/>
                </a:lnTo>
                <a:lnTo>
                  <a:pt x="200" y="537"/>
                </a:lnTo>
                <a:lnTo>
                  <a:pt x="194" y="537"/>
                </a:lnTo>
                <a:lnTo>
                  <a:pt x="183" y="531"/>
                </a:lnTo>
                <a:lnTo>
                  <a:pt x="177" y="531"/>
                </a:lnTo>
                <a:lnTo>
                  <a:pt x="171" y="526"/>
                </a:lnTo>
                <a:lnTo>
                  <a:pt x="160" y="526"/>
                </a:lnTo>
                <a:lnTo>
                  <a:pt x="154" y="520"/>
                </a:lnTo>
                <a:lnTo>
                  <a:pt x="143" y="520"/>
                </a:lnTo>
                <a:lnTo>
                  <a:pt x="137" y="514"/>
                </a:lnTo>
                <a:lnTo>
                  <a:pt x="125" y="514"/>
                </a:lnTo>
                <a:lnTo>
                  <a:pt x="120" y="508"/>
                </a:lnTo>
                <a:lnTo>
                  <a:pt x="108" y="508"/>
                </a:lnTo>
                <a:lnTo>
                  <a:pt x="103" y="508"/>
                </a:lnTo>
                <a:lnTo>
                  <a:pt x="91" y="503"/>
                </a:lnTo>
                <a:lnTo>
                  <a:pt x="85" y="503"/>
                </a:lnTo>
                <a:lnTo>
                  <a:pt x="74" y="503"/>
                </a:lnTo>
                <a:lnTo>
                  <a:pt x="68" y="503"/>
                </a:lnTo>
                <a:lnTo>
                  <a:pt x="57" y="497"/>
                </a:lnTo>
                <a:lnTo>
                  <a:pt x="51" y="497"/>
                </a:lnTo>
                <a:lnTo>
                  <a:pt x="40" y="497"/>
                </a:lnTo>
                <a:lnTo>
                  <a:pt x="34" y="497"/>
                </a:lnTo>
                <a:lnTo>
                  <a:pt x="23" y="497"/>
                </a:lnTo>
                <a:lnTo>
                  <a:pt x="17" y="497"/>
                </a:lnTo>
                <a:lnTo>
                  <a:pt x="6" y="497"/>
                </a:lnTo>
                <a:lnTo>
                  <a:pt x="0" y="497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WordArt 18"/>
          <p:cNvSpPr txBox="1"/>
          <p:nvPr/>
        </p:nvSpPr>
        <p:spPr>
          <a:xfrm rot="3675000">
            <a:off x="6701760" y="2411640"/>
            <a:ext cx="1710000" cy="826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3923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Benefits for Less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441360" y="1184400"/>
            <a:ext cx="4602240" cy="50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o avoid creating a process burden: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s will focus on best opportunities for su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y forward looking analysis at Key Poi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 Non-Value Added, Labor Intensive Administrative Activ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ctation of administrative reductions to be comparable to those taken in the operating bud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0"/>
          <p:cNvGrpSpPr/>
          <p:nvPr/>
        </p:nvGrpSpPr>
        <p:grpSpPr>
          <a:xfrm>
            <a:off x="5490000" y="2816280"/>
            <a:ext cx="2845800" cy="2545200"/>
            <a:chOff x="5490000" y="2816280"/>
            <a:chExt cx="2845800" cy="2545200"/>
          </a:xfrm>
        </p:grpSpPr>
        <p:sp>
          <p:nvSpPr>
            <p:cNvPr id="193" name="Freeform 23"/>
            <p:cNvSpPr/>
            <p:nvPr/>
          </p:nvSpPr>
          <p:spPr>
            <a:xfrm rot="14426400">
              <a:off x="6123600" y="2900520"/>
              <a:ext cx="1577880" cy="2376720"/>
            </a:xfrm>
            <a:custGeom>
              <a:avLst/>
              <a:gdLst/>
              <a:ahLst/>
              <a:rect l="l" t="t" r="r" b="b"/>
              <a:pathLst>
                <a:path w="994" h="1497">
                  <a:moveTo>
                    <a:pt x="131" y="1497"/>
                  </a:moveTo>
                  <a:lnTo>
                    <a:pt x="125" y="1480"/>
                  </a:lnTo>
                  <a:lnTo>
                    <a:pt x="114" y="1463"/>
                  </a:lnTo>
                  <a:lnTo>
                    <a:pt x="108" y="1446"/>
                  </a:lnTo>
                  <a:lnTo>
                    <a:pt x="97" y="1434"/>
                  </a:lnTo>
                  <a:lnTo>
                    <a:pt x="91" y="1417"/>
                  </a:lnTo>
                  <a:lnTo>
                    <a:pt x="85" y="1400"/>
                  </a:lnTo>
                  <a:lnTo>
                    <a:pt x="80" y="1383"/>
                  </a:lnTo>
                  <a:lnTo>
                    <a:pt x="68" y="1371"/>
                  </a:lnTo>
                  <a:lnTo>
                    <a:pt x="62" y="1354"/>
                  </a:lnTo>
                  <a:lnTo>
                    <a:pt x="57" y="1337"/>
                  </a:lnTo>
                  <a:lnTo>
                    <a:pt x="51" y="1320"/>
                  </a:lnTo>
                  <a:lnTo>
                    <a:pt x="45" y="1303"/>
                  </a:lnTo>
                  <a:lnTo>
                    <a:pt x="40" y="1286"/>
                  </a:lnTo>
                  <a:lnTo>
                    <a:pt x="34" y="1268"/>
                  </a:lnTo>
                  <a:lnTo>
                    <a:pt x="34" y="1251"/>
                  </a:lnTo>
                  <a:lnTo>
                    <a:pt x="28" y="1234"/>
                  </a:lnTo>
                  <a:lnTo>
                    <a:pt x="22" y="1223"/>
                  </a:lnTo>
                  <a:lnTo>
                    <a:pt x="22" y="1206"/>
                  </a:lnTo>
                  <a:lnTo>
                    <a:pt x="17" y="1188"/>
                  </a:lnTo>
                  <a:lnTo>
                    <a:pt x="11" y="1171"/>
                  </a:lnTo>
                  <a:lnTo>
                    <a:pt x="11" y="1154"/>
                  </a:lnTo>
                  <a:lnTo>
                    <a:pt x="5" y="1137"/>
                  </a:lnTo>
                  <a:lnTo>
                    <a:pt x="5" y="1120"/>
                  </a:lnTo>
                  <a:lnTo>
                    <a:pt x="5" y="1097"/>
                  </a:lnTo>
                  <a:lnTo>
                    <a:pt x="0" y="1080"/>
                  </a:lnTo>
                  <a:lnTo>
                    <a:pt x="0" y="1063"/>
                  </a:lnTo>
                  <a:lnTo>
                    <a:pt x="0" y="1046"/>
                  </a:lnTo>
                  <a:lnTo>
                    <a:pt x="0" y="1028"/>
                  </a:lnTo>
                  <a:lnTo>
                    <a:pt x="0" y="1011"/>
                  </a:lnTo>
                  <a:lnTo>
                    <a:pt x="0" y="994"/>
                  </a:lnTo>
                  <a:lnTo>
                    <a:pt x="0" y="977"/>
                  </a:lnTo>
                  <a:lnTo>
                    <a:pt x="0" y="960"/>
                  </a:lnTo>
                  <a:lnTo>
                    <a:pt x="0" y="943"/>
                  </a:lnTo>
                  <a:lnTo>
                    <a:pt x="0" y="926"/>
                  </a:lnTo>
                  <a:lnTo>
                    <a:pt x="0" y="908"/>
                  </a:lnTo>
                  <a:lnTo>
                    <a:pt x="5" y="891"/>
                  </a:lnTo>
                  <a:lnTo>
                    <a:pt x="5" y="874"/>
                  </a:lnTo>
                  <a:lnTo>
                    <a:pt x="5" y="857"/>
                  </a:lnTo>
                  <a:lnTo>
                    <a:pt x="11" y="840"/>
                  </a:lnTo>
                  <a:lnTo>
                    <a:pt x="11" y="823"/>
                  </a:lnTo>
                  <a:lnTo>
                    <a:pt x="17" y="806"/>
                  </a:lnTo>
                  <a:lnTo>
                    <a:pt x="22" y="788"/>
                  </a:lnTo>
                  <a:lnTo>
                    <a:pt x="22" y="771"/>
                  </a:lnTo>
                  <a:lnTo>
                    <a:pt x="28" y="754"/>
                  </a:lnTo>
                  <a:lnTo>
                    <a:pt x="34" y="737"/>
                  </a:lnTo>
                  <a:lnTo>
                    <a:pt x="34" y="720"/>
                  </a:lnTo>
                  <a:lnTo>
                    <a:pt x="40" y="703"/>
                  </a:lnTo>
                  <a:lnTo>
                    <a:pt x="45" y="686"/>
                  </a:lnTo>
                  <a:lnTo>
                    <a:pt x="51" y="668"/>
                  </a:lnTo>
                  <a:lnTo>
                    <a:pt x="57" y="657"/>
                  </a:lnTo>
                  <a:lnTo>
                    <a:pt x="62" y="640"/>
                  </a:lnTo>
                  <a:lnTo>
                    <a:pt x="68" y="623"/>
                  </a:lnTo>
                  <a:lnTo>
                    <a:pt x="80" y="606"/>
                  </a:lnTo>
                  <a:lnTo>
                    <a:pt x="85" y="588"/>
                  </a:lnTo>
                  <a:lnTo>
                    <a:pt x="91" y="577"/>
                  </a:lnTo>
                  <a:lnTo>
                    <a:pt x="97" y="560"/>
                  </a:lnTo>
                  <a:lnTo>
                    <a:pt x="108" y="543"/>
                  </a:lnTo>
                  <a:lnTo>
                    <a:pt x="114" y="526"/>
                  </a:lnTo>
                  <a:lnTo>
                    <a:pt x="125" y="514"/>
                  </a:lnTo>
                  <a:lnTo>
                    <a:pt x="131" y="497"/>
                  </a:lnTo>
                  <a:lnTo>
                    <a:pt x="142" y="480"/>
                  </a:lnTo>
                  <a:lnTo>
                    <a:pt x="148" y="468"/>
                  </a:lnTo>
                  <a:lnTo>
                    <a:pt x="160" y="451"/>
                  </a:lnTo>
                  <a:lnTo>
                    <a:pt x="165" y="440"/>
                  </a:lnTo>
                  <a:lnTo>
                    <a:pt x="177" y="423"/>
                  </a:lnTo>
                  <a:lnTo>
                    <a:pt x="188" y="411"/>
                  </a:lnTo>
                  <a:lnTo>
                    <a:pt x="200" y="394"/>
                  </a:lnTo>
                  <a:lnTo>
                    <a:pt x="211" y="383"/>
                  </a:lnTo>
                  <a:lnTo>
                    <a:pt x="222" y="366"/>
                  </a:lnTo>
                  <a:lnTo>
                    <a:pt x="228" y="354"/>
                  </a:lnTo>
                  <a:lnTo>
                    <a:pt x="240" y="343"/>
                  </a:lnTo>
                  <a:lnTo>
                    <a:pt x="251" y="326"/>
                  </a:lnTo>
                  <a:lnTo>
                    <a:pt x="262" y="314"/>
                  </a:lnTo>
                  <a:lnTo>
                    <a:pt x="280" y="303"/>
                  </a:lnTo>
                  <a:lnTo>
                    <a:pt x="291" y="291"/>
                  </a:lnTo>
                  <a:lnTo>
                    <a:pt x="302" y="280"/>
                  </a:lnTo>
                  <a:lnTo>
                    <a:pt x="314" y="268"/>
                  </a:lnTo>
                  <a:lnTo>
                    <a:pt x="325" y="257"/>
                  </a:lnTo>
                  <a:lnTo>
                    <a:pt x="342" y="246"/>
                  </a:lnTo>
                  <a:lnTo>
                    <a:pt x="354" y="234"/>
                  </a:lnTo>
                  <a:lnTo>
                    <a:pt x="365" y="223"/>
                  </a:lnTo>
                  <a:lnTo>
                    <a:pt x="382" y="211"/>
                  </a:lnTo>
                  <a:lnTo>
                    <a:pt x="394" y="200"/>
                  </a:lnTo>
                  <a:lnTo>
                    <a:pt x="405" y="188"/>
                  </a:lnTo>
                  <a:lnTo>
                    <a:pt x="422" y="177"/>
                  </a:lnTo>
                  <a:lnTo>
                    <a:pt x="434" y="171"/>
                  </a:lnTo>
                  <a:lnTo>
                    <a:pt x="451" y="160"/>
                  </a:lnTo>
                  <a:lnTo>
                    <a:pt x="468" y="148"/>
                  </a:lnTo>
                  <a:lnTo>
                    <a:pt x="480" y="143"/>
                  </a:lnTo>
                  <a:lnTo>
                    <a:pt x="497" y="131"/>
                  </a:lnTo>
                  <a:lnTo>
                    <a:pt x="508" y="126"/>
                  </a:lnTo>
                  <a:lnTo>
                    <a:pt x="525" y="114"/>
                  </a:lnTo>
                  <a:lnTo>
                    <a:pt x="542" y="108"/>
                  </a:lnTo>
                  <a:lnTo>
                    <a:pt x="554" y="97"/>
                  </a:lnTo>
                  <a:lnTo>
                    <a:pt x="571" y="91"/>
                  </a:lnTo>
                  <a:lnTo>
                    <a:pt x="588" y="86"/>
                  </a:lnTo>
                  <a:lnTo>
                    <a:pt x="605" y="80"/>
                  </a:lnTo>
                  <a:lnTo>
                    <a:pt x="622" y="68"/>
                  </a:lnTo>
                  <a:lnTo>
                    <a:pt x="634" y="63"/>
                  </a:lnTo>
                  <a:lnTo>
                    <a:pt x="651" y="57"/>
                  </a:lnTo>
                  <a:lnTo>
                    <a:pt x="668" y="51"/>
                  </a:lnTo>
                  <a:lnTo>
                    <a:pt x="685" y="46"/>
                  </a:lnTo>
                  <a:lnTo>
                    <a:pt x="702" y="40"/>
                  </a:lnTo>
                  <a:lnTo>
                    <a:pt x="720" y="40"/>
                  </a:lnTo>
                  <a:lnTo>
                    <a:pt x="737" y="34"/>
                  </a:lnTo>
                  <a:lnTo>
                    <a:pt x="754" y="28"/>
                  </a:lnTo>
                  <a:lnTo>
                    <a:pt x="771" y="23"/>
                  </a:lnTo>
                  <a:lnTo>
                    <a:pt x="788" y="23"/>
                  </a:lnTo>
                  <a:lnTo>
                    <a:pt x="805" y="17"/>
                  </a:lnTo>
                  <a:lnTo>
                    <a:pt x="822" y="11"/>
                  </a:lnTo>
                  <a:lnTo>
                    <a:pt x="840" y="11"/>
                  </a:lnTo>
                  <a:lnTo>
                    <a:pt x="857" y="6"/>
                  </a:lnTo>
                  <a:lnTo>
                    <a:pt x="874" y="6"/>
                  </a:lnTo>
                  <a:lnTo>
                    <a:pt x="891" y="6"/>
                  </a:lnTo>
                  <a:lnTo>
                    <a:pt x="908" y="0"/>
                  </a:lnTo>
                  <a:lnTo>
                    <a:pt x="925" y="0"/>
                  </a:lnTo>
                  <a:lnTo>
                    <a:pt x="942" y="0"/>
                  </a:lnTo>
                  <a:lnTo>
                    <a:pt x="960" y="0"/>
                  </a:lnTo>
                  <a:lnTo>
                    <a:pt x="977" y="0"/>
                  </a:lnTo>
                  <a:lnTo>
                    <a:pt x="994" y="0"/>
                  </a:lnTo>
                  <a:lnTo>
                    <a:pt x="994" y="497"/>
                  </a:lnTo>
                  <a:lnTo>
                    <a:pt x="982" y="497"/>
                  </a:lnTo>
                  <a:lnTo>
                    <a:pt x="977" y="497"/>
                  </a:lnTo>
                  <a:lnTo>
                    <a:pt x="965" y="497"/>
                  </a:lnTo>
                  <a:lnTo>
                    <a:pt x="960" y="497"/>
                  </a:lnTo>
                  <a:lnTo>
                    <a:pt x="948" y="497"/>
                  </a:lnTo>
                  <a:lnTo>
                    <a:pt x="942" y="497"/>
                  </a:lnTo>
                  <a:lnTo>
                    <a:pt x="931" y="497"/>
                  </a:lnTo>
                  <a:lnTo>
                    <a:pt x="925" y="503"/>
                  </a:lnTo>
                  <a:lnTo>
                    <a:pt x="914" y="503"/>
                  </a:lnTo>
                  <a:lnTo>
                    <a:pt x="908" y="503"/>
                  </a:lnTo>
                  <a:lnTo>
                    <a:pt x="897" y="503"/>
                  </a:lnTo>
                  <a:lnTo>
                    <a:pt x="891" y="508"/>
                  </a:lnTo>
                  <a:lnTo>
                    <a:pt x="880" y="508"/>
                  </a:lnTo>
                  <a:lnTo>
                    <a:pt x="874" y="508"/>
                  </a:lnTo>
                  <a:lnTo>
                    <a:pt x="862" y="514"/>
                  </a:lnTo>
                  <a:lnTo>
                    <a:pt x="857" y="514"/>
                  </a:lnTo>
                  <a:lnTo>
                    <a:pt x="845" y="520"/>
                  </a:lnTo>
                  <a:lnTo>
                    <a:pt x="840" y="520"/>
                  </a:lnTo>
                  <a:lnTo>
                    <a:pt x="828" y="526"/>
                  </a:lnTo>
                  <a:lnTo>
                    <a:pt x="822" y="526"/>
                  </a:lnTo>
                  <a:lnTo>
                    <a:pt x="817" y="531"/>
                  </a:lnTo>
                  <a:lnTo>
                    <a:pt x="805" y="531"/>
                  </a:lnTo>
                  <a:lnTo>
                    <a:pt x="800" y="537"/>
                  </a:lnTo>
                  <a:lnTo>
                    <a:pt x="788" y="537"/>
                  </a:lnTo>
                  <a:lnTo>
                    <a:pt x="782" y="543"/>
                  </a:lnTo>
                  <a:lnTo>
                    <a:pt x="777" y="548"/>
                  </a:lnTo>
                  <a:lnTo>
                    <a:pt x="765" y="548"/>
                  </a:lnTo>
                  <a:lnTo>
                    <a:pt x="760" y="554"/>
                  </a:lnTo>
                  <a:lnTo>
                    <a:pt x="754" y="560"/>
                  </a:lnTo>
                  <a:lnTo>
                    <a:pt x="742" y="560"/>
                  </a:lnTo>
                  <a:lnTo>
                    <a:pt x="737" y="566"/>
                  </a:lnTo>
                  <a:lnTo>
                    <a:pt x="731" y="571"/>
                  </a:lnTo>
                  <a:lnTo>
                    <a:pt x="720" y="577"/>
                  </a:lnTo>
                  <a:lnTo>
                    <a:pt x="714" y="583"/>
                  </a:lnTo>
                  <a:lnTo>
                    <a:pt x="708" y="588"/>
                  </a:lnTo>
                  <a:lnTo>
                    <a:pt x="702" y="588"/>
                  </a:lnTo>
                  <a:lnTo>
                    <a:pt x="691" y="594"/>
                  </a:lnTo>
                  <a:lnTo>
                    <a:pt x="685" y="600"/>
                  </a:lnTo>
                  <a:lnTo>
                    <a:pt x="680" y="606"/>
                  </a:lnTo>
                  <a:lnTo>
                    <a:pt x="674" y="611"/>
                  </a:lnTo>
                  <a:lnTo>
                    <a:pt x="668" y="617"/>
                  </a:lnTo>
                  <a:lnTo>
                    <a:pt x="662" y="623"/>
                  </a:lnTo>
                  <a:lnTo>
                    <a:pt x="651" y="628"/>
                  </a:lnTo>
                  <a:lnTo>
                    <a:pt x="645" y="634"/>
                  </a:lnTo>
                  <a:lnTo>
                    <a:pt x="640" y="640"/>
                  </a:lnTo>
                  <a:lnTo>
                    <a:pt x="634" y="646"/>
                  </a:lnTo>
                  <a:lnTo>
                    <a:pt x="628" y="657"/>
                  </a:lnTo>
                  <a:lnTo>
                    <a:pt x="622" y="663"/>
                  </a:lnTo>
                  <a:lnTo>
                    <a:pt x="617" y="668"/>
                  </a:lnTo>
                  <a:lnTo>
                    <a:pt x="611" y="674"/>
                  </a:lnTo>
                  <a:lnTo>
                    <a:pt x="605" y="680"/>
                  </a:lnTo>
                  <a:lnTo>
                    <a:pt x="600" y="686"/>
                  </a:lnTo>
                  <a:lnTo>
                    <a:pt x="594" y="697"/>
                  </a:lnTo>
                  <a:lnTo>
                    <a:pt x="588" y="703"/>
                  </a:lnTo>
                  <a:lnTo>
                    <a:pt x="582" y="708"/>
                  </a:lnTo>
                  <a:lnTo>
                    <a:pt x="582" y="714"/>
                  </a:lnTo>
                  <a:lnTo>
                    <a:pt x="577" y="726"/>
                  </a:lnTo>
                  <a:lnTo>
                    <a:pt x="571" y="731"/>
                  </a:lnTo>
                  <a:lnTo>
                    <a:pt x="565" y="737"/>
                  </a:lnTo>
                  <a:lnTo>
                    <a:pt x="560" y="743"/>
                  </a:lnTo>
                  <a:lnTo>
                    <a:pt x="560" y="754"/>
                  </a:lnTo>
                  <a:lnTo>
                    <a:pt x="554" y="760"/>
                  </a:lnTo>
                  <a:lnTo>
                    <a:pt x="548" y="771"/>
                  </a:lnTo>
                  <a:lnTo>
                    <a:pt x="548" y="777"/>
                  </a:lnTo>
                  <a:lnTo>
                    <a:pt x="542" y="783"/>
                  </a:lnTo>
                  <a:lnTo>
                    <a:pt x="537" y="794"/>
                  </a:lnTo>
                  <a:lnTo>
                    <a:pt x="537" y="800"/>
                  </a:lnTo>
                  <a:lnTo>
                    <a:pt x="531" y="806"/>
                  </a:lnTo>
                  <a:lnTo>
                    <a:pt x="531" y="817"/>
                  </a:lnTo>
                  <a:lnTo>
                    <a:pt x="525" y="823"/>
                  </a:lnTo>
                  <a:lnTo>
                    <a:pt x="520" y="834"/>
                  </a:lnTo>
                  <a:lnTo>
                    <a:pt x="520" y="840"/>
                  </a:lnTo>
                  <a:lnTo>
                    <a:pt x="520" y="851"/>
                  </a:lnTo>
                  <a:lnTo>
                    <a:pt x="514" y="857"/>
                  </a:lnTo>
                  <a:lnTo>
                    <a:pt x="514" y="868"/>
                  </a:lnTo>
                  <a:lnTo>
                    <a:pt x="508" y="874"/>
                  </a:lnTo>
                  <a:lnTo>
                    <a:pt x="508" y="886"/>
                  </a:lnTo>
                  <a:lnTo>
                    <a:pt x="508" y="891"/>
                  </a:lnTo>
                  <a:lnTo>
                    <a:pt x="502" y="903"/>
                  </a:lnTo>
                  <a:lnTo>
                    <a:pt x="502" y="908"/>
                  </a:lnTo>
                  <a:lnTo>
                    <a:pt x="502" y="920"/>
                  </a:lnTo>
                  <a:lnTo>
                    <a:pt x="502" y="926"/>
                  </a:lnTo>
                  <a:lnTo>
                    <a:pt x="497" y="937"/>
                  </a:lnTo>
                  <a:lnTo>
                    <a:pt x="497" y="943"/>
                  </a:lnTo>
                  <a:lnTo>
                    <a:pt x="497" y="954"/>
                  </a:lnTo>
                  <a:lnTo>
                    <a:pt x="497" y="960"/>
                  </a:lnTo>
                  <a:lnTo>
                    <a:pt x="497" y="971"/>
                  </a:lnTo>
                  <a:lnTo>
                    <a:pt x="497" y="977"/>
                  </a:lnTo>
                  <a:lnTo>
                    <a:pt x="497" y="988"/>
                  </a:lnTo>
                  <a:lnTo>
                    <a:pt x="497" y="994"/>
                  </a:lnTo>
                  <a:lnTo>
                    <a:pt x="497" y="1006"/>
                  </a:lnTo>
                  <a:lnTo>
                    <a:pt x="497" y="1011"/>
                  </a:lnTo>
                  <a:lnTo>
                    <a:pt x="497" y="1023"/>
                  </a:lnTo>
                  <a:lnTo>
                    <a:pt x="497" y="1028"/>
                  </a:lnTo>
                  <a:lnTo>
                    <a:pt x="497" y="1040"/>
                  </a:lnTo>
                  <a:lnTo>
                    <a:pt x="497" y="1046"/>
                  </a:lnTo>
                  <a:lnTo>
                    <a:pt x="497" y="1057"/>
                  </a:lnTo>
                  <a:lnTo>
                    <a:pt x="502" y="1063"/>
                  </a:lnTo>
                  <a:lnTo>
                    <a:pt x="502" y="1074"/>
                  </a:lnTo>
                  <a:lnTo>
                    <a:pt x="502" y="1080"/>
                  </a:lnTo>
                  <a:lnTo>
                    <a:pt x="502" y="1091"/>
                  </a:lnTo>
                  <a:lnTo>
                    <a:pt x="508" y="1097"/>
                  </a:lnTo>
                  <a:lnTo>
                    <a:pt x="508" y="1108"/>
                  </a:lnTo>
                  <a:lnTo>
                    <a:pt x="508" y="1114"/>
                  </a:lnTo>
                  <a:lnTo>
                    <a:pt x="514" y="1126"/>
                  </a:lnTo>
                  <a:lnTo>
                    <a:pt x="514" y="1131"/>
                  </a:lnTo>
                  <a:lnTo>
                    <a:pt x="520" y="1143"/>
                  </a:lnTo>
                  <a:lnTo>
                    <a:pt x="520" y="1148"/>
                  </a:lnTo>
                  <a:lnTo>
                    <a:pt x="520" y="1160"/>
                  </a:lnTo>
                  <a:lnTo>
                    <a:pt x="525" y="1166"/>
                  </a:lnTo>
                  <a:lnTo>
                    <a:pt x="531" y="1177"/>
                  </a:lnTo>
                  <a:lnTo>
                    <a:pt x="531" y="1183"/>
                  </a:lnTo>
                  <a:lnTo>
                    <a:pt x="537" y="1188"/>
                  </a:lnTo>
                  <a:lnTo>
                    <a:pt x="537" y="1200"/>
                  </a:lnTo>
                  <a:lnTo>
                    <a:pt x="542" y="1206"/>
                  </a:lnTo>
                  <a:lnTo>
                    <a:pt x="548" y="1217"/>
                  </a:lnTo>
                  <a:lnTo>
                    <a:pt x="548" y="1223"/>
                  </a:lnTo>
                  <a:lnTo>
                    <a:pt x="554" y="1228"/>
                  </a:lnTo>
                  <a:lnTo>
                    <a:pt x="560" y="1240"/>
                  </a:lnTo>
                  <a:lnTo>
                    <a:pt x="560" y="1246"/>
                  </a:lnTo>
                  <a:lnTo>
                    <a:pt x="131" y="1497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WordArt 24"/>
            <p:cNvSpPr txBox="1"/>
            <p:nvPr/>
          </p:nvSpPr>
          <p:spPr>
            <a:xfrm>
              <a:off x="5838840" y="3052800"/>
              <a:ext cx="2070000" cy="13413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03168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Reduce Paper Process</a:t>
              </a:r>
              <a:endPara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21:18:03Z</dcterms:created>
  <dc:creator>MTA</dc:creator>
  <dc:description/>
  <dc:language>en-US</dc:language>
  <cp:lastModifiedBy>Michael Jew-Geralds</cp:lastModifiedBy>
  <cp:lastPrinted>2011-02-16T19:36:05Z</cp:lastPrinted>
  <dcterms:modified xsi:type="dcterms:W3CDTF">2011-02-17T17:10:52Z</dcterms:modified>
  <cp:revision>711</cp:revision>
  <dc:subject/>
  <dc:title>Slide 1</dc:title>
</cp:coreProperties>
</file>