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85A1871-E156-4ADB-B649-D721F933C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47C33D6-0AA5-4867-8A91-BD1646429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83727-5D88-4C20-A72F-BD277F4DB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D4F0005-2032-4290-A061-4F6E37172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E1579ED-DBB1-4F3C-9605-772D96623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4D444F2-A78C-4335-9D2B-3C83769A6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09E4063-B963-4363-929A-36AFEE832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4AEEAAB-234B-4F94-8955-6AB6C779E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D9C6666-6AAC-4C11-941A-8E56629BD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B3D5EC4-7D02-4516-8075-D88CE5D50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453A-37A0-446B-81A1-AA774DDFE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E6D5-3CFA-456A-B454-EED6F30F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F9F6-AD9F-49D5-A9FF-E469CD67E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4B2C-4D97-4AE6-8EE8-F11761510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EE0C-6E12-4205-A4ED-EC0C31756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3A02-5BA4-470E-9B8A-CAA30808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FE42-C499-4BAD-99EA-8D24B2FA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9850C-5D96-4471-94EF-12878E1D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569A-975C-4F7D-AB90-1462148B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8584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51AF-00A0-442B-8EF6-D42EC5D2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200A-BB7F-4DE6-918A-704726F9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0D5D-DC00-49CA-931A-1B748B1A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7ADA-9E09-4006-B991-19DAC8B0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D49E-A715-4756-92FB-00840FC4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A27B-B05A-48B2-9D27-655D515B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AFF8-665B-43A7-8C16-9A15FEE33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E3BB5-AC02-43C9-8BD9-23FB68C4E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51AD-7A1A-4157-95ED-F7616400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CC84-3589-4E74-9DDC-BDECC512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C019-1516-4527-8E0A-4B296922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584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BF6C-AD0D-4E1C-A6B1-A44CD2D2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9B9D-DE32-4EAF-AA89-768BC238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6EEC-2542-4BA7-A7DD-F8AE818A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20CE-77B6-4F93-AEFD-FBEB45E0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5920" indent="-1159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162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174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8640" y="6416280"/>
            <a:ext cx="213372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5C54-08C3-40C5-923C-1CDFB8847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5920" indent="-1159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162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174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BFBE-50D1-4C47-BD53-797A9AAD2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DD58-BD03-4949-9A1B-ECFBB8108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B943-22D8-42A3-9744-8A66E66BB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1640" y="124920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ject Gat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062000" y="2362320"/>
            <a:ext cx="70772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iefing to t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tal Program Oversight Committe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bruary 20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mta-logo"/>
          <p:cNvPicPr/>
          <p:nvPr/>
        </p:nvPicPr>
        <p:blipFill>
          <a:blip r:embed="rId1"/>
          <a:stretch/>
        </p:blipFill>
        <p:spPr>
          <a:xfrm>
            <a:off x="885960" y="5272200"/>
            <a:ext cx="1110960" cy="12380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8158320" y="589104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176560" y="5619600"/>
            <a:ext cx="61722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ital Program 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D5B7-0E76-484C-9554-F76712577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2"/>
          <p:cNvGrpSpPr/>
          <p:nvPr/>
        </p:nvGrpSpPr>
        <p:grpSpPr>
          <a:xfrm>
            <a:off x="3664080" y="1541520"/>
            <a:ext cx="1793880" cy="779400"/>
            <a:chOff x="3664080" y="1541520"/>
            <a:chExt cx="1793880" cy="779400"/>
          </a:xfrm>
        </p:grpSpPr>
        <p:sp>
          <p:nvSpPr>
            <p:cNvPr id="98" name="AutoShape 82"/>
            <p:cNvSpPr/>
            <p:nvPr/>
          </p:nvSpPr>
          <p:spPr>
            <a:xfrm>
              <a:off x="4381560" y="1541520"/>
              <a:ext cx="355680" cy="33156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3"/>
            <p:cNvSpPr/>
            <p:nvPr/>
          </p:nvSpPr>
          <p:spPr>
            <a:xfrm>
              <a:off x="3664080" y="1863720"/>
              <a:ext cx="1793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Validat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Benefit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tal Program Reviews to Ensure Best 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27160" y="2747880"/>
            <a:ext cx="7067520" cy="18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14480" indent="-114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intervention points where targeted analysis of needs, alternatives, and outcomes ens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2120" indent="-174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c Align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2120" indent="-174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st life-cycle cost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2120" indent="-174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nded bene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920F-7D35-44B5-BFD9-4A8C1B823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86"/>
          <p:cNvSpPr/>
          <p:nvPr/>
        </p:nvSpPr>
        <p:spPr>
          <a:xfrm>
            <a:off x="4264200" y="1033560"/>
            <a:ext cx="2474640" cy="507960"/>
          </a:xfrm>
          <a:custGeom>
            <a:avLst/>
            <a:gdLst>
              <a:gd name="textAreaLeft" fmla="*/ 0 w 2474640"/>
              <a:gd name="textAreaRight" fmla="*/ 2475000 w 247464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06" y="0"/>
                </a:lnTo>
                <a:lnTo>
                  <a:pt x="21600" y="10800"/>
                </a:lnTo>
                <a:lnTo>
                  <a:pt x="20106" y="21600"/>
                </a:lnTo>
                <a:lnTo>
                  <a:pt x="0" y="21600"/>
                </a:lnTo>
                <a:lnTo>
                  <a:pt x="1494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tr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85"/>
          <p:cNvSpPr/>
          <p:nvPr/>
        </p:nvSpPr>
        <p:spPr>
          <a:xfrm>
            <a:off x="2513160" y="1033560"/>
            <a:ext cx="2224080" cy="507960"/>
          </a:xfrm>
          <a:custGeom>
            <a:avLst/>
            <a:gdLst>
              <a:gd name="textAreaLeft" fmla="*/ 0 w 2224080"/>
              <a:gd name="textAreaRight" fmla="*/ 2224440 w 222408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a7bac1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3"/>
          <p:cNvSpPr/>
          <p:nvPr/>
        </p:nvSpPr>
        <p:spPr>
          <a:xfrm>
            <a:off x="598320" y="1033560"/>
            <a:ext cx="2291040" cy="507960"/>
          </a:xfrm>
          <a:custGeom>
            <a:avLst/>
            <a:gdLst>
              <a:gd name="textAreaLeft" fmla="*/ 0 w 2291040"/>
              <a:gd name="textAreaRight" fmla="*/ 2291400 w 229104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07" y="0"/>
                </a:lnTo>
                <a:lnTo>
                  <a:pt x="21600" y="10800"/>
                </a:lnTo>
                <a:lnTo>
                  <a:pt x="192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75a69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ce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65"/>
          <p:cNvSpPr/>
          <p:nvPr/>
        </p:nvSpPr>
        <p:spPr>
          <a:xfrm>
            <a:off x="6523200" y="1033560"/>
            <a:ext cx="2189160" cy="507960"/>
          </a:xfrm>
          <a:custGeom>
            <a:avLst/>
            <a:gdLst>
              <a:gd name="textAreaLeft" fmla="*/ 0 w 2189160"/>
              <a:gd name="textAreaRight" fmla="*/ 2189520 w 21891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4"/>
          <p:cNvGrpSpPr/>
          <p:nvPr/>
        </p:nvGrpSpPr>
        <p:grpSpPr>
          <a:xfrm>
            <a:off x="2060640" y="1541520"/>
            <a:ext cx="1168200" cy="782640"/>
            <a:chOff x="2060640" y="1541520"/>
            <a:chExt cx="1168200" cy="782640"/>
          </a:xfrm>
        </p:grpSpPr>
        <p:sp>
          <p:nvSpPr>
            <p:cNvPr id="109" name="AutoShape 82"/>
            <p:cNvSpPr/>
            <p:nvPr/>
          </p:nvSpPr>
          <p:spPr>
            <a:xfrm>
              <a:off x="2469960" y="1541520"/>
              <a:ext cx="355680" cy="33156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3"/>
            <p:cNvSpPr/>
            <p:nvPr/>
          </p:nvSpPr>
          <p:spPr>
            <a:xfrm>
              <a:off x="2060640" y="1866960"/>
              <a:ext cx="1168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Analytical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Review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7"/>
          <p:cNvGrpSpPr/>
          <p:nvPr/>
        </p:nvGrpSpPr>
        <p:grpSpPr>
          <a:xfrm>
            <a:off x="6043680" y="1547640"/>
            <a:ext cx="1030320" cy="776520"/>
            <a:chOff x="6043680" y="1547640"/>
            <a:chExt cx="1030320" cy="776520"/>
          </a:xfrm>
        </p:grpSpPr>
        <p:sp>
          <p:nvSpPr>
            <p:cNvPr id="112" name="AutoShape 82"/>
            <p:cNvSpPr/>
            <p:nvPr/>
          </p:nvSpPr>
          <p:spPr>
            <a:xfrm>
              <a:off x="6383160" y="1547640"/>
              <a:ext cx="355680" cy="33192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3"/>
            <p:cNvSpPr/>
            <p:nvPr/>
          </p:nvSpPr>
          <p:spPr>
            <a:xfrm>
              <a:off x="6043680" y="1866960"/>
              <a:ext cx="1030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Lessons Learned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20"/>
          <p:cNvSpPr/>
          <p:nvPr/>
        </p:nvSpPr>
        <p:spPr>
          <a:xfrm>
            <a:off x="2060640" y="37987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2021040" y="384804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9"/>
          <p:cNvGrpSpPr/>
          <p:nvPr/>
        </p:nvGrpSpPr>
        <p:grpSpPr>
          <a:xfrm>
            <a:off x="58680" y="1547640"/>
            <a:ext cx="1147680" cy="792360"/>
            <a:chOff x="58680" y="1547640"/>
            <a:chExt cx="1147680" cy="792360"/>
          </a:xfrm>
        </p:grpSpPr>
        <p:sp>
          <p:nvSpPr>
            <p:cNvPr id="117" name="AutoShape 82"/>
            <p:cNvSpPr/>
            <p:nvPr/>
          </p:nvSpPr>
          <p:spPr>
            <a:xfrm>
              <a:off x="419040" y="1547640"/>
              <a:ext cx="355680" cy="33192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3"/>
            <p:cNvSpPr/>
            <p:nvPr/>
          </p:nvSpPr>
          <p:spPr>
            <a:xfrm>
              <a:off x="58680" y="1882800"/>
              <a:ext cx="114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Program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Initiatio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52"/>
          <p:cNvSpPr/>
          <p:nvPr/>
        </p:nvSpPr>
        <p:spPr>
          <a:xfrm>
            <a:off x="774720" y="4552920"/>
            <a:ext cx="8551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8360" indent="-32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liver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planned benefi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the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lowest life-cycle co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2"/>
          <p:cNvSpPr/>
          <p:nvPr/>
        </p:nvSpPr>
        <p:spPr>
          <a:xfrm>
            <a:off x="201600" y="5145120"/>
            <a:ext cx="792000" cy="669960"/>
          </a:xfrm>
          <a:prstGeom prst="rightArrow">
            <a:avLst>
              <a:gd name="adj1" fmla="val 50000"/>
              <a:gd name="adj2" fmla="val 2955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3A14-CEEE-4897-8BD9-A8921ADE5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53520" y="1899720"/>
            <a:ext cx="85330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5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of projects before including in the Capit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cess allowed for full asset replacement in-kind, individual agencies established standalone strategies, missing opportunities for shared eff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nsure benefits of improving safety, reliability and service delivered at lowest life-cycle cos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liminate projects that are not priorit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place only those components of the asset that need replace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ek shared investment opportunities to serve needs of more than one agenc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YCT Subways: stations and other assets changed from full rehabilitations to component-based renew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NR Harmon Shop: provides capacity to service locomotives for both LIRR and MN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ults:  Resubmitted 2010-2014 Capital Program reduced by $2 billion without compromising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1CCA-AEB5-4E8E-A4F8-8CBB52233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86"/>
          <p:cNvSpPr/>
          <p:nvPr/>
        </p:nvSpPr>
        <p:spPr>
          <a:xfrm>
            <a:off x="4264200" y="861840"/>
            <a:ext cx="2474640" cy="255600"/>
          </a:xfrm>
          <a:custGeom>
            <a:avLst/>
            <a:gdLst>
              <a:gd name="textAreaLeft" fmla="*/ 0 w 2474640"/>
              <a:gd name="textAreaRight" fmla="*/ 2475000 w 2474640"/>
              <a:gd name="textAreaTop" fmla="*/ 0 h 255600"/>
              <a:gd name="textAreaBottom" fmla="*/ 255600 h 25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06" y="0"/>
                </a:lnTo>
                <a:lnTo>
                  <a:pt x="21600" y="10800"/>
                </a:lnTo>
                <a:lnTo>
                  <a:pt x="20106" y="21600"/>
                </a:lnTo>
                <a:lnTo>
                  <a:pt x="0" y="21600"/>
                </a:lnTo>
                <a:lnTo>
                  <a:pt x="1494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tr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85"/>
          <p:cNvSpPr/>
          <p:nvPr/>
        </p:nvSpPr>
        <p:spPr>
          <a:xfrm>
            <a:off x="2513160" y="861840"/>
            <a:ext cx="2224080" cy="255600"/>
          </a:xfrm>
          <a:custGeom>
            <a:avLst/>
            <a:gdLst>
              <a:gd name="textAreaLeft" fmla="*/ 0 w 2224080"/>
              <a:gd name="textAreaRight" fmla="*/ 2224440 w 2224080"/>
              <a:gd name="textAreaTop" fmla="*/ 0 h 255600"/>
              <a:gd name="textAreaBottom" fmla="*/ 255600 h 25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a7bac1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3"/>
          <p:cNvSpPr/>
          <p:nvPr/>
        </p:nvSpPr>
        <p:spPr>
          <a:xfrm>
            <a:off x="501480" y="158760"/>
            <a:ext cx="2222640" cy="692280"/>
          </a:xfrm>
          <a:custGeom>
            <a:avLst/>
            <a:gdLst>
              <a:gd name="textAreaLeft" fmla="*/ 0 w 2222640"/>
              <a:gd name="textAreaRight" fmla="*/ 2223000 w 2222640"/>
              <a:gd name="textAreaTop" fmla="*/ 0 h 692280"/>
              <a:gd name="textAreaBottom" fmla="*/ 692640 h 69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22" y="0"/>
                </a:lnTo>
                <a:lnTo>
                  <a:pt x="21600" y="10800"/>
                </a:lnTo>
                <a:lnTo>
                  <a:pt x="1952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75a69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ce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65"/>
          <p:cNvSpPr/>
          <p:nvPr/>
        </p:nvSpPr>
        <p:spPr>
          <a:xfrm>
            <a:off x="6523200" y="861840"/>
            <a:ext cx="2189160" cy="255600"/>
          </a:xfrm>
          <a:custGeom>
            <a:avLst/>
            <a:gdLst>
              <a:gd name="textAreaLeft" fmla="*/ 0 w 2189160"/>
              <a:gd name="textAreaRight" fmla="*/ 2189520 w 2189160"/>
              <a:gd name="textAreaTop" fmla="*/ 0 h 255600"/>
              <a:gd name="textAreaBottom" fmla="*/ 255600 h 25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0"/>
          <p:cNvSpPr/>
          <p:nvPr/>
        </p:nvSpPr>
        <p:spPr>
          <a:xfrm>
            <a:off x="2060640" y="37987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1"/>
          <p:cNvSpPr/>
          <p:nvPr/>
        </p:nvSpPr>
        <p:spPr>
          <a:xfrm>
            <a:off x="2021040" y="384804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28"/>
          <p:cNvGrpSpPr/>
          <p:nvPr/>
        </p:nvGrpSpPr>
        <p:grpSpPr>
          <a:xfrm>
            <a:off x="-36360" y="870120"/>
            <a:ext cx="1147680" cy="791640"/>
            <a:chOff x="-36360" y="870120"/>
            <a:chExt cx="1147680" cy="791640"/>
          </a:xfrm>
        </p:grpSpPr>
        <p:sp>
          <p:nvSpPr>
            <p:cNvPr id="132" name="AutoShape 82"/>
            <p:cNvSpPr/>
            <p:nvPr/>
          </p:nvSpPr>
          <p:spPr>
            <a:xfrm>
              <a:off x="324000" y="870120"/>
              <a:ext cx="355680" cy="33156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3"/>
            <p:cNvSpPr/>
            <p:nvPr/>
          </p:nvSpPr>
          <p:spPr>
            <a:xfrm>
              <a:off x="-36360" y="1204920"/>
              <a:ext cx="1147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Program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Initiatio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86AF-06F0-4EC3-B046-878355927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8C7B-46C3-4E19-A771-C4F17A4CC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6"/>
          <p:cNvSpPr/>
          <p:nvPr/>
        </p:nvSpPr>
        <p:spPr>
          <a:xfrm>
            <a:off x="4264200" y="847800"/>
            <a:ext cx="2474640" cy="249120"/>
          </a:xfrm>
          <a:custGeom>
            <a:avLst/>
            <a:gdLst>
              <a:gd name="textAreaLeft" fmla="*/ 0 w 2474640"/>
              <a:gd name="textAreaRight" fmla="*/ 2475000 w 247464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06" y="0"/>
                </a:lnTo>
                <a:lnTo>
                  <a:pt x="21600" y="10800"/>
                </a:lnTo>
                <a:lnTo>
                  <a:pt x="20106" y="21600"/>
                </a:lnTo>
                <a:lnTo>
                  <a:pt x="0" y="21600"/>
                </a:lnTo>
                <a:lnTo>
                  <a:pt x="1494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tr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5"/>
          <p:cNvSpPr/>
          <p:nvPr/>
        </p:nvSpPr>
        <p:spPr>
          <a:xfrm>
            <a:off x="2305080" y="144360"/>
            <a:ext cx="2143080" cy="695520"/>
          </a:xfrm>
          <a:custGeom>
            <a:avLst/>
            <a:gdLst>
              <a:gd name="textAreaLeft" fmla="*/ 0 w 2143080"/>
              <a:gd name="textAreaRight" fmla="*/ 2143440 w 2143080"/>
              <a:gd name="textAreaTop" fmla="*/ 0 h 695520"/>
              <a:gd name="textAreaBottom" fmla="*/ 695880 h 69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9" y="0"/>
                </a:lnTo>
                <a:lnTo>
                  <a:pt x="21600" y="10800"/>
                </a:lnTo>
                <a:lnTo>
                  <a:pt x="19639" y="21600"/>
                </a:lnTo>
                <a:lnTo>
                  <a:pt x="0" y="21600"/>
                </a:lnTo>
                <a:lnTo>
                  <a:pt x="1961" y="10800"/>
                </a:lnTo>
                <a:close/>
              </a:path>
            </a:pathLst>
          </a:custGeom>
          <a:solidFill>
            <a:srgbClr val="a7bac1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83"/>
          <p:cNvSpPr/>
          <p:nvPr/>
        </p:nvSpPr>
        <p:spPr>
          <a:xfrm>
            <a:off x="598320" y="853920"/>
            <a:ext cx="1955880" cy="243000"/>
          </a:xfrm>
          <a:custGeom>
            <a:avLst/>
            <a:gdLst>
              <a:gd name="textAreaLeft" fmla="*/ 0 w 1955880"/>
              <a:gd name="textAreaRight" fmla="*/ 1956240 w 195588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69" y="0"/>
                </a:lnTo>
                <a:lnTo>
                  <a:pt x="21600" y="10800"/>
                </a:lnTo>
                <a:lnTo>
                  <a:pt x="1886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75a69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ce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65"/>
          <p:cNvSpPr/>
          <p:nvPr/>
        </p:nvSpPr>
        <p:spPr>
          <a:xfrm>
            <a:off x="6523200" y="847800"/>
            <a:ext cx="2189160" cy="249120"/>
          </a:xfrm>
          <a:custGeom>
            <a:avLst/>
            <a:gdLst>
              <a:gd name="textAreaLeft" fmla="*/ 0 w 2189160"/>
              <a:gd name="textAreaRight" fmla="*/ 2189520 w 218916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2060640" y="37987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1"/>
          <p:cNvSpPr/>
          <p:nvPr/>
        </p:nvSpPr>
        <p:spPr>
          <a:xfrm>
            <a:off x="2021040" y="384804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27"/>
          <p:cNvGrpSpPr/>
          <p:nvPr/>
        </p:nvGrpSpPr>
        <p:grpSpPr>
          <a:xfrm>
            <a:off x="2152800" y="853920"/>
            <a:ext cx="1168200" cy="782640"/>
            <a:chOff x="2152800" y="853920"/>
            <a:chExt cx="1168200" cy="782640"/>
          </a:xfrm>
        </p:grpSpPr>
        <p:sp>
          <p:nvSpPr>
            <p:cNvPr id="144" name="AutoShape 82"/>
            <p:cNvSpPr/>
            <p:nvPr/>
          </p:nvSpPr>
          <p:spPr>
            <a:xfrm>
              <a:off x="2562120" y="853920"/>
              <a:ext cx="355680" cy="33156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"/>
            <p:cNvSpPr/>
            <p:nvPr/>
          </p:nvSpPr>
          <p:spPr>
            <a:xfrm>
              <a:off x="2152800" y="1179360"/>
              <a:ext cx="1168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Analytical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Review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71600" y="1711080"/>
            <a:ext cx="847872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5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Before Final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Little MTA oversight of operating impacts or alternatives analysis to affirmatively capture sav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onfirm th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ject is still necessa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needed benefit cannot be delivered for less (Alternatives Analysis and Asset Class Review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investment will deliver Operating Budget sav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r complex projects, that all risks have been identified, mitigated and appropriately considered in preparing the cost and schedule (Risk Assessments on complex project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NR Bridge-23 Substation in Mount Vernon: $523k annual energy cost sav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YCT 207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St. Overhaul Shop Heating: $5m in up front capital cost sav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ults:  In addition to up front capital savings, $13 million in operating savings have been identified to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650F-3569-45AF-8F5B-80E612999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5C0D-039A-469F-AD20-12B10F883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86"/>
          <p:cNvSpPr/>
          <p:nvPr/>
        </p:nvSpPr>
        <p:spPr>
          <a:xfrm>
            <a:off x="4543560" y="144360"/>
            <a:ext cx="2119320" cy="69552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695520"/>
              <a:gd name="textAreaBottom" fmla="*/ 695880 h 69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47" y="0"/>
                </a:lnTo>
                <a:lnTo>
                  <a:pt x="21600" y="10800"/>
                </a:lnTo>
                <a:lnTo>
                  <a:pt x="20047" y="21600"/>
                </a:lnTo>
                <a:lnTo>
                  <a:pt x="0" y="21600"/>
                </a:lnTo>
                <a:lnTo>
                  <a:pt x="1553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tr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85"/>
          <p:cNvSpPr/>
          <p:nvPr/>
        </p:nvSpPr>
        <p:spPr>
          <a:xfrm>
            <a:off x="2513160" y="847800"/>
            <a:ext cx="2224080" cy="261720"/>
          </a:xfrm>
          <a:custGeom>
            <a:avLst/>
            <a:gdLst>
              <a:gd name="textAreaLeft" fmla="*/ 0 w 2224080"/>
              <a:gd name="textAreaRight" fmla="*/ 2224440 w 2224080"/>
              <a:gd name="textAreaTop" fmla="*/ 0 h 261720"/>
              <a:gd name="textAreaBottom" fmla="*/ 2617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a7bac1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83"/>
          <p:cNvSpPr/>
          <p:nvPr/>
        </p:nvSpPr>
        <p:spPr>
          <a:xfrm>
            <a:off x="598320" y="847800"/>
            <a:ext cx="2291040" cy="261720"/>
          </a:xfrm>
          <a:custGeom>
            <a:avLst/>
            <a:gdLst>
              <a:gd name="textAreaLeft" fmla="*/ 0 w 2291040"/>
              <a:gd name="textAreaRight" fmla="*/ 2291400 w 2291040"/>
              <a:gd name="textAreaTop" fmla="*/ 0 h 261720"/>
              <a:gd name="textAreaBottom" fmla="*/ 2617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07" y="0"/>
                </a:lnTo>
                <a:lnTo>
                  <a:pt x="21600" y="10800"/>
                </a:lnTo>
                <a:lnTo>
                  <a:pt x="192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75a69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ce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65"/>
          <p:cNvSpPr/>
          <p:nvPr/>
        </p:nvSpPr>
        <p:spPr>
          <a:xfrm>
            <a:off x="6523200" y="847800"/>
            <a:ext cx="2189160" cy="261720"/>
          </a:xfrm>
          <a:custGeom>
            <a:avLst/>
            <a:gdLst>
              <a:gd name="textAreaLeft" fmla="*/ 0 w 2189160"/>
              <a:gd name="textAreaRight" fmla="*/ 2189520 w 2189160"/>
              <a:gd name="textAreaTop" fmla="*/ 0 h 261720"/>
              <a:gd name="textAreaBottom" fmla="*/ 2617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0"/>
          <p:cNvSpPr/>
          <p:nvPr/>
        </p:nvSpPr>
        <p:spPr>
          <a:xfrm>
            <a:off x="2060640" y="37987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1"/>
          <p:cNvSpPr/>
          <p:nvPr/>
        </p:nvSpPr>
        <p:spPr>
          <a:xfrm>
            <a:off x="2021040" y="384804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27"/>
          <p:cNvGrpSpPr/>
          <p:nvPr/>
        </p:nvGrpSpPr>
        <p:grpSpPr>
          <a:xfrm>
            <a:off x="4006800" y="852480"/>
            <a:ext cx="1793880" cy="779400"/>
            <a:chOff x="4006800" y="852480"/>
            <a:chExt cx="1793880" cy="779400"/>
          </a:xfrm>
        </p:grpSpPr>
        <p:sp>
          <p:nvSpPr>
            <p:cNvPr id="157" name="AutoShape 82"/>
            <p:cNvSpPr/>
            <p:nvPr/>
          </p:nvSpPr>
          <p:spPr>
            <a:xfrm>
              <a:off x="4724280" y="852480"/>
              <a:ext cx="355680" cy="33156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3"/>
            <p:cNvSpPr/>
            <p:nvPr/>
          </p:nvSpPr>
          <p:spPr>
            <a:xfrm>
              <a:off x="4006800" y="1174680"/>
              <a:ext cx="1793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Validat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Benefit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71680" y="1952280"/>
            <a:ext cx="822960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5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after design but before proceeding to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Projects within budget largely moved forward once design completed, including Technology projects which have a history of installation difficul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Ensure the business case still ho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firms implementation risks are accounted fo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nsures appropriate allowances for testing and commissio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nalysis allows for a go or no go decision based on budget/schedu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apture bid savings for future project nee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ults:  To date, $200 million in bid savings have been captured.  The overall goal is for original intended benefits to be delivered on time and on budget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162A-49FE-4BBD-B205-2A0F3B13D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91EB-3323-4D57-B07F-9400F09DD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86"/>
          <p:cNvSpPr/>
          <p:nvPr/>
        </p:nvSpPr>
        <p:spPr>
          <a:xfrm>
            <a:off x="4264200" y="847800"/>
            <a:ext cx="2474640" cy="280800"/>
          </a:xfrm>
          <a:custGeom>
            <a:avLst/>
            <a:gdLst>
              <a:gd name="textAreaLeft" fmla="*/ 0 w 2474640"/>
              <a:gd name="textAreaRight" fmla="*/ 2475000 w 247464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06" y="0"/>
                </a:lnTo>
                <a:lnTo>
                  <a:pt x="21600" y="10800"/>
                </a:lnTo>
                <a:lnTo>
                  <a:pt x="20106" y="21600"/>
                </a:lnTo>
                <a:lnTo>
                  <a:pt x="0" y="21600"/>
                </a:lnTo>
                <a:lnTo>
                  <a:pt x="1494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tr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85"/>
          <p:cNvSpPr/>
          <p:nvPr/>
        </p:nvSpPr>
        <p:spPr>
          <a:xfrm>
            <a:off x="2513160" y="847800"/>
            <a:ext cx="2224080" cy="280800"/>
          </a:xfrm>
          <a:custGeom>
            <a:avLst/>
            <a:gdLst>
              <a:gd name="textAreaLeft" fmla="*/ 0 w 2224080"/>
              <a:gd name="textAreaRight" fmla="*/ 2224440 w 222408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a7bac1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3"/>
          <p:cNvSpPr/>
          <p:nvPr/>
        </p:nvSpPr>
        <p:spPr>
          <a:xfrm>
            <a:off x="598320" y="847800"/>
            <a:ext cx="2291040" cy="280800"/>
          </a:xfrm>
          <a:custGeom>
            <a:avLst/>
            <a:gdLst>
              <a:gd name="textAreaLeft" fmla="*/ 0 w 2291040"/>
              <a:gd name="textAreaRight" fmla="*/ 2291400 w 229104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07" y="0"/>
                </a:lnTo>
                <a:lnTo>
                  <a:pt x="21600" y="10800"/>
                </a:lnTo>
                <a:lnTo>
                  <a:pt x="192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75a69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ce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65"/>
          <p:cNvSpPr/>
          <p:nvPr/>
        </p:nvSpPr>
        <p:spPr>
          <a:xfrm>
            <a:off x="6572160" y="152280"/>
            <a:ext cx="1919520" cy="695520"/>
          </a:xfrm>
          <a:custGeom>
            <a:avLst/>
            <a:gdLst>
              <a:gd name="textAreaLeft" fmla="*/ 0 w 1919520"/>
              <a:gd name="textAreaRight" fmla="*/ 1919880 w 1919520"/>
              <a:gd name="textAreaTop" fmla="*/ 0 h 695520"/>
              <a:gd name="textAreaBottom" fmla="*/ 695880 h 69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27" y="0"/>
                </a:lnTo>
                <a:lnTo>
                  <a:pt x="21600" y="10800"/>
                </a:lnTo>
                <a:lnTo>
                  <a:pt x="19527" y="21600"/>
                </a:lnTo>
                <a:lnTo>
                  <a:pt x="0" y="21600"/>
                </a:lnTo>
                <a:lnTo>
                  <a:pt x="2073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7"/>
          <p:cNvGrpSpPr/>
          <p:nvPr/>
        </p:nvGrpSpPr>
        <p:grpSpPr>
          <a:xfrm>
            <a:off x="6359400" y="857160"/>
            <a:ext cx="1030320" cy="776520"/>
            <a:chOff x="6359400" y="857160"/>
            <a:chExt cx="1030320" cy="776520"/>
          </a:xfrm>
        </p:grpSpPr>
        <p:sp>
          <p:nvSpPr>
            <p:cNvPr id="168" name="AutoShape 82"/>
            <p:cNvSpPr/>
            <p:nvPr/>
          </p:nvSpPr>
          <p:spPr>
            <a:xfrm>
              <a:off x="6698880" y="857160"/>
              <a:ext cx="355680" cy="33192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3"/>
            <p:cNvSpPr/>
            <p:nvPr/>
          </p:nvSpPr>
          <p:spPr>
            <a:xfrm>
              <a:off x="6359400" y="1176480"/>
              <a:ext cx="1030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Lessons Learned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Rectangle 20"/>
          <p:cNvSpPr/>
          <p:nvPr/>
        </p:nvSpPr>
        <p:spPr>
          <a:xfrm>
            <a:off x="2060640" y="37987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1"/>
          <p:cNvSpPr/>
          <p:nvPr/>
        </p:nvSpPr>
        <p:spPr>
          <a:xfrm>
            <a:off x="2021040" y="384804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28120" y="1956960"/>
            <a:ext cx="8285400" cy="41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5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at conclusion of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Identification of lessons learned varied by agency and project; not consistently applied; no shared best pract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tinuous Impro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dentify failures and challenges and modify going-forward approa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hare implementation mitigation strategies across the agenc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tter prepare for operating and maintaining the new asset on a life-cycle bas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icipated Results:  Objective is to deliver on time &amp; budget our commitments to stakeholders by eliminating avoidable recurring proble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6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28A4-7AF1-41C0-9976-CCFD38D37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e Opportunities for Reviews and Interven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774880" y="1181160"/>
            <a:ext cx="61372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tics insufficient to support  prioritization of investments across asset classes and agen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ransit Asset Management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odel tradeoffs when applying constraints of a funded 5-Year Plan to unconstrained 20-Year Nee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ioritization within and across asset clas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nticipated Result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xecutive / Board ability to understand and influence tradeoffs between needed invest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ception review limited to consistency with 20-Year Needs; decentralized prioritiz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iority projects identified by selection criteria consistent with MTA strategic go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sset Class Strategies: Rolling Stock initiativ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nticipated Result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nly priority work is funded without compromising benefi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4"/>
          <p:cNvSpPr/>
          <p:nvPr/>
        </p:nvSpPr>
        <p:spPr>
          <a:xfrm>
            <a:off x="326880" y="1270080"/>
            <a:ext cx="2448000" cy="220176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Twenty-Year Needs Assessment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5"/>
          <p:cNvSpPr/>
          <p:nvPr/>
        </p:nvSpPr>
        <p:spPr>
          <a:xfrm>
            <a:off x="511200" y="3782880"/>
            <a:ext cx="2111400" cy="189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Five-Year Capital Program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7"/>
          <p:cNvGrpSpPr/>
          <p:nvPr/>
        </p:nvGrpSpPr>
        <p:grpSpPr>
          <a:xfrm>
            <a:off x="422280" y="6040440"/>
            <a:ext cx="8551800" cy="520560"/>
            <a:chOff x="422280" y="6040440"/>
            <a:chExt cx="8551800" cy="520560"/>
          </a:xfrm>
        </p:grpSpPr>
        <p:sp>
          <p:nvSpPr>
            <p:cNvPr id="179" name="AutoShape 8"/>
            <p:cNvSpPr/>
            <p:nvPr/>
          </p:nvSpPr>
          <p:spPr>
            <a:xfrm>
              <a:off x="2255760" y="6178680"/>
              <a:ext cx="791640" cy="297000"/>
            </a:xfrm>
            <a:prstGeom prst="rightArrow">
              <a:avLst>
                <a:gd name="adj1" fmla="val 50000"/>
                <a:gd name="adj2" fmla="val 66636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2"/>
            <p:cNvSpPr/>
            <p:nvPr/>
          </p:nvSpPr>
          <p:spPr>
            <a:xfrm>
              <a:off x="422280" y="6040440"/>
              <a:ext cx="855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Arial"/>
                </a:rPr>
                <a:t>Outcome 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Arial"/>
                </a:rPr>
                <a:t>	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Arial"/>
                </a:rPr>
                <a:t>	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Arial"/>
                </a:rPr>
                <a:t>Make Every Dollar Count!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3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0305-6611-47BF-AE33-5B521657D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2"/>
          <p:cNvSpPr/>
          <p:nvPr/>
        </p:nvSpPr>
        <p:spPr>
          <a:xfrm>
            <a:off x="385920" y="235080"/>
            <a:ext cx="74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Added Reviews Replace Paper Proc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48B6-AA1E-4744-A098-5091F6219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2"/>
          <p:cNvSpPr/>
          <p:nvPr/>
        </p:nvSpPr>
        <p:spPr>
          <a:xfrm>
            <a:off x="5778360" y="2413080"/>
            <a:ext cx="2070360" cy="1592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333399"/>
                </a:solidFill>
                <a:latin typeface="Arial"/>
              </a:rPr>
              <a:t>Project Gate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3"/>
          <p:cNvGrpSpPr/>
          <p:nvPr/>
        </p:nvGrpSpPr>
        <p:grpSpPr>
          <a:xfrm>
            <a:off x="5261400" y="1631880"/>
            <a:ext cx="2257920" cy="2543400"/>
            <a:chOff x="5261400" y="1631880"/>
            <a:chExt cx="2257920" cy="2543400"/>
          </a:xfrm>
        </p:grpSpPr>
        <p:sp>
          <p:nvSpPr>
            <p:cNvPr id="187" name="Freeform 14"/>
            <p:cNvSpPr/>
            <p:nvPr/>
          </p:nvSpPr>
          <p:spPr>
            <a:xfrm>
              <a:off x="5291280" y="1631880"/>
              <a:ext cx="1577520" cy="2376360"/>
            </a:xfrm>
            <a:custGeom>
              <a:avLst/>
              <a:gdLst/>
              <a:ahLst/>
              <a:rect l="l" t="t" r="r" b="b"/>
              <a:pathLst>
                <a:path w="994" h="1497">
                  <a:moveTo>
                    <a:pt x="131" y="1497"/>
                  </a:moveTo>
                  <a:lnTo>
                    <a:pt x="125" y="1480"/>
                  </a:lnTo>
                  <a:lnTo>
                    <a:pt x="114" y="1463"/>
                  </a:lnTo>
                  <a:lnTo>
                    <a:pt x="108" y="1446"/>
                  </a:lnTo>
                  <a:lnTo>
                    <a:pt x="97" y="1434"/>
                  </a:lnTo>
                  <a:lnTo>
                    <a:pt x="91" y="1417"/>
                  </a:lnTo>
                  <a:lnTo>
                    <a:pt x="85" y="1400"/>
                  </a:lnTo>
                  <a:lnTo>
                    <a:pt x="80" y="1383"/>
                  </a:lnTo>
                  <a:lnTo>
                    <a:pt x="68" y="1371"/>
                  </a:lnTo>
                  <a:lnTo>
                    <a:pt x="62" y="1354"/>
                  </a:lnTo>
                  <a:lnTo>
                    <a:pt x="57" y="1337"/>
                  </a:lnTo>
                  <a:lnTo>
                    <a:pt x="51" y="1320"/>
                  </a:lnTo>
                  <a:lnTo>
                    <a:pt x="45" y="1303"/>
                  </a:lnTo>
                  <a:lnTo>
                    <a:pt x="40" y="1286"/>
                  </a:lnTo>
                  <a:lnTo>
                    <a:pt x="34" y="1268"/>
                  </a:lnTo>
                  <a:lnTo>
                    <a:pt x="34" y="1251"/>
                  </a:lnTo>
                  <a:lnTo>
                    <a:pt x="28" y="1234"/>
                  </a:lnTo>
                  <a:lnTo>
                    <a:pt x="22" y="1223"/>
                  </a:lnTo>
                  <a:lnTo>
                    <a:pt x="22" y="1206"/>
                  </a:lnTo>
                  <a:lnTo>
                    <a:pt x="17" y="1188"/>
                  </a:lnTo>
                  <a:lnTo>
                    <a:pt x="11" y="1171"/>
                  </a:lnTo>
                  <a:lnTo>
                    <a:pt x="11" y="1154"/>
                  </a:lnTo>
                  <a:lnTo>
                    <a:pt x="5" y="1137"/>
                  </a:lnTo>
                  <a:lnTo>
                    <a:pt x="5" y="1120"/>
                  </a:lnTo>
                  <a:lnTo>
                    <a:pt x="5" y="1097"/>
                  </a:lnTo>
                  <a:lnTo>
                    <a:pt x="0" y="1080"/>
                  </a:lnTo>
                  <a:lnTo>
                    <a:pt x="0" y="1063"/>
                  </a:lnTo>
                  <a:lnTo>
                    <a:pt x="0" y="1046"/>
                  </a:lnTo>
                  <a:lnTo>
                    <a:pt x="0" y="1028"/>
                  </a:lnTo>
                  <a:lnTo>
                    <a:pt x="0" y="1011"/>
                  </a:lnTo>
                  <a:lnTo>
                    <a:pt x="0" y="994"/>
                  </a:lnTo>
                  <a:lnTo>
                    <a:pt x="0" y="977"/>
                  </a:lnTo>
                  <a:lnTo>
                    <a:pt x="0" y="960"/>
                  </a:lnTo>
                  <a:lnTo>
                    <a:pt x="0" y="943"/>
                  </a:lnTo>
                  <a:lnTo>
                    <a:pt x="0" y="926"/>
                  </a:lnTo>
                  <a:lnTo>
                    <a:pt x="0" y="908"/>
                  </a:lnTo>
                  <a:lnTo>
                    <a:pt x="5" y="891"/>
                  </a:lnTo>
                  <a:lnTo>
                    <a:pt x="5" y="874"/>
                  </a:lnTo>
                  <a:lnTo>
                    <a:pt x="5" y="857"/>
                  </a:lnTo>
                  <a:lnTo>
                    <a:pt x="11" y="840"/>
                  </a:lnTo>
                  <a:lnTo>
                    <a:pt x="11" y="823"/>
                  </a:lnTo>
                  <a:lnTo>
                    <a:pt x="17" y="806"/>
                  </a:lnTo>
                  <a:lnTo>
                    <a:pt x="22" y="788"/>
                  </a:lnTo>
                  <a:lnTo>
                    <a:pt x="22" y="771"/>
                  </a:lnTo>
                  <a:lnTo>
                    <a:pt x="28" y="754"/>
                  </a:lnTo>
                  <a:lnTo>
                    <a:pt x="34" y="737"/>
                  </a:lnTo>
                  <a:lnTo>
                    <a:pt x="34" y="720"/>
                  </a:lnTo>
                  <a:lnTo>
                    <a:pt x="40" y="703"/>
                  </a:lnTo>
                  <a:lnTo>
                    <a:pt x="45" y="686"/>
                  </a:lnTo>
                  <a:lnTo>
                    <a:pt x="51" y="668"/>
                  </a:lnTo>
                  <a:lnTo>
                    <a:pt x="57" y="657"/>
                  </a:lnTo>
                  <a:lnTo>
                    <a:pt x="62" y="640"/>
                  </a:lnTo>
                  <a:lnTo>
                    <a:pt x="68" y="623"/>
                  </a:lnTo>
                  <a:lnTo>
                    <a:pt x="80" y="606"/>
                  </a:lnTo>
                  <a:lnTo>
                    <a:pt x="85" y="588"/>
                  </a:lnTo>
                  <a:lnTo>
                    <a:pt x="91" y="577"/>
                  </a:lnTo>
                  <a:lnTo>
                    <a:pt x="97" y="560"/>
                  </a:lnTo>
                  <a:lnTo>
                    <a:pt x="108" y="543"/>
                  </a:lnTo>
                  <a:lnTo>
                    <a:pt x="114" y="526"/>
                  </a:lnTo>
                  <a:lnTo>
                    <a:pt x="125" y="514"/>
                  </a:lnTo>
                  <a:lnTo>
                    <a:pt x="131" y="497"/>
                  </a:lnTo>
                  <a:lnTo>
                    <a:pt x="142" y="480"/>
                  </a:lnTo>
                  <a:lnTo>
                    <a:pt x="148" y="468"/>
                  </a:lnTo>
                  <a:lnTo>
                    <a:pt x="160" y="451"/>
                  </a:lnTo>
                  <a:lnTo>
                    <a:pt x="165" y="440"/>
                  </a:lnTo>
                  <a:lnTo>
                    <a:pt x="177" y="423"/>
                  </a:lnTo>
                  <a:lnTo>
                    <a:pt x="188" y="411"/>
                  </a:lnTo>
                  <a:lnTo>
                    <a:pt x="200" y="394"/>
                  </a:lnTo>
                  <a:lnTo>
                    <a:pt x="211" y="383"/>
                  </a:lnTo>
                  <a:lnTo>
                    <a:pt x="222" y="366"/>
                  </a:lnTo>
                  <a:lnTo>
                    <a:pt x="228" y="354"/>
                  </a:lnTo>
                  <a:lnTo>
                    <a:pt x="240" y="343"/>
                  </a:lnTo>
                  <a:lnTo>
                    <a:pt x="251" y="326"/>
                  </a:lnTo>
                  <a:lnTo>
                    <a:pt x="262" y="314"/>
                  </a:lnTo>
                  <a:lnTo>
                    <a:pt x="280" y="303"/>
                  </a:lnTo>
                  <a:lnTo>
                    <a:pt x="291" y="291"/>
                  </a:lnTo>
                  <a:lnTo>
                    <a:pt x="302" y="280"/>
                  </a:lnTo>
                  <a:lnTo>
                    <a:pt x="314" y="268"/>
                  </a:lnTo>
                  <a:lnTo>
                    <a:pt x="325" y="257"/>
                  </a:lnTo>
                  <a:lnTo>
                    <a:pt x="342" y="246"/>
                  </a:lnTo>
                  <a:lnTo>
                    <a:pt x="354" y="234"/>
                  </a:lnTo>
                  <a:lnTo>
                    <a:pt x="365" y="223"/>
                  </a:lnTo>
                  <a:lnTo>
                    <a:pt x="382" y="211"/>
                  </a:lnTo>
                  <a:lnTo>
                    <a:pt x="394" y="200"/>
                  </a:lnTo>
                  <a:lnTo>
                    <a:pt x="405" y="188"/>
                  </a:lnTo>
                  <a:lnTo>
                    <a:pt x="422" y="177"/>
                  </a:lnTo>
                  <a:lnTo>
                    <a:pt x="434" y="171"/>
                  </a:lnTo>
                  <a:lnTo>
                    <a:pt x="451" y="160"/>
                  </a:lnTo>
                  <a:lnTo>
                    <a:pt x="468" y="148"/>
                  </a:lnTo>
                  <a:lnTo>
                    <a:pt x="480" y="143"/>
                  </a:lnTo>
                  <a:lnTo>
                    <a:pt x="497" y="131"/>
                  </a:lnTo>
                  <a:lnTo>
                    <a:pt x="508" y="126"/>
                  </a:lnTo>
                  <a:lnTo>
                    <a:pt x="525" y="114"/>
                  </a:lnTo>
                  <a:lnTo>
                    <a:pt x="542" y="108"/>
                  </a:lnTo>
                  <a:lnTo>
                    <a:pt x="554" y="97"/>
                  </a:lnTo>
                  <a:lnTo>
                    <a:pt x="571" y="91"/>
                  </a:lnTo>
                  <a:lnTo>
                    <a:pt x="588" y="86"/>
                  </a:lnTo>
                  <a:lnTo>
                    <a:pt x="605" y="80"/>
                  </a:lnTo>
                  <a:lnTo>
                    <a:pt x="622" y="68"/>
                  </a:lnTo>
                  <a:lnTo>
                    <a:pt x="634" y="63"/>
                  </a:lnTo>
                  <a:lnTo>
                    <a:pt x="651" y="57"/>
                  </a:lnTo>
                  <a:lnTo>
                    <a:pt x="668" y="51"/>
                  </a:lnTo>
                  <a:lnTo>
                    <a:pt x="685" y="46"/>
                  </a:lnTo>
                  <a:lnTo>
                    <a:pt x="702" y="40"/>
                  </a:lnTo>
                  <a:lnTo>
                    <a:pt x="720" y="40"/>
                  </a:lnTo>
                  <a:lnTo>
                    <a:pt x="737" y="34"/>
                  </a:lnTo>
                  <a:lnTo>
                    <a:pt x="754" y="28"/>
                  </a:lnTo>
                  <a:lnTo>
                    <a:pt x="771" y="23"/>
                  </a:lnTo>
                  <a:lnTo>
                    <a:pt x="788" y="23"/>
                  </a:lnTo>
                  <a:lnTo>
                    <a:pt x="805" y="17"/>
                  </a:lnTo>
                  <a:lnTo>
                    <a:pt x="822" y="11"/>
                  </a:lnTo>
                  <a:lnTo>
                    <a:pt x="840" y="11"/>
                  </a:lnTo>
                  <a:lnTo>
                    <a:pt x="857" y="6"/>
                  </a:lnTo>
                  <a:lnTo>
                    <a:pt x="874" y="6"/>
                  </a:lnTo>
                  <a:lnTo>
                    <a:pt x="891" y="6"/>
                  </a:lnTo>
                  <a:lnTo>
                    <a:pt x="908" y="0"/>
                  </a:lnTo>
                  <a:lnTo>
                    <a:pt x="925" y="0"/>
                  </a:lnTo>
                  <a:lnTo>
                    <a:pt x="942" y="0"/>
                  </a:lnTo>
                  <a:lnTo>
                    <a:pt x="960" y="0"/>
                  </a:lnTo>
                  <a:lnTo>
                    <a:pt x="977" y="0"/>
                  </a:lnTo>
                  <a:lnTo>
                    <a:pt x="994" y="0"/>
                  </a:lnTo>
                  <a:lnTo>
                    <a:pt x="994" y="497"/>
                  </a:lnTo>
                  <a:lnTo>
                    <a:pt x="982" y="497"/>
                  </a:lnTo>
                  <a:lnTo>
                    <a:pt x="977" y="497"/>
                  </a:lnTo>
                  <a:lnTo>
                    <a:pt x="965" y="497"/>
                  </a:lnTo>
                  <a:lnTo>
                    <a:pt x="960" y="497"/>
                  </a:lnTo>
                  <a:lnTo>
                    <a:pt x="948" y="497"/>
                  </a:lnTo>
                  <a:lnTo>
                    <a:pt x="942" y="497"/>
                  </a:lnTo>
                  <a:lnTo>
                    <a:pt x="931" y="497"/>
                  </a:lnTo>
                  <a:lnTo>
                    <a:pt x="925" y="503"/>
                  </a:lnTo>
                  <a:lnTo>
                    <a:pt x="914" y="503"/>
                  </a:lnTo>
                  <a:lnTo>
                    <a:pt x="908" y="503"/>
                  </a:lnTo>
                  <a:lnTo>
                    <a:pt x="897" y="503"/>
                  </a:lnTo>
                  <a:lnTo>
                    <a:pt x="891" y="508"/>
                  </a:lnTo>
                  <a:lnTo>
                    <a:pt x="880" y="508"/>
                  </a:lnTo>
                  <a:lnTo>
                    <a:pt x="874" y="508"/>
                  </a:lnTo>
                  <a:lnTo>
                    <a:pt x="862" y="514"/>
                  </a:lnTo>
                  <a:lnTo>
                    <a:pt x="857" y="514"/>
                  </a:lnTo>
                  <a:lnTo>
                    <a:pt x="845" y="520"/>
                  </a:lnTo>
                  <a:lnTo>
                    <a:pt x="840" y="520"/>
                  </a:lnTo>
                  <a:lnTo>
                    <a:pt x="828" y="526"/>
                  </a:lnTo>
                  <a:lnTo>
                    <a:pt x="822" y="526"/>
                  </a:lnTo>
                  <a:lnTo>
                    <a:pt x="817" y="531"/>
                  </a:lnTo>
                  <a:lnTo>
                    <a:pt x="805" y="531"/>
                  </a:lnTo>
                  <a:lnTo>
                    <a:pt x="800" y="537"/>
                  </a:lnTo>
                  <a:lnTo>
                    <a:pt x="788" y="537"/>
                  </a:lnTo>
                  <a:lnTo>
                    <a:pt x="782" y="543"/>
                  </a:lnTo>
                  <a:lnTo>
                    <a:pt x="777" y="548"/>
                  </a:lnTo>
                  <a:lnTo>
                    <a:pt x="765" y="548"/>
                  </a:lnTo>
                  <a:lnTo>
                    <a:pt x="760" y="554"/>
                  </a:lnTo>
                  <a:lnTo>
                    <a:pt x="754" y="560"/>
                  </a:lnTo>
                  <a:lnTo>
                    <a:pt x="742" y="560"/>
                  </a:lnTo>
                  <a:lnTo>
                    <a:pt x="737" y="566"/>
                  </a:lnTo>
                  <a:lnTo>
                    <a:pt x="731" y="571"/>
                  </a:lnTo>
                  <a:lnTo>
                    <a:pt x="720" y="577"/>
                  </a:lnTo>
                  <a:lnTo>
                    <a:pt x="714" y="583"/>
                  </a:lnTo>
                  <a:lnTo>
                    <a:pt x="708" y="588"/>
                  </a:lnTo>
                  <a:lnTo>
                    <a:pt x="702" y="588"/>
                  </a:lnTo>
                  <a:lnTo>
                    <a:pt x="691" y="594"/>
                  </a:lnTo>
                  <a:lnTo>
                    <a:pt x="685" y="600"/>
                  </a:lnTo>
                  <a:lnTo>
                    <a:pt x="680" y="606"/>
                  </a:lnTo>
                  <a:lnTo>
                    <a:pt x="674" y="611"/>
                  </a:lnTo>
                  <a:lnTo>
                    <a:pt x="668" y="617"/>
                  </a:lnTo>
                  <a:lnTo>
                    <a:pt x="662" y="623"/>
                  </a:lnTo>
                  <a:lnTo>
                    <a:pt x="651" y="628"/>
                  </a:lnTo>
                  <a:lnTo>
                    <a:pt x="645" y="634"/>
                  </a:lnTo>
                  <a:lnTo>
                    <a:pt x="640" y="640"/>
                  </a:lnTo>
                  <a:lnTo>
                    <a:pt x="634" y="646"/>
                  </a:lnTo>
                  <a:lnTo>
                    <a:pt x="628" y="657"/>
                  </a:lnTo>
                  <a:lnTo>
                    <a:pt x="622" y="663"/>
                  </a:lnTo>
                  <a:lnTo>
                    <a:pt x="617" y="668"/>
                  </a:lnTo>
                  <a:lnTo>
                    <a:pt x="611" y="674"/>
                  </a:lnTo>
                  <a:lnTo>
                    <a:pt x="605" y="680"/>
                  </a:lnTo>
                  <a:lnTo>
                    <a:pt x="600" y="686"/>
                  </a:lnTo>
                  <a:lnTo>
                    <a:pt x="594" y="697"/>
                  </a:lnTo>
                  <a:lnTo>
                    <a:pt x="588" y="703"/>
                  </a:lnTo>
                  <a:lnTo>
                    <a:pt x="582" y="708"/>
                  </a:lnTo>
                  <a:lnTo>
                    <a:pt x="582" y="714"/>
                  </a:lnTo>
                  <a:lnTo>
                    <a:pt x="577" y="726"/>
                  </a:lnTo>
                  <a:lnTo>
                    <a:pt x="571" y="731"/>
                  </a:lnTo>
                  <a:lnTo>
                    <a:pt x="565" y="737"/>
                  </a:lnTo>
                  <a:lnTo>
                    <a:pt x="560" y="743"/>
                  </a:lnTo>
                  <a:lnTo>
                    <a:pt x="560" y="754"/>
                  </a:lnTo>
                  <a:lnTo>
                    <a:pt x="554" y="760"/>
                  </a:lnTo>
                  <a:lnTo>
                    <a:pt x="548" y="771"/>
                  </a:lnTo>
                  <a:lnTo>
                    <a:pt x="548" y="777"/>
                  </a:lnTo>
                  <a:lnTo>
                    <a:pt x="542" y="783"/>
                  </a:lnTo>
                  <a:lnTo>
                    <a:pt x="537" y="794"/>
                  </a:lnTo>
                  <a:lnTo>
                    <a:pt x="537" y="800"/>
                  </a:lnTo>
                  <a:lnTo>
                    <a:pt x="531" y="806"/>
                  </a:lnTo>
                  <a:lnTo>
                    <a:pt x="531" y="817"/>
                  </a:lnTo>
                  <a:lnTo>
                    <a:pt x="525" y="823"/>
                  </a:lnTo>
                  <a:lnTo>
                    <a:pt x="520" y="834"/>
                  </a:lnTo>
                  <a:lnTo>
                    <a:pt x="520" y="840"/>
                  </a:lnTo>
                  <a:lnTo>
                    <a:pt x="520" y="851"/>
                  </a:lnTo>
                  <a:lnTo>
                    <a:pt x="514" y="857"/>
                  </a:lnTo>
                  <a:lnTo>
                    <a:pt x="514" y="868"/>
                  </a:lnTo>
                  <a:lnTo>
                    <a:pt x="508" y="874"/>
                  </a:lnTo>
                  <a:lnTo>
                    <a:pt x="508" y="886"/>
                  </a:lnTo>
                  <a:lnTo>
                    <a:pt x="508" y="891"/>
                  </a:lnTo>
                  <a:lnTo>
                    <a:pt x="502" y="903"/>
                  </a:lnTo>
                  <a:lnTo>
                    <a:pt x="502" y="908"/>
                  </a:lnTo>
                  <a:lnTo>
                    <a:pt x="502" y="920"/>
                  </a:lnTo>
                  <a:lnTo>
                    <a:pt x="502" y="926"/>
                  </a:lnTo>
                  <a:lnTo>
                    <a:pt x="497" y="937"/>
                  </a:lnTo>
                  <a:lnTo>
                    <a:pt x="497" y="943"/>
                  </a:lnTo>
                  <a:lnTo>
                    <a:pt x="497" y="954"/>
                  </a:lnTo>
                  <a:lnTo>
                    <a:pt x="497" y="960"/>
                  </a:lnTo>
                  <a:lnTo>
                    <a:pt x="497" y="971"/>
                  </a:lnTo>
                  <a:lnTo>
                    <a:pt x="497" y="977"/>
                  </a:lnTo>
                  <a:lnTo>
                    <a:pt x="497" y="988"/>
                  </a:lnTo>
                  <a:lnTo>
                    <a:pt x="497" y="994"/>
                  </a:lnTo>
                  <a:lnTo>
                    <a:pt x="497" y="1006"/>
                  </a:lnTo>
                  <a:lnTo>
                    <a:pt x="497" y="1011"/>
                  </a:lnTo>
                  <a:lnTo>
                    <a:pt x="497" y="1023"/>
                  </a:lnTo>
                  <a:lnTo>
                    <a:pt x="497" y="1028"/>
                  </a:lnTo>
                  <a:lnTo>
                    <a:pt x="497" y="1040"/>
                  </a:lnTo>
                  <a:lnTo>
                    <a:pt x="497" y="1046"/>
                  </a:lnTo>
                  <a:lnTo>
                    <a:pt x="497" y="1057"/>
                  </a:lnTo>
                  <a:lnTo>
                    <a:pt x="502" y="1063"/>
                  </a:lnTo>
                  <a:lnTo>
                    <a:pt x="502" y="1074"/>
                  </a:lnTo>
                  <a:lnTo>
                    <a:pt x="502" y="1080"/>
                  </a:lnTo>
                  <a:lnTo>
                    <a:pt x="502" y="1091"/>
                  </a:lnTo>
                  <a:lnTo>
                    <a:pt x="508" y="1097"/>
                  </a:lnTo>
                  <a:lnTo>
                    <a:pt x="508" y="1108"/>
                  </a:lnTo>
                  <a:lnTo>
                    <a:pt x="508" y="1114"/>
                  </a:lnTo>
                  <a:lnTo>
                    <a:pt x="514" y="1126"/>
                  </a:lnTo>
                  <a:lnTo>
                    <a:pt x="514" y="1131"/>
                  </a:lnTo>
                  <a:lnTo>
                    <a:pt x="520" y="1143"/>
                  </a:lnTo>
                  <a:lnTo>
                    <a:pt x="520" y="1148"/>
                  </a:lnTo>
                  <a:lnTo>
                    <a:pt x="520" y="1160"/>
                  </a:lnTo>
                  <a:lnTo>
                    <a:pt x="525" y="1166"/>
                  </a:lnTo>
                  <a:lnTo>
                    <a:pt x="531" y="1177"/>
                  </a:lnTo>
                  <a:lnTo>
                    <a:pt x="531" y="1183"/>
                  </a:lnTo>
                  <a:lnTo>
                    <a:pt x="537" y="1188"/>
                  </a:lnTo>
                  <a:lnTo>
                    <a:pt x="537" y="1200"/>
                  </a:lnTo>
                  <a:lnTo>
                    <a:pt x="542" y="1206"/>
                  </a:lnTo>
                  <a:lnTo>
                    <a:pt x="548" y="1217"/>
                  </a:lnTo>
                  <a:lnTo>
                    <a:pt x="548" y="1223"/>
                  </a:lnTo>
                  <a:lnTo>
                    <a:pt x="554" y="1228"/>
                  </a:lnTo>
                  <a:lnTo>
                    <a:pt x="560" y="1240"/>
                  </a:lnTo>
                  <a:lnTo>
                    <a:pt x="560" y="1246"/>
                  </a:lnTo>
                  <a:lnTo>
                    <a:pt x="131" y="1497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WordArt 15"/>
            <p:cNvSpPr txBox="1"/>
            <p:nvPr/>
          </p:nvSpPr>
          <p:spPr>
            <a:xfrm rot="17998800">
              <a:off x="5345640" y="2219400"/>
              <a:ext cx="2089080" cy="14014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62997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Targeted Interventions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89" name="Freeform 17"/>
          <p:cNvSpPr/>
          <p:nvPr/>
        </p:nvSpPr>
        <p:spPr>
          <a:xfrm>
            <a:off x="6869160" y="1631880"/>
            <a:ext cx="1577880" cy="2376720"/>
          </a:xfrm>
          <a:custGeom>
            <a:avLst/>
            <a:gdLst/>
            <a:ahLst/>
            <a:rect l="l" t="t" r="r" b="b"/>
            <a:pathLst>
              <a:path w="994" h="1497">
                <a:moveTo>
                  <a:pt x="0" y="0"/>
                </a:moveTo>
                <a:lnTo>
                  <a:pt x="17" y="0"/>
                </a:lnTo>
                <a:lnTo>
                  <a:pt x="34" y="0"/>
                </a:lnTo>
                <a:lnTo>
                  <a:pt x="51" y="0"/>
                </a:lnTo>
                <a:lnTo>
                  <a:pt x="68" y="0"/>
                </a:lnTo>
                <a:lnTo>
                  <a:pt x="85" y="0"/>
                </a:lnTo>
                <a:lnTo>
                  <a:pt x="103" y="6"/>
                </a:lnTo>
                <a:lnTo>
                  <a:pt x="120" y="6"/>
                </a:lnTo>
                <a:lnTo>
                  <a:pt x="137" y="6"/>
                </a:lnTo>
                <a:lnTo>
                  <a:pt x="154" y="11"/>
                </a:lnTo>
                <a:lnTo>
                  <a:pt x="171" y="11"/>
                </a:lnTo>
                <a:lnTo>
                  <a:pt x="188" y="17"/>
                </a:lnTo>
                <a:lnTo>
                  <a:pt x="205" y="23"/>
                </a:lnTo>
                <a:lnTo>
                  <a:pt x="223" y="23"/>
                </a:lnTo>
                <a:lnTo>
                  <a:pt x="240" y="28"/>
                </a:lnTo>
                <a:lnTo>
                  <a:pt x="257" y="34"/>
                </a:lnTo>
                <a:lnTo>
                  <a:pt x="274" y="40"/>
                </a:lnTo>
                <a:lnTo>
                  <a:pt x="291" y="40"/>
                </a:lnTo>
                <a:lnTo>
                  <a:pt x="308" y="46"/>
                </a:lnTo>
                <a:lnTo>
                  <a:pt x="320" y="51"/>
                </a:lnTo>
                <a:lnTo>
                  <a:pt x="337" y="57"/>
                </a:lnTo>
                <a:lnTo>
                  <a:pt x="354" y="63"/>
                </a:lnTo>
                <a:lnTo>
                  <a:pt x="371" y="68"/>
                </a:lnTo>
                <a:lnTo>
                  <a:pt x="388" y="80"/>
                </a:lnTo>
                <a:lnTo>
                  <a:pt x="405" y="86"/>
                </a:lnTo>
                <a:lnTo>
                  <a:pt x="417" y="91"/>
                </a:lnTo>
                <a:lnTo>
                  <a:pt x="434" y="97"/>
                </a:lnTo>
                <a:lnTo>
                  <a:pt x="451" y="108"/>
                </a:lnTo>
                <a:lnTo>
                  <a:pt x="463" y="114"/>
                </a:lnTo>
                <a:lnTo>
                  <a:pt x="480" y="126"/>
                </a:lnTo>
                <a:lnTo>
                  <a:pt x="497" y="131"/>
                </a:lnTo>
                <a:lnTo>
                  <a:pt x="508" y="143"/>
                </a:lnTo>
                <a:lnTo>
                  <a:pt x="525" y="148"/>
                </a:lnTo>
                <a:lnTo>
                  <a:pt x="543" y="160"/>
                </a:lnTo>
                <a:lnTo>
                  <a:pt x="554" y="171"/>
                </a:lnTo>
                <a:lnTo>
                  <a:pt x="571" y="177"/>
                </a:lnTo>
                <a:lnTo>
                  <a:pt x="583" y="188"/>
                </a:lnTo>
                <a:lnTo>
                  <a:pt x="594" y="200"/>
                </a:lnTo>
                <a:lnTo>
                  <a:pt x="611" y="211"/>
                </a:lnTo>
                <a:lnTo>
                  <a:pt x="623" y="223"/>
                </a:lnTo>
                <a:lnTo>
                  <a:pt x="640" y="234"/>
                </a:lnTo>
                <a:lnTo>
                  <a:pt x="651" y="246"/>
                </a:lnTo>
                <a:lnTo>
                  <a:pt x="663" y="257"/>
                </a:lnTo>
                <a:lnTo>
                  <a:pt x="674" y="268"/>
                </a:lnTo>
                <a:lnTo>
                  <a:pt x="691" y="280"/>
                </a:lnTo>
                <a:lnTo>
                  <a:pt x="703" y="291"/>
                </a:lnTo>
                <a:lnTo>
                  <a:pt x="714" y="303"/>
                </a:lnTo>
                <a:lnTo>
                  <a:pt x="725" y="314"/>
                </a:lnTo>
                <a:lnTo>
                  <a:pt x="737" y="326"/>
                </a:lnTo>
                <a:lnTo>
                  <a:pt x="748" y="343"/>
                </a:lnTo>
                <a:lnTo>
                  <a:pt x="760" y="354"/>
                </a:lnTo>
                <a:lnTo>
                  <a:pt x="771" y="366"/>
                </a:lnTo>
                <a:lnTo>
                  <a:pt x="783" y="383"/>
                </a:lnTo>
                <a:lnTo>
                  <a:pt x="794" y="394"/>
                </a:lnTo>
                <a:lnTo>
                  <a:pt x="805" y="411"/>
                </a:lnTo>
                <a:lnTo>
                  <a:pt x="811" y="423"/>
                </a:lnTo>
                <a:lnTo>
                  <a:pt x="823" y="440"/>
                </a:lnTo>
                <a:lnTo>
                  <a:pt x="834" y="451"/>
                </a:lnTo>
                <a:lnTo>
                  <a:pt x="840" y="468"/>
                </a:lnTo>
                <a:lnTo>
                  <a:pt x="851" y="480"/>
                </a:lnTo>
                <a:lnTo>
                  <a:pt x="857" y="497"/>
                </a:lnTo>
                <a:lnTo>
                  <a:pt x="868" y="514"/>
                </a:lnTo>
                <a:lnTo>
                  <a:pt x="874" y="526"/>
                </a:lnTo>
                <a:lnTo>
                  <a:pt x="885" y="543"/>
                </a:lnTo>
                <a:lnTo>
                  <a:pt x="891" y="560"/>
                </a:lnTo>
                <a:lnTo>
                  <a:pt x="897" y="577"/>
                </a:lnTo>
                <a:lnTo>
                  <a:pt x="908" y="588"/>
                </a:lnTo>
                <a:lnTo>
                  <a:pt x="914" y="606"/>
                </a:lnTo>
                <a:lnTo>
                  <a:pt x="920" y="623"/>
                </a:lnTo>
                <a:lnTo>
                  <a:pt x="925" y="640"/>
                </a:lnTo>
                <a:lnTo>
                  <a:pt x="931" y="657"/>
                </a:lnTo>
                <a:lnTo>
                  <a:pt x="937" y="668"/>
                </a:lnTo>
                <a:lnTo>
                  <a:pt x="943" y="686"/>
                </a:lnTo>
                <a:lnTo>
                  <a:pt x="948" y="703"/>
                </a:lnTo>
                <a:lnTo>
                  <a:pt x="954" y="720"/>
                </a:lnTo>
                <a:lnTo>
                  <a:pt x="960" y="737"/>
                </a:lnTo>
                <a:lnTo>
                  <a:pt x="965" y="754"/>
                </a:lnTo>
                <a:lnTo>
                  <a:pt x="965" y="771"/>
                </a:lnTo>
                <a:lnTo>
                  <a:pt x="971" y="788"/>
                </a:lnTo>
                <a:lnTo>
                  <a:pt x="977" y="806"/>
                </a:lnTo>
                <a:lnTo>
                  <a:pt x="977" y="823"/>
                </a:lnTo>
                <a:lnTo>
                  <a:pt x="983" y="840"/>
                </a:lnTo>
                <a:lnTo>
                  <a:pt x="983" y="857"/>
                </a:lnTo>
                <a:lnTo>
                  <a:pt x="983" y="874"/>
                </a:lnTo>
                <a:lnTo>
                  <a:pt x="988" y="891"/>
                </a:lnTo>
                <a:lnTo>
                  <a:pt x="988" y="908"/>
                </a:lnTo>
                <a:lnTo>
                  <a:pt x="988" y="926"/>
                </a:lnTo>
                <a:lnTo>
                  <a:pt x="994" y="943"/>
                </a:lnTo>
                <a:lnTo>
                  <a:pt x="994" y="960"/>
                </a:lnTo>
                <a:lnTo>
                  <a:pt x="994" y="977"/>
                </a:lnTo>
                <a:lnTo>
                  <a:pt x="994" y="994"/>
                </a:lnTo>
                <a:lnTo>
                  <a:pt x="994" y="1011"/>
                </a:lnTo>
                <a:lnTo>
                  <a:pt x="994" y="1028"/>
                </a:lnTo>
                <a:lnTo>
                  <a:pt x="994" y="1046"/>
                </a:lnTo>
                <a:lnTo>
                  <a:pt x="988" y="1063"/>
                </a:lnTo>
                <a:lnTo>
                  <a:pt x="988" y="1080"/>
                </a:lnTo>
                <a:lnTo>
                  <a:pt x="988" y="1097"/>
                </a:lnTo>
                <a:lnTo>
                  <a:pt x="983" y="1120"/>
                </a:lnTo>
                <a:lnTo>
                  <a:pt x="983" y="1137"/>
                </a:lnTo>
                <a:lnTo>
                  <a:pt x="983" y="1154"/>
                </a:lnTo>
                <a:lnTo>
                  <a:pt x="977" y="1171"/>
                </a:lnTo>
                <a:lnTo>
                  <a:pt x="977" y="1188"/>
                </a:lnTo>
                <a:lnTo>
                  <a:pt x="971" y="1206"/>
                </a:lnTo>
                <a:lnTo>
                  <a:pt x="965" y="1223"/>
                </a:lnTo>
                <a:lnTo>
                  <a:pt x="965" y="1234"/>
                </a:lnTo>
                <a:lnTo>
                  <a:pt x="960" y="1251"/>
                </a:lnTo>
                <a:lnTo>
                  <a:pt x="954" y="1268"/>
                </a:lnTo>
                <a:lnTo>
                  <a:pt x="948" y="1286"/>
                </a:lnTo>
                <a:lnTo>
                  <a:pt x="943" y="1303"/>
                </a:lnTo>
                <a:lnTo>
                  <a:pt x="937" y="1320"/>
                </a:lnTo>
                <a:lnTo>
                  <a:pt x="931" y="1337"/>
                </a:lnTo>
                <a:lnTo>
                  <a:pt x="925" y="1354"/>
                </a:lnTo>
                <a:lnTo>
                  <a:pt x="920" y="1371"/>
                </a:lnTo>
                <a:lnTo>
                  <a:pt x="914" y="1383"/>
                </a:lnTo>
                <a:lnTo>
                  <a:pt x="908" y="1400"/>
                </a:lnTo>
                <a:lnTo>
                  <a:pt x="897" y="1417"/>
                </a:lnTo>
                <a:lnTo>
                  <a:pt x="891" y="1434"/>
                </a:lnTo>
                <a:lnTo>
                  <a:pt x="885" y="1446"/>
                </a:lnTo>
                <a:lnTo>
                  <a:pt x="874" y="1463"/>
                </a:lnTo>
                <a:lnTo>
                  <a:pt x="868" y="1480"/>
                </a:lnTo>
                <a:lnTo>
                  <a:pt x="857" y="1497"/>
                </a:lnTo>
                <a:lnTo>
                  <a:pt x="428" y="1246"/>
                </a:lnTo>
                <a:lnTo>
                  <a:pt x="434" y="1240"/>
                </a:lnTo>
                <a:lnTo>
                  <a:pt x="440" y="1228"/>
                </a:lnTo>
                <a:lnTo>
                  <a:pt x="440" y="1223"/>
                </a:lnTo>
                <a:lnTo>
                  <a:pt x="445" y="1217"/>
                </a:lnTo>
                <a:lnTo>
                  <a:pt x="451" y="1206"/>
                </a:lnTo>
                <a:lnTo>
                  <a:pt x="451" y="1200"/>
                </a:lnTo>
                <a:lnTo>
                  <a:pt x="457" y="1188"/>
                </a:lnTo>
                <a:lnTo>
                  <a:pt x="457" y="1183"/>
                </a:lnTo>
                <a:lnTo>
                  <a:pt x="463" y="1177"/>
                </a:lnTo>
                <a:lnTo>
                  <a:pt x="468" y="1166"/>
                </a:lnTo>
                <a:lnTo>
                  <a:pt x="468" y="1160"/>
                </a:lnTo>
                <a:lnTo>
                  <a:pt x="468" y="1148"/>
                </a:lnTo>
                <a:lnTo>
                  <a:pt x="474" y="1143"/>
                </a:lnTo>
                <a:lnTo>
                  <a:pt x="474" y="1131"/>
                </a:lnTo>
                <a:lnTo>
                  <a:pt x="480" y="1126"/>
                </a:lnTo>
                <a:lnTo>
                  <a:pt x="480" y="1114"/>
                </a:lnTo>
                <a:lnTo>
                  <a:pt x="485" y="1108"/>
                </a:lnTo>
                <a:lnTo>
                  <a:pt x="485" y="1097"/>
                </a:lnTo>
                <a:lnTo>
                  <a:pt x="485" y="1091"/>
                </a:lnTo>
                <a:lnTo>
                  <a:pt x="485" y="1080"/>
                </a:lnTo>
                <a:lnTo>
                  <a:pt x="491" y="1074"/>
                </a:lnTo>
                <a:lnTo>
                  <a:pt x="491" y="1063"/>
                </a:lnTo>
                <a:lnTo>
                  <a:pt x="491" y="1057"/>
                </a:lnTo>
                <a:lnTo>
                  <a:pt x="491" y="1046"/>
                </a:lnTo>
                <a:lnTo>
                  <a:pt x="491" y="1040"/>
                </a:lnTo>
                <a:lnTo>
                  <a:pt x="497" y="1028"/>
                </a:lnTo>
                <a:lnTo>
                  <a:pt x="497" y="1023"/>
                </a:lnTo>
                <a:lnTo>
                  <a:pt x="497" y="1011"/>
                </a:lnTo>
                <a:lnTo>
                  <a:pt x="497" y="1006"/>
                </a:lnTo>
                <a:lnTo>
                  <a:pt x="497" y="994"/>
                </a:lnTo>
                <a:lnTo>
                  <a:pt x="497" y="988"/>
                </a:lnTo>
                <a:lnTo>
                  <a:pt x="497" y="977"/>
                </a:lnTo>
                <a:lnTo>
                  <a:pt x="497" y="971"/>
                </a:lnTo>
                <a:lnTo>
                  <a:pt x="497" y="960"/>
                </a:lnTo>
                <a:lnTo>
                  <a:pt x="491" y="954"/>
                </a:lnTo>
                <a:lnTo>
                  <a:pt x="491" y="943"/>
                </a:lnTo>
                <a:lnTo>
                  <a:pt x="491" y="937"/>
                </a:lnTo>
                <a:lnTo>
                  <a:pt x="491" y="926"/>
                </a:lnTo>
                <a:lnTo>
                  <a:pt x="491" y="920"/>
                </a:lnTo>
                <a:lnTo>
                  <a:pt x="485" y="908"/>
                </a:lnTo>
                <a:lnTo>
                  <a:pt x="485" y="903"/>
                </a:lnTo>
                <a:lnTo>
                  <a:pt x="485" y="891"/>
                </a:lnTo>
                <a:lnTo>
                  <a:pt x="485" y="886"/>
                </a:lnTo>
                <a:lnTo>
                  <a:pt x="480" y="874"/>
                </a:lnTo>
                <a:lnTo>
                  <a:pt x="480" y="868"/>
                </a:lnTo>
                <a:lnTo>
                  <a:pt x="474" y="857"/>
                </a:lnTo>
                <a:lnTo>
                  <a:pt x="474" y="851"/>
                </a:lnTo>
                <a:lnTo>
                  <a:pt x="468" y="840"/>
                </a:lnTo>
                <a:lnTo>
                  <a:pt x="468" y="834"/>
                </a:lnTo>
                <a:lnTo>
                  <a:pt x="468" y="823"/>
                </a:lnTo>
                <a:lnTo>
                  <a:pt x="463" y="817"/>
                </a:lnTo>
                <a:lnTo>
                  <a:pt x="457" y="806"/>
                </a:lnTo>
                <a:lnTo>
                  <a:pt x="457" y="800"/>
                </a:lnTo>
                <a:lnTo>
                  <a:pt x="451" y="794"/>
                </a:lnTo>
                <a:lnTo>
                  <a:pt x="451" y="783"/>
                </a:lnTo>
                <a:lnTo>
                  <a:pt x="445" y="777"/>
                </a:lnTo>
                <a:lnTo>
                  <a:pt x="440" y="771"/>
                </a:lnTo>
                <a:lnTo>
                  <a:pt x="440" y="760"/>
                </a:lnTo>
                <a:lnTo>
                  <a:pt x="434" y="754"/>
                </a:lnTo>
                <a:lnTo>
                  <a:pt x="428" y="743"/>
                </a:lnTo>
                <a:lnTo>
                  <a:pt x="423" y="737"/>
                </a:lnTo>
                <a:lnTo>
                  <a:pt x="423" y="731"/>
                </a:lnTo>
                <a:lnTo>
                  <a:pt x="417" y="726"/>
                </a:lnTo>
                <a:lnTo>
                  <a:pt x="411" y="714"/>
                </a:lnTo>
                <a:lnTo>
                  <a:pt x="405" y="708"/>
                </a:lnTo>
                <a:lnTo>
                  <a:pt x="400" y="703"/>
                </a:lnTo>
                <a:lnTo>
                  <a:pt x="394" y="697"/>
                </a:lnTo>
                <a:lnTo>
                  <a:pt x="388" y="686"/>
                </a:lnTo>
                <a:lnTo>
                  <a:pt x="383" y="680"/>
                </a:lnTo>
                <a:lnTo>
                  <a:pt x="377" y="674"/>
                </a:lnTo>
                <a:lnTo>
                  <a:pt x="371" y="668"/>
                </a:lnTo>
                <a:lnTo>
                  <a:pt x="365" y="663"/>
                </a:lnTo>
                <a:lnTo>
                  <a:pt x="360" y="657"/>
                </a:lnTo>
                <a:lnTo>
                  <a:pt x="354" y="646"/>
                </a:lnTo>
                <a:lnTo>
                  <a:pt x="348" y="640"/>
                </a:lnTo>
                <a:lnTo>
                  <a:pt x="343" y="634"/>
                </a:lnTo>
                <a:lnTo>
                  <a:pt x="337" y="628"/>
                </a:lnTo>
                <a:lnTo>
                  <a:pt x="331" y="623"/>
                </a:lnTo>
                <a:lnTo>
                  <a:pt x="325" y="617"/>
                </a:lnTo>
                <a:lnTo>
                  <a:pt x="320" y="611"/>
                </a:lnTo>
                <a:lnTo>
                  <a:pt x="314" y="606"/>
                </a:lnTo>
                <a:lnTo>
                  <a:pt x="303" y="600"/>
                </a:lnTo>
                <a:lnTo>
                  <a:pt x="297" y="594"/>
                </a:lnTo>
                <a:lnTo>
                  <a:pt x="291" y="588"/>
                </a:lnTo>
                <a:lnTo>
                  <a:pt x="285" y="588"/>
                </a:lnTo>
                <a:lnTo>
                  <a:pt x="274" y="583"/>
                </a:lnTo>
                <a:lnTo>
                  <a:pt x="268" y="577"/>
                </a:lnTo>
                <a:lnTo>
                  <a:pt x="263" y="571"/>
                </a:lnTo>
                <a:lnTo>
                  <a:pt x="257" y="566"/>
                </a:lnTo>
                <a:lnTo>
                  <a:pt x="245" y="560"/>
                </a:lnTo>
                <a:lnTo>
                  <a:pt x="240" y="560"/>
                </a:lnTo>
                <a:lnTo>
                  <a:pt x="234" y="554"/>
                </a:lnTo>
                <a:lnTo>
                  <a:pt x="223" y="548"/>
                </a:lnTo>
                <a:lnTo>
                  <a:pt x="217" y="548"/>
                </a:lnTo>
                <a:lnTo>
                  <a:pt x="211" y="543"/>
                </a:lnTo>
                <a:lnTo>
                  <a:pt x="200" y="537"/>
                </a:lnTo>
                <a:lnTo>
                  <a:pt x="194" y="537"/>
                </a:lnTo>
                <a:lnTo>
                  <a:pt x="183" y="531"/>
                </a:lnTo>
                <a:lnTo>
                  <a:pt x="177" y="531"/>
                </a:lnTo>
                <a:lnTo>
                  <a:pt x="171" y="526"/>
                </a:lnTo>
                <a:lnTo>
                  <a:pt x="160" y="526"/>
                </a:lnTo>
                <a:lnTo>
                  <a:pt x="154" y="520"/>
                </a:lnTo>
                <a:lnTo>
                  <a:pt x="143" y="520"/>
                </a:lnTo>
                <a:lnTo>
                  <a:pt x="137" y="514"/>
                </a:lnTo>
                <a:lnTo>
                  <a:pt x="125" y="514"/>
                </a:lnTo>
                <a:lnTo>
                  <a:pt x="120" y="508"/>
                </a:lnTo>
                <a:lnTo>
                  <a:pt x="108" y="508"/>
                </a:lnTo>
                <a:lnTo>
                  <a:pt x="103" y="508"/>
                </a:lnTo>
                <a:lnTo>
                  <a:pt x="91" y="503"/>
                </a:lnTo>
                <a:lnTo>
                  <a:pt x="85" y="503"/>
                </a:lnTo>
                <a:lnTo>
                  <a:pt x="74" y="503"/>
                </a:lnTo>
                <a:lnTo>
                  <a:pt x="68" y="503"/>
                </a:lnTo>
                <a:lnTo>
                  <a:pt x="57" y="497"/>
                </a:lnTo>
                <a:lnTo>
                  <a:pt x="51" y="497"/>
                </a:lnTo>
                <a:lnTo>
                  <a:pt x="40" y="497"/>
                </a:lnTo>
                <a:lnTo>
                  <a:pt x="34" y="497"/>
                </a:lnTo>
                <a:lnTo>
                  <a:pt x="23" y="497"/>
                </a:lnTo>
                <a:lnTo>
                  <a:pt x="17" y="497"/>
                </a:lnTo>
                <a:lnTo>
                  <a:pt x="6" y="497"/>
                </a:lnTo>
                <a:lnTo>
                  <a:pt x="0" y="497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WordArt 18"/>
          <p:cNvSpPr txBox="1"/>
          <p:nvPr/>
        </p:nvSpPr>
        <p:spPr>
          <a:xfrm rot="3675000">
            <a:off x="6701760" y="2411640"/>
            <a:ext cx="1710000" cy="82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3923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enefits for Less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441360" y="1184400"/>
            <a:ext cx="4602240" cy="50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o avoid creating a process burden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s will focus on best opportunities for su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forward looking analysis at Key 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Non-Value Added, Labor Intensive Administrative Activ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ctation of administrative reductions to be comparable to those taken in the operating bud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0"/>
          <p:cNvGrpSpPr/>
          <p:nvPr/>
        </p:nvGrpSpPr>
        <p:grpSpPr>
          <a:xfrm>
            <a:off x="5490000" y="2816280"/>
            <a:ext cx="2845800" cy="2545200"/>
            <a:chOff x="5490000" y="2816280"/>
            <a:chExt cx="2845800" cy="2545200"/>
          </a:xfrm>
        </p:grpSpPr>
        <p:sp>
          <p:nvSpPr>
            <p:cNvPr id="193" name="Freeform 23"/>
            <p:cNvSpPr/>
            <p:nvPr/>
          </p:nvSpPr>
          <p:spPr>
            <a:xfrm rot="14426400">
              <a:off x="6123600" y="2900520"/>
              <a:ext cx="1577880" cy="2376720"/>
            </a:xfrm>
            <a:custGeom>
              <a:avLst/>
              <a:gdLst/>
              <a:ahLst/>
              <a:rect l="l" t="t" r="r" b="b"/>
              <a:pathLst>
                <a:path w="994" h="1497">
                  <a:moveTo>
                    <a:pt x="131" y="1497"/>
                  </a:moveTo>
                  <a:lnTo>
                    <a:pt x="125" y="1480"/>
                  </a:lnTo>
                  <a:lnTo>
                    <a:pt x="114" y="1463"/>
                  </a:lnTo>
                  <a:lnTo>
                    <a:pt x="108" y="1446"/>
                  </a:lnTo>
                  <a:lnTo>
                    <a:pt x="97" y="1434"/>
                  </a:lnTo>
                  <a:lnTo>
                    <a:pt x="91" y="1417"/>
                  </a:lnTo>
                  <a:lnTo>
                    <a:pt x="85" y="1400"/>
                  </a:lnTo>
                  <a:lnTo>
                    <a:pt x="80" y="1383"/>
                  </a:lnTo>
                  <a:lnTo>
                    <a:pt x="68" y="1371"/>
                  </a:lnTo>
                  <a:lnTo>
                    <a:pt x="62" y="1354"/>
                  </a:lnTo>
                  <a:lnTo>
                    <a:pt x="57" y="1337"/>
                  </a:lnTo>
                  <a:lnTo>
                    <a:pt x="51" y="1320"/>
                  </a:lnTo>
                  <a:lnTo>
                    <a:pt x="45" y="1303"/>
                  </a:lnTo>
                  <a:lnTo>
                    <a:pt x="40" y="1286"/>
                  </a:lnTo>
                  <a:lnTo>
                    <a:pt x="34" y="1268"/>
                  </a:lnTo>
                  <a:lnTo>
                    <a:pt x="34" y="1251"/>
                  </a:lnTo>
                  <a:lnTo>
                    <a:pt x="28" y="1234"/>
                  </a:lnTo>
                  <a:lnTo>
                    <a:pt x="22" y="1223"/>
                  </a:lnTo>
                  <a:lnTo>
                    <a:pt x="22" y="1206"/>
                  </a:lnTo>
                  <a:lnTo>
                    <a:pt x="17" y="1188"/>
                  </a:lnTo>
                  <a:lnTo>
                    <a:pt x="11" y="1171"/>
                  </a:lnTo>
                  <a:lnTo>
                    <a:pt x="11" y="1154"/>
                  </a:lnTo>
                  <a:lnTo>
                    <a:pt x="5" y="1137"/>
                  </a:lnTo>
                  <a:lnTo>
                    <a:pt x="5" y="1120"/>
                  </a:lnTo>
                  <a:lnTo>
                    <a:pt x="5" y="1097"/>
                  </a:lnTo>
                  <a:lnTo>
                    <a:pt x="0" y="1080"/>
                  </a:lnTo>
                  <a:lnTo>
                    <a:pt x="0" y="1063"/>
                  </a:lnTo>
                  <a:lnTo>
                    <a:pt x="0" y="1046"/>
                  </a:lnTo>
                  <a:lnTo>
                    <a:pt x="0" y="1028"/>
                  </a:lnTo>
                  <a:lnTo>
                    <a:pt x="0" y="1011"/>
                  </a:lnTo>
                  <a:lnTo>
                    <a:pt x="0" y="994"/>
                  </a:lnTo>
                  <a:lnTo>
                    <a:pt x="0" y="977"/>
                  </a:lnTo>
                  <a:lnTo>
                    <a:pt x="0" y="960"/>
                  </a:lnTo>
                  <a:lnTo>
                    <a:pt x="0" y="943"/>
                  </a:lnTo>
                  <a:lnTo>
                    <a:pt x="0" y="926"/>
                  </a:lnTo>
                  <a:lnTo>
                    <a:pt x="0" y="908"/>
                  </a:lnTo>
                  <a:lnTo>
                    <a:pt x="5" y="891"/>
                  </a:lnTo>
                  <a:lnTo>
                    <a:pt x="5" y="874"/>
                  </a:lnTo>
                  <a:lnTo>
                    <a:pt x="5" y="857"/>
                  </a:lnTo>
                  <a:lnTo>
                    <a:pt x="11" y="840"/>
                  </a:lnTo>
                  <a:lnTo>
                    <a:pt x="11" y="823"/>
                  </a:lnTo>
                  <a:lnTo>
                    <a:pt x="17" y="806"/>
                  </a:lnTo>
                  <a:lnTo>
                    <a:pt x="22" y="788"/>
                  </a:lnTo>
                  <a:lnTo>
                    <a:pt x="22" y="771"/>
                  </a:lnTo>
                  <a:lnTo>
                    <a:pt x="28" y="754"/>
                  </a:lnTo>
                  <a:lnTo>
                    <a:pt x="34" y="737"/>
                  </a:lnTo>
                  <a:lnTo>
                    <a:pt x="34" y="720"/>
                  </a:lnTo>
                  <a:lnTo>
                    <a:pt x="40" y="703"/>
                  </a:lnTo>
                  <a:lnTo>
                    <a:pt x="45" y="686"/>
                  </a:lnTo>
                  <a:lnTo>
                    <a:pt x="51" y="668"/>
                  </a:lnTo>
                  <a:lnTo>
                    <a:pt x="57" y="657"/>
                  </a:lnTo>
                  <a:lnTo>
                    <a:pt x="62" y="640"/>
                  </a:lnTo>
                  <a:lnTo>
                    <a:pt x="68" y="623"/>
                  </a:lnTo>
                  <a:lnTo>
                    <a:pt x="80" y="606"/>
                  </a:lnTo>
                  <a:lnTo>
                    <a:pt x="85" y="588"/>
                  </a:lnTo>
                  <a:lnTo>
                    <a:pt x="91" y="577"/>
                  </a:lnTo>
                  <a:lnTo>
                    <a:pt x="97" y="560"/>
                  </a:lnTo>
                  <a:lnTo>
                    <a:pt x="108" y="543"/>
                  </a:lnTo>
                  <a:lnTo>
                    <a:pt x="114" y="526"/>
                  </a:lnTo>
                  <a:lnTo>
                    <a:pt x="125" y="514"/>
                  </a:lnTo>
                  <a:lnTo>
                    <a:pt x="131" y="497"/>
                  </a:lnTo>
                  <a:lnTo>
                    <a:pt x="142" y="480"/>
                  </a:lnTo>
                  <a:lnTo>
                    <a:pt x="148" y="468"/>
                  </a:lnTo>
                  <a:lnTo>
                    <a:pt x="160" y="451"/>
                  </a:lnTo>
                  <a:lnTo>
                    <a:pt x="165" y="440"/>
                  </a:lnTo>
                  <a:lnTo>
                    <a:pt x="177" y="423"/>
                  </a:lnTo>
                  <a:lnTo>
                    <a:pt x="188" y="411"/>
                  </a:lnTo>
                  <a:lnTo>
                    <a:pt x="200" y="394"/>
                  </a:lnTo>
                  <a:lnTo>
                    <a:pt x="211" y="383"/>
                  </a:lnTo>
                  <a:lnTo>
                    <a:pt x="222" y="366"/>
                  </a:lnTo>
                  <a:lnTo>
                    <a:pt x="228" y="354"/>
                  </a:lnTo>
                  <a:lnTo>
                    <a:pt x="240" y="343"/>
                  </a:lnTo>
                  <a:lnTo>
                    <a:pt x="251" y="326"/>
                  </a:lnTo>
                  <a:lnTo>
                    <a:pt x="262" y="314"/>
                  </a:lnTo>
                  <a:lnTo>
                    <a:pt x="280" y="303"/>
                  </a:lnTo>
                  <a:lnTo>
                    <a:pt x="291" y="291"/>
                  </a:lnTo>
                  <a:lnTo>
                    <a:pt x="302" y="280"/>
                  </a:lnTo>
                  <a:lnTo>
                    <a:pt x="314" y="268"/>
                  </a:lnTo>
                  <a:lnTo>
                    <a:pt x="325" y="257"/>
                  </a:lnTo>
                  <a:lnTo>
                    <a:pt x="342" y="246"/>
                  </a:lnTo>
                  <a:lnTo>
                    <a:pt x="354" y="234"/>
                  </a:lnTo>
                  <a:lnTo>
                    <a:pt x="365" y="223"/>
                  </a:lnTo>
                  <a:lnTo>
                    <a:pt x="382" y="211"/>
                  </a:lnTo>
                  <a:lnTo>
                    <a:pt x="394" y="200"/>
                  </a:lnTo>
                  <a:lnTo>
                    <a:pt x="405" y="188"/>
                  </a:lnTo>
                  <a:lnTo>
                    <a:pt x="422" y="177"/>
                  </a:lnTo>
                  <a:lnTo>
                    <a:pt x="434" y="171"/>
                  </a:lnTo>
                  <a:lnTo>
                    <a:pt x="451" y="160"/>
                  </a:lnTo>
                  <a:lnTo>
                    <a:pt x="468" y="148"/>
                  </a:lnTo>
                  <a:lnTo>
                    <a:pt x="480" y="143"/>
                  </a:lnTo>
                  <a:lnTo>
                    <a:pt x="497" y="131"/>
                  </a:lnTo>
                  <a:lnTo>
                    <a:pt x="508" y="126"/>
                  </a:lnTo>
                  <a:lnTo>
                    <a:pt x="525" y="114"/>
                  </a:lnTo>
                  <a:lnTo>
                    <a:pt x="542" y="108"/>
                  </a:lnTo>
                  <a:lnTo>
                    <a:pt x="554" y="97"/>
                  </a:lnTo>
                  <a:lnTo>
                    <a:pt x="571" y="91"/>
                  </a:lnTo>
                  <a:lnTo>
                    <a:pt x="588" y="86"/>
                  </a:lnTo>
                  <a:lnTo>
                    <a:pt x="605" y="80"/>
                  </a:lnTo>
                  <a:lnTo>
                    <a:pt x="622" y="68"/>
                  </a:lnTo>
                  <a:lnTo>
                    <a:pt x="634" y="63"/>
                  </a:lnTo>
                  <a:lnTo>
                    <a:pt x="651" y="57"/>
                  </a:lnTo>
                  <a:lnTo>
                    <a:pt x="668" y="51"/>
                  </a:lnTo>
                  <a:lnTo>
                    <a:pt x="685" y="46"/>
                  </a:lnTo>
                  <a:lnTo>
                    <a:pt x="702" y="40"/>
                  </a:lnTo>
                  <a:lnTo>
                    <a:pt x="720" y="40"/>
                  </a:lnTo>
                  <a:lnTo>
                    <a:pt x="737" y="34"/>
                  </a:lnTo>
                  <a:lnTo>
                    <a:pt x="754" y="28"/>
                  </a:lnTo>
                  <a:lnTo>
                    <a:pt x="771" y="23"/>
                  </a:lnTo>
                  <a:lnTo>
                    <a:pt x="788" y="23"/>
                  </a:lnTo>
                  <a:lnTo>
                    <a:pt x="805" y="17"/>
                  </a:lnTo>
                  <a:lnTo>
                    <a:pt x="822" y="11"/>
                  </a:lnTo>
                  <a:lnTo>
                    <a:pt x="840" y="11"/>
                  </a:lnTo>
                  <a:lnTo>
                    <a:pt x="857" y="6"/>
                  </a:lnTo>
                  <a:lnTo>
                    <a:pt x="874" y="6"/>
                  </a:lnTo>
                  <a:lnTo>
                    <a:pt x="891" y="6"/>
                  </a:lnTo>
                  <a:lnTo>
                    <a:pt x="908" y="0"/>
                  </a:lnTo>
                  <a:lnTo>
                    <a:pt x="925" y="0"/>
                  </a:lnTo>
                  <a:lnTo>
                    <a:pt x="942" y="0"/>
                  </a:lnTo>
                  <a:lnTo>
                    <a:pt x="960" y="0"/>
                  </a:lnTo>
                  <a:lnTo>
                    <a:pt x="977" y="0"/>
                  </a:lnTo>
                  <a:lnTo>
                    <a:pt x="994" y="0"/>
                  </a:lnTo>
                  <a:lnTo>
                    <a:pt x="994" y="497"/>
                  </a:lnTo>
                  <a:lnTo>
                    <a:pt x="982" y="497"/>
                  </a:lnTo>
                  <a:lnTo>
                    <a:pt x="977" y="497"/>
                  </a:lnTo>
                  <a:lnTo>
                    <a:pt x="965" y="497"/>
                  </a:lnTo>
                  <a:lnTo>
                    <a:pt x="960" y="497"/>
                  </a:lnTo>
                  <a:lnTo>
                    <a:pt x="948" y="497"/>
                  </a:lnTo>
                  <a:lnTo>
                    <a:pt x="942" y="497"/>
                  </a:lnTo>
                  <a:lnTo>
                    <a:pt x="931" y="497"/>
                  </a:lnTo>
                  <a:lnTo>
                    <a:pt x="925" y="503"/>
                  </a:lnTo>
                  <a:lnTo>
                    <a:pt x="914" y="503"/>
                  </a:lnTo>
                  <a:lnTo>
                    <a:pt x="908" y="503"/>
                  </a:lnTo>
                  <a:lnTo>
                    <a:pt x="897" y="503"/>
                  </a:lnTo>
                  <a:lnTo>
                    <a:pt x="891" y="508"/>
                  </a:lnTo>
                  <a:lnTo>
                    <a:pt x="880" y="508"/>
                  </a:lnTo>
                  <a:lnTo>
                    <a:pt x="874" y="508"/>
                  </a:lnTo>
                  <a:lnTo>
                    <a:pt x="862" y="514"/>
                  </a:lnTo>
                  <a:lnTo>
                    <a:pt x="857" y="514"/>
                  </a:lnTo>
                  <a:lnTo>
                    <a:pt x="845" y="520"/>
                  </a:lnTo>
                  <a:lnTo>
                    <a:pt x="840" y="520"/>
                  </a:lnTo>
                  <a:lnTo>
                    <a:pt x="828" y="526"/>
                  </a:lnTo>
                  <a:lnTo>
                    <a:pt x="822" y="526"/>
                  </a:lnTo>
                  <a:lnTo>
                    <a:pt x="817" y="531"/>
                  </a:lnTo>
                  <a:lnTo>
                    <a:pt x="805" y="531"/>
                  </a:lnTo>
                  <a:lnTo>
                    <a:pt x="800" y="537"/>
                  </a:lnTo>
                  <a:lnTo>
                    <a:pt x="788" y="537"/>
                  </a:lnTo>
                  <a:lnTo>
                    <a:pt x="782" y="543"/>
                  </a:lnTo>
                  <a:lnTo>
                    <a:pt x="777" y="548"/>
                  </a:lnTo>
                  <a:lnTo>
                    <a:pt x="765" y="548"/>
                  </a:lnTo>
                  <a:lnTo>
                    <a:pt x="760" y="554"/>
                  </a:lnTo>
                  <a:lnTo>
                    <a:pt x="754" y="560"/>
                  </a:lnTo>
                  <a:lnTo>
                    <a:pt x="742" y="560"/>
                  </a:lnTo>
                  <a:lnTo>
                    <a:pt x="737" y="566"/>
                  </a:lnTo>
                  <a:lnTo>
                    <a:pt x="731" y="571"/>
                  </a:lnTo>
                  <a:lnTo>
                    <a:pt x="720" y="577"/>
                  </a:lnTo>
                  <a:lnTo>
                    <a:pt x="714" y="583"/>
                  </a:lnTo>
                  <a:lnTo>
                    <a:pt x="708" y="588"/>
                  </a:lnTo>
                  <a:lnTo>
                    <a:pt x="702" y="588"/>
                  </a:lnTo>
                  <a:lnTo>
                    <a:pt x="691" y="594"/>
                  </a:lnTo>
                  <a:lnTo>
                    <a:pt x="685" y="600"/>
                  </a:lnTo>
                  <a:lnTo>
                    <a:pt x="680" y="606"/>
                  </a:lnTo>
                  <a:lnTo>
                    <a:pt x="674" y="611"/>
                  </a:lnTo>
                  <a:lnTo>
                    <a:pt x="668" y="617"/>
                  </a:lnTo>
                  <a:lnTo>
                    <a:pt x="662" y="623"/>
                  </a:lnTo>
                  <a:lnTo>
                    <a:pt x="651" y="628"/>
                  </a:lnTo>
                  <a:lnTo>
                    <a:pt x="645" y="634"/>
                  </a:lnTo>
                  <a:lnTo>
                    <a:pt x="640" y="640"/>
                  </a:lnTo>
                  <a:lnTo>
                    <a:pt x="634" y="646"/>
                  </a:lnTo>
                  <a:lnTo>
                    <a:pt x="628" y="657"/>
                  </a:lnTo>
                  <a:lnTo>
                    <a:pt x="622" y="663"/>
                  </a:lnTo>
                  <a:lnTo>
                    <a:pt x="617" y="668"/>
                  </a:lnTo>
                  <a:lnTo>
                    <a:pt x="611" y="674"/>
                  </a:lnTo>
                  <a:lnTo>
                    <a:pt x="605" y="680"/>
                  </a:lnTo>
                  <a:lnTo>
                    <a:pt x="600" y="686"/>
                  </a:lnTo>
                  <a:lnTo>
                    <a:pt x="594" y="697"/>
                  </a:lnTo>
                  <a:lnTo>
                    <a:pt x="588" y="703"/>
                  </a:lnTo>
                  <a:lnTo>
                    <a:pt x="582" y="708"/>
                  </a:lnTo>
                  <a:lnTo>
                    <a:pt x="582" y="714"/>
                  </a:lnTo>
                  <a:lnTo>
                    <a:pt x="577" y="726"/>
                  </a:lnTo>
                  <a:lnTo>
                    <a:pt x="571" y="731"/>
                  </a:lnTo>
                  <a:lnTo>
                    <a:pt x="565" y="737"/>
                  </a:lnTo>
                  <a:lnTo>
                    <a:pt x="560" y="743"/>
                  </a:lnTo>
                  <a:lnTo>
                    <a:pt x="560" y="754"/>
                  </a:lnTo>
                  <a:lnTo>
                    <a:pt x="554" y="760"/>
                  </a:lnTo>
                  <a:lnTo>
                    <a:pt x="548" y="771"/>
                  </a:lnTo>
                  <a:lnTo>
                    <a:pt x="548" y="777"/>
                  </a:lnTo>
                  <a:lnTo>
                    <a:pt x="542" y="783"/>
                  </a:lnTo>
                  <a:lnTo>
                    <a:pt x="537" y="794"/>
                  </a:lnTo>
                  <a:lnTo>
                    <a:pt x="537" y="800"/>
                  </a:lnTo>
                  <a:lnTo>
                    <a:pt x="531" y="806"/>
                  </a:lnTo>
                  <a:lnTo>
                    <a:pt x="531" y="817"/>
                  </a:lnTo>
                  <a:lnTo>
                    <a:pt x="525" y="823"/>
                  </a:lnTo>
                  <a:lnTo>
                    <a:pt x="520" y="834"/>
                  </a:lnTo>
                  <a:lnTo>
                    <a:pt x="520" y="840"/>
                  </a:lnTo>
                  <a:lnTo>
                    <a:pt x="520" y="851"/>
                  </a:lnTo>
                  <a:lnTo>
                    <a:pt x="514" y="857"/>
                  </a:lnTo>
                  <a:lnTo>
                    <a:pt x="514" y="868"/>
                  </a:lnTo>
                  <a:lnTo>
                    <a:pt x="508" y="874"/>
                  </a:lnTo>
                  <a:lnTo>
                    <a:pt x="508" y="886"/>
                  </a:lnTo>
                  <a:lnTo>
                    <a:pt x="508" y="891"/>
                  </a:lnTo>
                  <a:lnTo>
                    <a:pt x="502" y="903"/>
                  </a:lnTo>
                  <a:lnTo>
                    <a:pt x="502" y="908"/>
                  </a:lnTo>
                  <a:lnTo>
                    <a:pt x="502" y="920"/>
                  </a:lnTo>
                  <a:lnTo>
                    <a:pt x="502" y="926"/>
                  </a:lnTo>
                  <a:lnTo>
                    <a:pt x="497" y="937"/>
                  </a:lnTo>
                  <a:lnTo>
                    <a:pt x="497" y="943"/>
                  </a:lnTo>
                  <a:lnTo>
                    <a:pt x="497" y="954"/>
                  </a:lnTo>
                  <a:lnTo>
                    <a:pt x="497" y="960"/>
                  </a:lnTo>
                  <a:lnTo>
                    <a:pt x="497" y="971"/>
                  </a:lnTo>
                  <a:lnTo>
                    <a:pt x="497" y="977"/>
                  </a:lnTo>
                  <a:lnTo>
                    <a:pt x="497" y="988"/>
                  </a:lnTo>
                  <a:lnTo>
                    <a:pt x="497" y="994"/>
                  </a:lnTo>
                  <a:lnTo>
                    <a:pt x="497" y="1006"/>
                  </a:lnTo>
                  <a:lnTo>
                    <a:pt x="497" y="1011"/>
                  </a:lnTo>
                  <a:lnTo>
                    <a:pt x="497" y="1023"/>
                  </a:lnTo>
                  <a:lnTo>
                    <a:pt x="497" y="1028"/>
                  </a:lnTo>
                  <a:lnTo>
                    <a:pt x="497" y="1040"/>
                  </a:lnTo>
                  <a:lnTo>
                    <a:pt x="497" y="1046"/>
                  </a:lnTo>
                  <a:lnTo>
                    <a:pt x="497" y="1057"/>
                  </a:lnTo>
                  <a:lnTo>
                    <a:pt x="502" y="1063"/>
                  </a:lnTo>
                  <a:lnTo>
                    <a:pt x="502" y="1074"/>
                  </a:lnTo>
                  <a:lnTo>
                    <a:pt x="502" y="1080"/>
                  </a:lnTo>
                  <a:lnTo>
                    <a:pt x="502" y="1091"/>
                  </a:lnTo>
                  <a:lnTo>
                    <a:pt x="508" y="1097"/>
                  </a:lnTo>
                  <a:lnTo>
                    <a:pt x="508" y="1108"/>
                  </a:lnTo>
                  <a:lnTo>
                    <a:pt x="508" y="1114"/>
                  </a:lnTo>
                  <a:lnTo>
                    <a:pt x="514" y="1126"/>
                  </a:lnTo>
                  <a:lnTo>
                    <a:pt x="514" y="1131"/>
                  </a:lnTo>
                  <a:lnTo>
                    <a:pt x="520" y="1143"/>
                  </a:lnTo>
                  <a:lnTo>
                    <a:pt x="520" y="1148"/>
                  </a:lnTo>
                  <a:lnTo>
                    <a:pt x="520" y="1160"/>
                  </a:lnTo>
                  <a:lnTo>
                    <a:pt x="525" y="1166"/>
                  </a:lnTo>
                  <a:lnTo>
                    <a:pt x="531" y="1177"/>
                  </a:lnTo>
                  <a:lnTo>
                    <a:pt x="531" y="1183"/>
                  </a:lnTo>
                  <a:lnTo>
                    <a:pt x="537" y="1188"/>
                  </a:lnTo>
                  <a:lnTo>
                    <a:pt x="537" y="1200"/>
                  </a:lnTo>
                  <a:lnTo>
                    <a:pt x="542" y="1206"/>
                  </a:lnTo>
                  <a:lnTo>
                    <a:pt x="548" y="1217"/>
                  </a:lnTo>
                  <a:lnTo>
                    <a:pt x="548" y="1223"/>
                  </a:lnTo>
                  <a:lnTo>
                    <a:pt x="554" y="1228"/>
                  </a:lnTo>
                  <a:lnTo>
                    <a:pt x="560" y="1240"/>
                  </a:lnTo>
                  <a:lnTo>
                    <a:pt x="560" y="1246"/>
                  </a:lnTo>
                  <a:lnTo>
                    <a:pt x="131" y="1497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WordArt 24"/>
            <p:cNvSpPr txBox="1"/>
            <p:nvPr/>
          </p:nvSpPr>
          <p:spPr>
            <a:xfrm>
              <a:off x="5838840" y="3052800"/>
              <a:ext cx="2070000" cy="13413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03168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Reduce Paper Process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21:18:03Z</dcterms:created>
  <dc:creator>MTA</dc:creator>
  <dc:description/>
  <dc:language>en-US</dc:language>
  <cp:lastModifiedBy>Michael Jew-Geralds</cp:lastModifiedBy>
  <cp:lastPrinted>2011-02-16T19:36:05Z</cp:lastPrinted>
  <dcterms:modified xsi:type="dcterms:W3CDTF">2011-02-17T17:10:52Z</dcterms:modified>
  <cp:revision>711</cp:revision>
  <dc:subject/>
  <dc:title>Slide 1</dc:title>
</cp:coreProperties>
</file>