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4.wmf" ContentType="image/x-wmf"/>
  <Override PartName="/ppt/media/image23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1.jpeg" ContentType="image/jpeg"/>
  <Override PartName="/ppt/media/image7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31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A117-5924-4E12-9283-D32D7C77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75B-46E2-436A-9B40-4ECFB2BC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70D6-9ACF-4C79-9D7C-B14450FF3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27B-3995-4AB2-B186-18CB5BCF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BA8D-6990-46E4-947C-30E6332FD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BE114B-B8EF-47E4-959F-775AAD81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78D-CA69-4582-8042-982AD8F03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DDEB-514B-4601-A99D-0A8ECA42A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E614DE-E837-4772-B358-15749A94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8CC-4862-42BF-9B9A-7B00755D6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45C-6D12-4EB0-AD70-2C9412CE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CFC-6F09-417E-8368-09ED83847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C3A-E5CA-4AFC-9F68-C3085348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A9D5-FF5A-4160-A492-1B7B01A9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853-98DB-46C9-980D-B6958B20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334F-8E18-4269-A410-6939802D8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AD85-22FF-41E5-B3C9-9B35A2FB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09F-8F4F-4DE1-AFA5-274A57A1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359-7A59-43BC-9C77-BFA7BBF4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78F-6113-40D5-9AE4-193A072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1FB-B604-479A-B81C-DA640413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CF7-48ED-4B85-87EC-09393F43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5F9D-EF75-455F-90DD-7E560105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6EE-1DA7-48B7-9A0E-193ADE0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26C3-DAA4-4E62-B387-A1AB8AA2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42EF-2FFC-4391-9AF1-7FC5FB2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53C9-28A0-4C44-A699-3EF3B5D9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2E0-DED2-46FA-894D-36B895C3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B35E-2A69-4CCE-8EDE-6CE2035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AE0-8570-4DAE-B30B-4FC7799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1DFA-9BE6-4DF9-BA33-49428F9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F519-1B0D-444E-AAC6-4FCF5DC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809A-DF5D-4E0C-BB09-CBA4E13B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C8C1-0925-4B14-B453-93880EF8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176A-8989-4A6F-94A3-DF20FDC2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281-EAE6-44ED-8DEC-41A9B27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194-222C-4F8A-B157-6464F25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323-A50E-4C5B-837C-07E3CB7E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028-C2E9-42A4-BC0B-48F0036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79F-AA4E-4AC2-90DE-83BE06D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D98-9056-42B7-A81A-BEAFF30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1EE-F582-4D6B-B250-24F49E5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E183-4157-4C2D-BE72-FD2A0917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F8DD-171E-44BA-A877-E2ABB435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image" Target="../media/image5.jpeg"/><Relationship Id="rId8" Type="http://schemas.openxmlformats.org/officeDocument/2006/relationships/hyperlink" Target="http://upload.wikimedia.org/wikipedia/commons/8/8f/Little_Neck_LIRR_jeh.JPG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FC41-A15E-4202-86BB-E2F1371A0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1640" y="19494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TA Track Program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062000" y="319104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CP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mta-logo"/>
          <p:cNvPicPr/>
          <p:nvPr/>
        </p:nvPicPr>
        <p:blipFill>
          <a:blip r:embed="rId1"/>
          <a:stretch/>
        </p:blipFill>
        <p:spPr>
          <a:xfrm>
            <a:off x="5729400" y="3718080"/>
            <a:ext cx="240984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3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1062000" y="5688000"/>
            <a:ext cx="5110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IC INITIATIVES GROU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ONSTRUCTION OVERSIGHT / IEC AGENCY TRACK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DEEA-9036-4CD2-9382-400DE675E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0% improvement in each of the identified areas of opportunity suggests $50 million in annual efficiency potent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21040" y="1449360"/>
            <a:ext cx="522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MTA-wide efficiency potential, 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324080" y="1724040"/>
            <a:ext cx="591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"/>
          <p:cNvSpPr/>
          <p:nvPr/>
        </p:nvSpPr>
        <p:spPr>
          <a:xfrm>
            <a:off x="6808680" y="303696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1"/>
          <p:cNvSpPr/>
          <p:nvPr/>
        </p:nvSpPr>
        <p:spPr>
          <a:xfrm>
            <a:off x="5189400" y="2446200"/>
            <a:ext cx="0" cy="2667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2236680" y="1884240"/>
          <a:ext cx="4943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1884240"/>
                    <a:ext cx="4943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4"/>
          <p:cNvSpPr/>
          <p:nvPr/>
        </p:nvSpPr>
        <p:spPr>
          <a:xfrm>
            <a:off x="1903320" y="336384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519200" y="2768760"/>
            <a:ext cx="777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744560" y="217332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Isosceles Triangle 1"/>
          <p:cNvSpPr/>
          <p:nvPr/>
        </p:nvSpPr>
        <p:spPr>
          <a:xfrm rot="10800000">
            <a:off x="3247560" y="426060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7"/>
          <p:cNvSpPr/>
          <p:nvPr/>
        </p:nvSpPr>
        <p:spPr>
          <a:xfrm>
            <a:off x="3438360" y="4892760"/>
            <a:ext cx="2389320" cy="11462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8"/>
          <p:cNvSpPr/>
          <p:nvPr/>
        </p:nvSpPr>
        <p:spPr>
          <a:xfrm>
            <a:off x="3551400" y="5103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cies are presently working to pursue this efficiency potent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3F0D-4CBC-4822-BEE0-CAEAED49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2" descr=""/>
          <p:cNvPicPr/>
          <p:nvPr/>
        </p:nvPicPr>
        <p:blipFill>
          <a:blip r:embed="rId1"/>
          <a:stretch/>
        </p:blipFill>
        <p:spPr>
          <a:xfrm>
            <a:off x="2282760" y="3503520"/>
            <a:ext cx="2067120" cy="15066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2200320" y="504828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: full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2"/>
          <a:stretch/>
        </p:blipFill>
        <p:spPr>
          <a:xfrm>
            <a:off x="4527720" y="3503520"/>
            <a:ext cx="2066760" cy="1505160"/>
          </a:xfrm>
          <a:prstGeom prst="rect">
            <a:avLst/>
          </a:prstGeom>
          <a:ln w="0">
            <a:noFill/>
          </a:ln>
        </p:spPr>
      </p:pic>
      <p:sp>
        <p:nvSpPr>
          <p:cNvPr id="395" name="Oval 43"/>
          <p:cNvSpPr/>
          <p:nvPr/>
        </p:nvSpPr>
        <p:spPr>
          <a:xfrm>
            <a:off x="7248600" y="38685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7310520" y="40435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25"/>
          <p:cNvSpPr/>
          <p:nvPr/>
        </p:nvSpPr>
        <p:spPr>
          <a:xfrm rot="5400000">
            <a:off x="6173280" y="415764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397240" y="973080"/>
            <a:ext cx="46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analysis of nighttime track work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284560" y="1281240"/>
            <a:ext cx="430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"/>
          <p:cNvGraphicFramePr/>
          <p:nvPr/>
        </p:nvGraphicFramePr>
        <p:xfrm>
          <a:off x="3446640" y="1324080"/>
          <a:ext cx="300960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6640" y="1324080"/>
                    <a:ext cx="3009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23"/>
          <p:cNvSpPr/>
          <p:nvPr/>
        </p:nvSpPr>
        <p:spPr>
          <a:xfrm>
            <a:off x="2284560" y="2703600"/>
            <a:ext cx="1222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ve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2451240" y="2146320"/>
            <a:ext cx="10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2619360" y="1589040"/>
            <a:ext cx="887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Straight Arrow Connector 45"/>
          <p:cNvCxnSpPr/>
          <p:nvPr/>
        </p:nvCxnSpPr>
        <p:spPr>
          <a:xfrm>
            <a:off x="5103720" y="2800440"/>
            <a:ext cx="488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Straight Arrow Connector 45"/>
          <p:cNvCxnSpPr/>
          <p:nvPr/>
        </p:nvCxnSpPr>
        <p:spPr>
          <a:xfrm>
            <a:off x="5581440" y="2252160"/>
            <a:ext cx="487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34960" tIns="690480" bIns="692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7"/>
          <p:cNvSpPr/>
          <p:nvPr/>
        </p:nvSpPr>
        <p:spPr>
          <a:xfrm>
            <a:off x="4441680" y="5046840"/>
            <a:ext cx="24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: component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ubstitute serv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lot video-based track insp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576F-E322-4339-AAB6-AE7D2456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3"/>
          <p:cNvSpPr/>
          <p:nvPr/>
        </p:nvSpPr>
        <p:spPr>
          <a:xfrm>
            <a:off x="7248600" y="40021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7310520" y="4176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labor effici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25"/>
          <p:cNvSpPr/>
          <p:nvPr/>
        </p:nvSpPr>
        <p:spPr>
          <a:xfrm rot="5400000">
            <a:off x="6173280" y="4291200"/>
            <a:ext cx="15303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7248600" y="1878120"/>
            <a:ext cx="1569960" cy="8031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310520" y="205272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cost and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Isosceles Triangle 25"/>
          <p:cNvSpPr/>
          <p:nvPr/>
        </p:nvSpPr>
        <p:spPr>
          <a:xfrm rot="5400000">
            <a:off x="6172200" y="216756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ntagon 15"/>
          <p:cNvSpPr/>
          <p:nvPr/>
        </p:nvSpPr>
        <p:spPr>
          <a:xfrm>
            <a:off x="476280" y="10652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20952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ulated joint fail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entagon 15"/>
          <p:cNvSpPr/>
          <p:nvPr/>
        </p:nvSpPr>
        <p:spPr>
          <a:xfrm>
            <a:off x="476280" y="3363840"/>
            <a:ext cx="1423800" cy="2021040"/>
          </a:xfrm>
          <a:custGeom>
            <a:avLst/>
            <a:gdLst>
              <a:gd name="textAreaLeft" fmla="*/ 0 w 1423800"/>
              <a:gd name="textAreaRight" fmla="*/ 1424160 w 1423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13" y="0"/>
                </a:lnTo>
                <a:lnTo>
                  <a:pt x="21600" y="10800"/>
                </a:lnTo>
                <a:lnTo>
                  <a:pt x="160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03360" tIns="797040" bIns="798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85840" y="274680"/>
            <a:ext cx="8389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opportunities being pursued at LIRR and MN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entagon 15"/>
          <p:cNvSpPr/>
          <p:nvPr/>
        </p:nvSpPr>
        <p:spPr>
          <a:xfrm>
            <a:off x="476280" y="5638680"/>
            <a:ext cx="1281240" cy="906480"/>
          </a:xfrm>
          <a:custGeom>
            <a:avLst/>
            <a:gdLst>
              <a:gd name="textAreaLeft" fmla="*/ 0 w 1281240"/>
              <a:gd name="textAreaRight" fmla="*/ 1281240 w 12812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6" y="0"/>
                </a:lnTo>
                <a:lnTo>
                  <a:pt x="21600" y="10800"/>
                </a:lnTo>
                <a:lnTo>
                  <a:pt x="188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671400" tIns="345960" bIns="347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076480" y="570564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asset renewal rat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good practices through ISRBG benchmarking grou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077920" y="3747960"/>
            <a:ext cx="4343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cost/benefit of increasing 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industrial engineering techniques to maximize productive work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multi-department approach of NYCT study (involving track, operations, budget, etc.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IMG_1044"/>
          <p:cNvPicPr/>
          <p:nvPr/>
        </p:nvPicPr>
        <p:blipFill>
          <a:blip r:embed="rId1"/>
          <a:stretch/>
        </p:blipFill>
        <p:spPr>
          <a:xfrm>
            <a:off x="2287440" y="1487520"/>
            <a:ext cx="1855800" cy="1392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7"/>
          <p:cNvSpPr/>
          <p:nvPr/>
        </p:nvSpPr>
        <p:spPr>
          <a:xfrm>
            <a:off x="2181240" y="2894040"/>
            <a:ext cx="20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lures cause delay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4" descr="96"/>
          <p:cNvPicPr/>
          <p:nvPr/>
        </p:nvPicPr>
        <p:blipFill>
          <a:blip r:embed="rId2"/>
          <a:stretch/>
        </p:blipFill>
        <p:spPr>
          <a:xfrm>
            <a:off x="4349880" y="1509840"/>
            <a:ext cx="2081160" cy="1368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7"/>
          <p:cNvSpPr/>
          <p:nvPr/>
        </p:nvSpPr>
        <p:spPr>
          <a:xfrm>
            <a:off x="4264200" y="2894040"/>
            <a:ext cx="19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airs are laborio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2198520" y="971640"/>
            <a:ext cx="426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joint LIRR / MNR study is investigating ways to prevent insulated joint failur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DFC4-3277-44F3-9702-2B8FFD85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Rectangle 2"/>
          <p:cNvGraphicFramePr/>
          <p:nvPr/>
        </p:nvGraphicFramePr>
        <p:xfrm>
          <a:off x="-93600" y="-20520"/>
          <a:ext cx="3477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0" y="-20520"/>
                    <a:ext cx="3477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2097000" y="1503360"/>
            <a:ext cx="665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has provided insight into track program spending, agency-specific approaches and opportunities for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d areas of opportunity suggest $50 million in annual track program efficiency improvement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evaluate identified opportunities and develop agency-specific action plans to maximize efficiency in 2011 and out yea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gencies will provide periodic progress updates to CPOC on their action 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9"/>
          <p:cNvSpPr/>
          <p:nvPr/>
        </p:nvSpPr>
        <p:spPr>
          <a:xfrm>
            <a:off x="493560" y="1386000"/>
            <a:ext cx="1413000" cy="85068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2" y="0"/>
                </a:lnTo>
                <a:lnTo>
                  <a:pt x="21600" y="10800"/>
                </a:lnTo>
                <a:lnTo>
                  <a:pt x="19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1E74-8861-48AA-B6B2-3339545FD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097000" y="1214280"/>
            <a:ext cx="665316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y track programs deliver safe and reliable tra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cy track program spending varies widely due to significant differences in methods, constraints and asset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reas of opportunity suggest $50 million in annual MTA-wide track efficiency improvement potenti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itute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6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TA agencies are presently pursuing initiatives directed towards realizing the identified efficiency potent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9"/>
          <p:cNvSpPr/>
          <p:nvPr/>
        </p:nvSpPr>
        <p:spPr>
          <a:xfrm>
            <a:off x="493560" y="1096920"/>
            <a:ext cx="1413000" cy="8478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1" y="0"/>
                </a:lnTo>
                <a:lnTo>
                  <a:pt x="21600" y="10800"/>
                </a:lnTo>
                <a:lnTo>
                  <a:pt x="19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280" rIns="135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0711-4FEE-4939-AC93-C03305D4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85840" y="279360"/>
            <a:ext cx="8562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ck statistics defy typical MTA rankings, with each agency leading in a different asset are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9040" y="1109520"/>
            <a:ext cx="199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mil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88800" y="1384200"/>
            <a:ext cx="848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941400" y="1590840"/>
          <a:ext cx="255276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590840"/>
                    <a:ext cx="25527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96880" y="2975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17680" y="18604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96880" y="24177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371520" y="4183200"/>
            <a:ext cx="39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719280" y="3889440"/>
            <a:ext cx="21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switche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2"/>
          <p:cNvGraphicFramePr/>
          <p:nvPr/>
        </p:nvGraphicFramePr>
        <p:xfrm>
          <a:off x="941400" y="4336920"/>
          <a:ext cx="138096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4336920"/>
                    <a:ext cx="1380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6"/>
          <p:cNvSpPr/>
          <p:nvPr/>
        </p:nvSpPr>
        <p:spPr>
          <a:xfrm>
            <a:off x="51768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59688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59688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14050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4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1557360" y="57214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5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5"/>
          <p:cNvSpPr/>
          <p:nvPr/>
        </p:nvSpPr>
        <p:spPr>
          <a:xfrm>
            <a:off x="2004840" y="4606920"/>
            <a:ext cx="493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,75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4"/>
          <p:cNvGraphicFramePr/>
          <p:nvPr/>
        </p:nvGraphicFramePr>
        <p:xfrm>
          <a:off x="5491080" y="4336920"/>
          <a:ext cx="138132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4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433692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50"/>
          <p:cNvSpPr/>
          <p:nvPr/>
        </p:nvSpPr>
        <p:spPr>
          <a:xfrm>
            <a:off x="5146560" y="5164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6554880" y="5164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4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5067360" y="4606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146560" y="5721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9"/>
          <p:cNvSpPr/>
          <p:nvPr/>
        </p:nvSpPr>
        <p:spPr>
          <a:xfrm>
            <a:off x="5964120" y="572148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/>
          <p:cNvSpPr/>
          <p:nvPr/>
        </p:nvSpPr>
        <p:spPr>
          <a:xfrm>
            <a:off x="5319720" y="390852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line track grade (road) crossing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5" descr="MNR High Speed x-overs"/>
          <p:cNvPicPr/>
          <p:nvPr/>
        </p:nvPicPr>
        <p:blipFill>
          <a:blip r:embed="rId7"/>
          <a:srcRect l="0" t="6219" r="0" b="32753"/>
          <a:stretch/>
        </p:blipFill>
        <p:spPr>
          <a:xfrm>
            <a:off x="2589120" y="4594320"/>
            <a:ext cx="1689120" cy="1401840"/>
          </a:xfrm>
          <a:prstGeom prst="rect">
            <a:avLst/>
          </a:prstGeom>
          <a:ln w="0">
            <a:noFill/>
          </a:ln>
        </p:spPr>
      </p:pic>
      <p:sp>
        <p:nvSpPr>
          <p:cNvPr id="128" name="Line 66"/>
          <p:cNvSpPr/>
          <p:nvPr/>
        </p:nvSpPr>
        <p:spPr>
          <a:xfrm>
            <a:off x="5081760" y="41832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1" descr="File:Little Neck LIRR jeh.JPG">
            <a:hlinkClick r:id="rId8"/>
          </p:cNvPr>
          <p:cNvPicPr/>
          <p:nvPr/>
        </p:nvPicPr>
        <p:blipFill>
          <a:blip r:embed="rId9"/>
          <a:srcRect l="11217" t="0" r="0" b="0"/>
          <a:stretch/>
        </p:blipFill>
        <p:spPr>
          <a:xfrm>
            <a:off x="7101000" y="4567320"/>
            <a:ext cx="1673280" cy="1412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scope of this study is restricted to mainline track and does not examine yard tra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0" descr=""/>
          <p:cNvPicPr/>
          <p:nvPr/>
        </p:nvPicPr>
        <p:blipFill>
          <a:blip r:embed="rId10"/>
          <a:srcRect l="19938" t="64425" r="66207" b="11813"/>
          <a:stretch/>
        </p:blipFill>
        <p:spPr>
          <a:xfrm>
            <a:off x="6031080" y="2062080"/>
            <a:ext cx="2011320" cy="1379520"/>
          </a:xfrm>
          <a:prstGeom prst="rect">
            <a:avLst/>
          </a:prstGeom>
          <a:ln w="0">
            <a:noFill/>
          </a:ln>
        </p:spPr>
      </p:pic>
      <p:sp>
        <p:nvSpPr>
          <p:cNvPr id="132" name="Line 58"/>
          <p:cNvSpPr/>
          <p:nvPr/>
        </p:nvSpPr>
        <p:spPr>
          <a:xfrm flipH="1">
            <a:off x="7019640" y="27846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7551720" y="2787480"/>
            <a:ext cx="74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0"/>
          <p:cNvSpPr/>
          <p:nvPr/>
        </p:nvSpPr>
        <p:spPr>
          <a:xfrm flipH="1">
            <a:off x="7108920" y="2486160"/>
            <a:ext cx="444240" cy="45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1"/>
          <p:cNvSpPr/>
          <p:nvPr/>
        </p:nvSpPr>
        <p:spPr>
          <a:xfrm>
            <a:off x="7553160" y="2486160"/>
            <a:ext cx="74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7391520" y="2187720"/>
            <a:ext cx="257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4"/>
          <p:cNvSpPr/>
          <p:nvPr/>
        </p:nvSpPr>
        <p:spPr>
          <a:xfrm>
            <a:off x="7639200" y="2187720"/>
            <a:ext cx="66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8261280" y="204480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8271000" y="2330280"/>
            <a:ext cx="7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8261280" y="263196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6" descr="tunnel02"/>
          <p:cNvPicPr/>
          <p:nvPr/>
        </p:nvPicPr>
        <p:blipFill>
          <a:blip r:embed="rId11"/>
          <a:stretch/>
        </p:blipFill>
        <p:spPr>
          <a:xfrm>
            <a:off x="3649680" y="1684440"/>
            <a:ext cx="2070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932360" y="1049400"/>
            <a:ext cx="3803760" cy="53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tagon 1"/>
          <p:cNvSpPr/>
          <p:nvPr/>
        </p:nvSpPr>
        <p:spPr>
          <a:xfrm>
            <a:off x="376200" y="1049400"/>
            <a:ext cx="4863960" cy="5367240"/>
          </a:xfrm>
          <a:custGeom>
            <a:avLst/>
            <a:gdLst>
              <a:gd name="textAreaLeft" fmla="*/ 0 w 4863960"/>
              <a:gd name="textAreaRight" fmla="*/ 4864320 w 4863960"/>
              <a:gd name="textAreaTop" fmla="*/ 0 h 5367240"/>
              <a:gd name="textAreaBottom" fmla="*/ 5367600 h 53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64" y="0"/>
                </a:lnTo>
                <a:lnTo>
                  <a:pt x="21600" y="10800"/>
                </a:lnTo>
                <a:lnTo>
                  <a:pt x="17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578-F6E7-41D3-A268-1CD21FF6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5840" y="274680"/>
            <a:ext cx="8589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uring 2005 - 2009, the agencies invested an average of $520 million per year through programs tailored to deliver safe and reliable t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"/>
          <p:cNvGraphicFramePr/>
          <p:nvPr/>
        </p:nvGraphicFramePr>
        <p:xfrm>
          <a:off x="6002280" y="2085840"/>
          <a:ext cx="13813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2280" y="2085840"/>
                    <a:ext cx="13813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23"/>
          <p:cNvSpPr/>
          <p:nvPr/>
        </p:nvSpPr>
        <p:spPr>
          <a:xfrm>
            <a:off x="5587920" y="3470400"/>
            <a:ext cx="474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6380280" y="347040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657760" y="29131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561000" y="29131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5578560" y="2355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694560" y="23558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756400" y="1300320"/>
            <a:ext cx="25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train delays due to track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5456160" y="17874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71520" y="612936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MNR figures based upon East of Hudson network (92% of track-mil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25"/>
          <p:cNvSpPr/>
          <p:nvPr/>
        </p:nvSpPr>
        <p:spPr>
          <a:xfrm rot="10800000">
            <a:off x="6221160" y="4285800"/>
            <a:ext cx="153180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0200" y="11556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annual track investment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49240" y="1508040"/>
            <a:ext cx="564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mill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49360" y="1782720"/>
            <a:ext cx="36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4840" y="1889280"/>
          <a:ext cx="285768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1889280"/>
                    <a:ext cx="28576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19"/>
          <p:cNvSpPr/>
          <p:nvPr/>
        </p:nvSpPr>
        <p:spPr>
          <a:xfrm>
            <a:off x="2130480" y="271620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728720" y="271620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1120" y="215892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38829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7"/>
          <p:cNvSpPr/>
          <p:nvPr/>
        </p:nvSpPr>
        <p:spPr>
          <a:xfrm>
            <a:off x="2860560" y="2158920"/>
            <a:ext cx="346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760320" y="32734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18828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600200" y="327348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60320" y="27162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76680" y="299232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776680" y="325584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078000" y="298764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3078000" y="325116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92080" y="3905280"/>
            <a:ext cx="33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 thousand / mainline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1"/>
          <p:cNvGraphicFramePr/>
          <p:nvPr/>
        </p:nvGraphicFramePr>
        <p:xfrm>
          <a:off x="1117440" y="4348080"/>
          <a:ext cx="2847960" cy="18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7440" y="4348080"/>
                    <a:ext cx="28479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Straight Connector 1"/>
          <p:cNvSpPr/>
          <p:nvPr/>
        </p:nvSpPr>
        <p:spPr>
          <a:xfrm flipV="1">
            <a:off x="1684440" y="5956200"/>
            <a:ext cx="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93720" y="5732640"/>
            <a:ext cx="4050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1828800" y="5732640"/>
            <a:ext cx="3459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3"/>
          <p:cNvSpPr/>
          <p:nvPr/>
        </p:nvSpPr>
        <p:spPr>
          <a:xfrm>
            <a:off x="693720" y="5175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2"/>
          <p:cNvSpPr/>
          <p:nvPr/>
        </p:nvSpPr>
        <p:spPr>
          <a:xfrm>
            <a:off x="2343240" y="51753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219320" y="5732640"/>
            <a:ext cx="406440" cy="21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81040" y="6018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28124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800360" y="51753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7"/>
          <p:cNvSpPr/>
          <p:nvPr/>
        </p:nvSpPr>
        <p:spPr>
          <a:xfrm>
            <a:off x="614520" y="461808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6"/>
          <p:cNvSpPr/>
          <p:nvPr/>
        </p:nvSpPr>
        <p:spPr>
          <a:xfrm>
            <a:off x="3886200" y="461808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547640" y="46180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2838600" y="4618080"/>
            <a:ext cx="406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544680" y="4181400"/>
            <a:ext cx="36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56"/>
          <p:cNvSpPr/>
          <p:nvPr/>
        </p:nvSpPr>
        <p:spPr>
          <a:xfrm>
            <a:off x="6202440" y="485136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99280" y="500364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delays due to 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1587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2"/>
          <p:cNvGraphicFramePr/>
          <p:nvPr/>
        </p:nvGraphicFramePr>
        <p:xfrm>
          <a:off x="-114480" y="-63360"/>
          <a:ext cx="38736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Rectangl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4480" y="-63360"/>
                    <a:ext cx="38736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4"/>
          <a:stretch/>
        </p:blipFill>
        <p:spPr>
          <a:xfrm>
            <a:off x="3255840" y="1087560"/>
            <a:ext cx="2014560" cy="146988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AF70-BD7B-413A-8F25-7D82DD9D3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85840" y="274680"/>
            <a:ext cx="8026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tions in agency track spending are attributabl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methods, constraints and ass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entagon 15"/>
          <p:cNvSpPr/>
          <p:nvPr/>
        </p:nvSpPr>
        <p:spPr>
          <a:xfrm>
            <a:off x="493560" y="1141560"/>
            <a:ext cx="1392480" cy="134136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7" y="0"/>
                </a:lnTo>
                <a:lnTo>
                  <a:pt x="21600" y="10800"/>
                </a:lnTo>
                <a:lnTo>
                  <a:pt x="17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65200" tIns="351000" bIns="352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renewal metho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2152800" y="2857680"/>
            <a:ext cx="6680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ccess: hours of operation, OTP, location, special events, other projec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rules: scheduling flexibility, overtime, job title restri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life: track geometry, utilization, environment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5"/>
          <p:cNvSpPr/>
          <p:nvPr/>
        </p:nvSpPr>
        <p:spPr>
          <a:xfrm>
            <a:off x="493560" y="2901960"/>
            <a:ext cx="1392480" cy="8460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334800" tIns="316080" bIns="31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4" descr="MNR Tie Installation"/>
          <p:cNvPicPr/>
          <p:nvPr/>
        </p:nvPicPr>
        <p:blipFill>
          <a:blip r:embed="rId5"/>
          <a:stretch/>
        </p:blipFill>
        <p:spPr>
          <a:xfrm>
            <a:off x="6684840" y="1101600"/>
            <a:ext cx="1957680" cy="1468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2354400" y="1087560"/>
            <a:ext cx="887400" cy="1469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374920" y="1108080"/>
            <a:ext cx="9176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0"/>
          <p:cNvSpPr/>
          <p:nvPr/>
        </p:nvSpPr>
        <p:spPr>
          <a:xfrm>
            <a:off x="5796000" y="1090440"/>
            <a:ext cx="887400" cy="14702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807160" y="1101600"/>
            <a:ext cx="917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/ MN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-ent track renew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54200" y="4032360"/>
            <a:ext cx="125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, thousand f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84480" y="4505400"/>
            <a:ext cx="480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11"/>
          <p:cNvGraphicFramePr/>
          <p:nvPr/>
        </p:nvGraphicFramePr>
        <p:xfrm>
          <a:off x="2733840" y="4648320"/>
          <a:ext cx="1380960" cy="188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384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2"/>
          <p:cNvSpPr/>
          <p:nvPr/>
        </p:nvSpPr>
        <p:spPr>
          <a:xfrm>
            <a:off x="2389320" y="603252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1624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389320" y="5475240"/>
            <a:ext cx="404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9876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2309760" y="49179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335916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68560" y="403236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es, thous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0000" y="4032360"/>
            <a:ext cx="99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e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1"/>
          <p:cNvGraphicFramePr/>
          <p:nvPr/>
        </p:nvGraphicFramePr>
        <p:xfrm>
          <a:off x="4894200" y="4648320"/>
          <a:ext cx="1381320" cy="188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5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94200" y="4648320"/>
                    <a:ext cx="13813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7"/>
          <p:cNvSpPr/>
          <p:nvPr/>
        </p:nvSpPr>
        <p:spPr>
          <a:xfrm>
            <a:off x="551988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5214960" y="5475240"/>
            <a:ext cx="247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541512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11920" y="4022640"/>
            <a:ext cx="116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e xings, ea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5915160" y="4648320"/>
          <a:ext cx="1380960" cy="188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151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43"/>
          <p:cNvSpPr/>
          <p:nvPr/>
        </p:nvSpPr>
        <p:spPr>
          <a:xfrm>
            <a:off x="654048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 15"/>
          <p:cNvSpPr/>
          <p:nvPr/>
        </p:nvSpPr>
        <p:spPr>
          <a:xfrm>
            <a:off x="493560" y="4172040"/>
            <a:ext cx="1392480" cy="225720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80" y="0"/>
                </a:lnTo>
                <a:lnTo>
                  <a:pt x="21600" y="10800"/>
                </a:lnTo>
                <a:lnTo>
                  <a:pt x="162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192240" tIns="306360" bIns="30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s renewed by capital program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6994440" y="4689360"/>
            <a:ext cx="1944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b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fasten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il j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surfac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170840" y="42465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7156440" y="4503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"/>
          <p:cNvGraphicFramePr/>
          <p:nvPr/>
        </p:nvGraphicFramePr>
        <p:xfrm>
          <a:off x="3830760" y="4648320"/>
          <a:ext cx="1380960" cy="188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8" name="Object 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30760" y="4648320"/>
                    <a:ext cx="138096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6"/>
          <p:cNvSpPr/>
          <p:nvPr/>
        </p:nvSpPr>
        <p:spPr>
          <a:xfrm>
            <a:off x="4475160" y="603252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332240" y="547524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227480" y="4917960"/>
            <a:ext cx="345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F85-C58F-42D4-8F19-1200B248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285840" y="274680"/>
            <a:ext cx="8393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gardless of differences, labor expense is the largest opportunity for reducing track program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68360" y="1204920"/>
            <a:ext cx="66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on / maintenance labor as % of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1"/>
          <p:cNvGraphicFramePr/>
          <p:nvPr/>
        </p:nvGraphicFramePr>
        <p:xfrm>
          <a:off x="1554120" y="1635120"/>
          <a:ext cx="474336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1635120"/>
                    <a:ext cx="47433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4"/>
          <p:cNvSpPr/>
          <p:nvPr/>
        </p:nvSpPr>
        <p:spPr>
          <a:xfrm>
            <a:off x="1209600" y="37814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09600" y="29192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130400" y="205740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6786720" y="2055960"/>
            <a:ext cx="25056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786720" y="1792440"/>
            <a:ext cx="25056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088040" y="205092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88040" y="178740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8"/>
          <p:cNvSpPr/>
          <p:nvPr/>
        </p:nvSpPr>
        <p:spPr>
          <a:xfrm>
            <a:off x="977760" y="1468440"/>
            <a:ext cx="71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6"/>
          <p:cNvSpPr/>
          <p:nvPr/>
        </p:nvSpPr>
        <p:spPr>
          <a:xfrm>
            <a:off x="3470400" y="5253120"/>
            <a:ext cx="2260440" cy="10587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6"/>
          <p:cNvSpPr/>
          <p:nvPr/>
        </p:nvSpPr>
        <p:spPr>
          <a:xfrm>
            <a:off x="3598920" y="555768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labor efficiency and reduce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Isosceles Triangle 1"/>
          <p:cNvSpPr/>
          <p:nvPr/>
        </p:nvSpPr>
        <p:spPr>
          <a:xfrm rot="10800000">
            <a:off x="3263400" y="4752720"/>
            <a:ext cx="27385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7311960" y="538488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0"/>
          <p:cNvSpPr/>
          <p:nvPr/>
        </p:nvSpPr>
        <p:spPr>
          <a:xfrm>
            <a:off x="7302600" y="3530520"/>
            <a:ext cx="1569960" cy="8049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"/>
          <p:cNvSpPr/>
          <p:nvPr/>
        </p:nvSpPr>
        <p:spPr>
          <a:xfrm>
            <a:off x="7305840" y="1738440"/>
            <a:ext cx="1569960" cy="80460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Isosceles Triangle 56"/>
          <p:cNvSpPr/>
          <p:nvPr/>
        </p:nvSpPr>
        <p:spPr>
          <a:xfrm rot="5400000">
            <a:off x="6406920" y="571968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D96-AE18-4F16-911F-8293080E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8584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ous indicators highlight opportunities for improving track program labor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401920" y="1033560"/>
            <a:ext cx="371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ical NYCT nighttime track access, hou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2208240" y="130824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1"/>
          <p:cNvGraphicFramePr/>
          <p:nvPr/>
        </p:nvGraphicFramePr>
        <p:xfrm>
          <a:off x="3541680" y="1514520"/>
          <a:ext cx="2200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514520"/>
                    <a:ext cx="2200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traight Connector 10"/>
          <p:cNvSpPr/>
          <p:nvPr/>
        </p:nvSpPr>
        <p:spPr>
          <a:xfrm flipH="1">
            <a:off x="5011200" y="2448000"/>
            <a:ext cx="81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8"/>
          <p:cNvSpPr/>
          <p:nvPr/>
        </p:nvSpPr>
        <p:spPr>
          <a:xfrm>
            <a:off x="5668920" y="1890720"/>
            <a:ext cx="15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>
            <a:off x="5826240" y="18907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532480" y="2031840"/>
            <a:ext cx="58716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2714760" y="1784520"/>
            <a:ext cx="887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ift leng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46280" y="2341440"/>
            <a:ext cx="10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k wind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1520" y="5964120"/>
            <a:ext cx="8504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mtrak’s Infrastructure Maintenance Program Evaluation Report, Amtrak Office of Inspector General, Sep 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74920" y="2841480"/>
            <a:ext cx="49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workers per track m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208240" y="312732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541680" y="3333600"/>
          <a:ext cx="234324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1680" y="3333600"/>
                    <a:ext cx="23432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Straight Connector 4"/>
          <p:cNvSpPr/>
          <p:nvPr/>
        </p:nvSpPr>
        <p:spPr>
          <a:xfrm flipH="1">
            <a:off x="5378040" y="426708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"/>
          <p:cNvSpPr/>
          <p:nvPr/>
        </p:nvSpPr>
        <p:spPr>
          <a:xfrm>
            <a:off x="5902200" y="371016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2"/>
          <p:cNvSpPr/>
          <p:nvPr/>
        </p:nvSpPr>
        <p:spPr>
          <a:xfrm>
            <a:off x="5826240" y="37101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"/>
          <p:cNvSpPr/>
          <p:nvPr/>
        </p:nvSpPr>
        <p:spPr>
          <a:xfrm>
            <a:off x="3197160" y="360360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4"/>
          <p:cNvSpPr/>
          <p:nvPr/>
        </p:nvSpPr>
        <p:spPr>
          <a:xfrm>
            <a:off x="5608800" y="3851280"/>
            <a:ext cx="58716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3197160" y="41608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entagon 15"/>
          <p:cNvSpPr/>
          <p:nvPr/>
        </p:nvSpPr>
        <p:spPr>
          <a:xfrm>
            <a:off x="476280" y="1684440"/>
            <a:ext cx="1413000" cy="84600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ntagon 15"/>
          <p:cNvSpPr/>
          <p:nvPr/>
        </p:nvSpPr>
        <p:spPr>
          <a:xfrm>
            <a:off x="476280" y="350352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397240" y="467028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witch renewal interval, yea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208240" y="4944960"/>
            <a:ext cx="42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11"/>
          <p:cNvGraphicFramePr/>
          <p:nvPr/>
        </p:nvGraphicFramePr>
        <p:xfrm>
          <a:off x="3541680" y="5151600"/>
          <a:ext cx="2295720" cy="13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1680" y="5151600"/>
                    <a:ext cx="22957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Straight Connector 19"/>
          <p:cNvSpPr/>
          <p:nvPr/>
        </p:nvSpPr>
        <p:spPr>
          <a:xfrm>
            <a:off x="5843520" y="5527800"/>
            <a:ext cx="0" cy="55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0"/>
          <p:cNvSpPr/>
          <p:nvPr/>
        </p:nvSpPr>
        <p:spPr>
          <a:xfrm flipH="1">
            <a:off x="5386320" y="6084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8"/>
          <p:cNvSpPr/>
          <p:nvPr/>
        </p:nvSpPr>
        <p:spPr>
          <a:xfrm>
            <a:off x="5767560" y="55278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065320" y="5421240"/>
            <a:ext cx="15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ational pe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549760" y="5668920"/>
            <a:ext cx="58752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2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3197160" y="59785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5"/>
          <p:cNvSpPr/>
          <p:nvPr/>
        </p:nvSpPr>
        <p:spPr>
          <a:xfrm>
            <a:off x="476280" y="5321160"/>
            <a:ext cx="1413000" cy="846360"/>
          </a:xfrm>
          <a:custGeom>
            <a:avLst/>
            <a:gdLst>
              <a:gd name="textAreaLeft" fmla="*/ 0 w 1413000"/>
              <a:gd name="textAreaRight" fmla="*/ 1413360 w 141300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6" y="0"/>
                </a:lnTo>
                <a:lnTo>
                  <a:pt x="21600" y="10800"/>
                </a:lnTo>
                <a:lnTo>
                  <a:pt x="192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1280" rIns="582480" tIns="209520" bIns="21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  examp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1"/>
          <p:cNvSpPr/>
          <p:nvPr/>
        </p:nvSpPr>
        <p:spPr>
          <a:xfrm rot="5400000">
            <a:off x="6402240" y="2072880"/>
            <a:ext cx="841320" cy="190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55"/>
          <p:cNvSpPr/>
          <p:nvPr/>
        </p:nvSpPr>
        <p:spPr>
          <a:xfrm rot="5400000">
            <a:off x="6399000" y="3857760"/>
            <a:ext cx="84132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7402680" y="1890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and track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8"/>
          <p:cNvSpPr/>
          <p:nvPr/>
        </p:nvSpPr>
        <p:spPr>
          <a:xfrm>
            <a:off x="7373880" y="36496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staffing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1"/>
          <p:cNvSpPr/>
          <p:nvPr/>
        </p:nvSpPr>
        <p:spPr>
          <a:xfrm>
            <a:off x="7380360" y="5559480"/>
            <a:ext cx="144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 asset renew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7172280" y="131292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270920" y="1028880"/>
            <a:ext cx="14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50F-1237-4D25-B9C1-DA2306E8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85840" y="274680"/>
            <a:ext cx="8489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ing overtime will also help to minimize track program labor expense, particularly in the capital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73120" y="1233360"/>
            <a:ext cx="31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time as % of track program labor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754200" y="5065560"/>
            <a:ext cx="2260440" cy="105912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25"/>
          <p:cNvSpPr/>
          <p:nvPr/>
        </p:nvSpPr>
        <p:spPr>
          <a:xfrm rot="10800000">
            <a:off x="1117440" y="4578120"/>
            <a:ext cx="1532160" cy="19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870120" y="5327640"/>
            <a:ext cx="20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 track program over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4967280" y="208764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 more work on weekdays (facilitated by expanded track acces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locate staff to shorten shifts     (16 hour weekend shifts are typic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arly start times in instances that will trigger full-day overtime p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ssess work rules that provide overtime for routinely scheduled weekend workdays (only NYCT has first 8 hours of Saturday and Sunday on straight tim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"/>
          <p:cNvGraphicFramePr/>
          <p:nvPr/>
        </p:nvGraphicFramePr>
        <p:xfrm>
          <a:off x="1109520" y="1974960"/>
          <a:ext cx="16383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74960"/>
                    <a:ext cx="1638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4"/>
          <p:cNvSpPr/>
          <p:nvPr/>
        </p:nvSpPr>
        <p:spPr>
          <a:xfrm>
            <a:off x="765000" y="365436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82720" y="3778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668680" y="3535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65000" y="297828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878120" y="3102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2363760" y="28591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685800" y="230184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1477800" y="242568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058840" y="218268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2962440" y="2131920"/>
            <a:ext cx="250560" cy="187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962440" y="2395440"/>
            <a:ext cx="250560" cy="18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63760" y="2390760"/>
            <a:ext cx="777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263760" y="2127240"/>
            <a:ext cx="55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572000" y="1020600"/>
            <a:ext cx="4203720" cy="53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48B7-6686-47BA-96AA-7666EE28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85840" y="274680"/>
            <a:ext cx="8190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itute service represents a further significant opportunity for reducing track capital program cost at NY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entagon 1"/>
          <p:cNvSpPr/>
          <p:nvPr/>
        </p:nvSpPr>
        <p:spPr>
          <a:xfrm>
            <a:off x="371520" y="1020600"/>
            <a:ext cx="4556160" cy="539604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5396040"/>
              <a:gd name="textAreaBottom" fmla="*/ 5396400 h 539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41" y="0"/>
                </a:lnTo>
                <a:lnTo>
                  <a:pt x="21600" y="10800"/>
                </a:lnTo>
                <a:lnTo>
                  <a:pt x="169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73120" y="1233360"/>
            <a:ext cx="334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typical NYCT renewal project expe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573120" y="173052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967280" y="2157480"/>
            <a:ext cx="3508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uration of substitute service (use efficiency gains to speed project comple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replacement bus service in areas with numerous alternatives (e.g., Manhattan CBD, Downtown Brooklyn, Long Island C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1280" indent="-225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overtime incurred by staff supporting diver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"/>
          <p:cNvGraphicFramePr/>
          <p:nvPr/>
        </p:nvGraphicFramePr>
        <p:xfrm>
          <a:off x="1109520" y="1836720"/>
          <a:ext cx="163836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36720"/>
                    <a:ext cx="16383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Straight Connector 12"/>
          <p:cNvSpPr/>
          <p:nvPr/>
        </p:nvSpPr>
        <p:spPr>
          <a:xfrm flipH="1">
            <a:off x="3112560" y="333684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3027240" y="21985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7"/>
          <p:cNvSpPr/>
          <p:nvPr/>
        </p:nvSpPr>
        <p:spPr>
          <a:xfrm>
            <a:off x="2274840" y="219852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3589200" y="303696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0"/>
          <p:cNvSpPr/>
          <p:nvPr/>
        </p:nvSpPr>
        <p:spPr>
          <a:xfrm>
            <a:off x="2455920" y="3036960"/>
            <a:ext cx="11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 flipH="1">
            <a:off x="2550600" y="249876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9"/>
          <p:cNvSpPr/>
          <p:nvPr/>
        </p:nvSpPr>
        <p:spPr>
          <a:xfrm>
            <a:off x="2106720" y="23922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830240" y="209232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703600" y="2211480"/>
            <a:ext cx="649080" cy="27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646200" y="2239920"/>
            <a:ext cx="523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4"/>
          <p:cNvSpPr/>
          <p:nvPr/>
        </p:nvSpPr>
        <p:spPr>
          <a:xfrm>
            <a:off x="3265560" y="3049560"/>
            <a:ext cx="649080" cy="27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27200" y="3078000"/>
            <a:ext cx="442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2"/>
          <p:cNvSpPr/>
          <p:nvPr/>
        </p:nvSpPr>
        <p:spPr>
          <a:xfrm>
            <a:off x="2668680" y="323064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2011320" y="293040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3479760" y="2257560"/>
            <a:ext cx="250920" cy="18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3479760" y="1994040"/>
            <a:ext cx="250920" cy="187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781440" y="225252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781440" y="1989000"/>
            <a:ext cx="39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1"/>
          <p:cNvGraphicFramePr/>
          <p:nvPr/>
        </p:nvGraphicFramePr>
        <p:xfrm>
          <a:off x="1109520" y="4406760"/>
          <a:ext cx="2400480" cy="18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9520" y="4406760"/>
                    <a:ext cx="24004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20"/>
          <p:cNvSpPr/>
          <p:nvPr/>
        </p:nvSpPr>
        <p:spPr>
          <a:xfrm>
            <a:off x="685800" y="4676760"/>
            <a:ext cx="484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Y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421080" y="4676760"/>
            <a:ext cx="406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765000" y="579132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N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411200" y="5791320"/>
            <a:ext cx="3081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65000" y="5234040"/>
            <a:ext cx="40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R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592280" y="5234040"/>
            <a:ext cx="307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590400" y="3868560"/>
            <a:ext cx="334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titute service as % of capital track program expense, 2005 -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8"/>
          <p:cNvSpPr/>
          <p:nvPr/>
        </p:nvSpPr>
        <p:spPr>
          <a:xfrm>
            <a:off x="590400" y="4365720"/>
            <a:ext cx="335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5060880" y="1454040"/>
            <a:ext cx="31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8"/>
          <p:cNvSpPr/>
          <p:nvPr/>
        </p:nvSpPr>
        <p:spPr>
          <a:xfrm>
            <a:off x="5060880" y="1731960"/>
            <a:ext cx="342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TA</cp:lastModifiedBy>
  <cp:lastPrinted>2011-01-31T19:57:00Z</cp:lastPrinted>
  <dcterms:modified xsi:type="dcterms:W3CDTF">2011-02-16T20:52:02Z</dcterms:modified>
  <cp:revision>1116</cp:revision>
  <dc:subject/>
  <dc:title>Slide 1</dc:title>
</cp:coreProperties>
</file>