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6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6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1280" y="441792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A901F4-27B3-4B3E-B552-7B48482FB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3C3AF3-F10E-4494-8F51-178AE7F46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5D1E4F-C2BA-4603-9DCB-17492389D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DCB08F-D9E2-43F3-9066-E21108136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90440" y="4417920"/>
            <a:ext cx="665496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MTA Cap Constr copy"/>
          <p:cNvPicPr/>
          <p:nvPr/>
        </p:nvPicPr>
        <p:blipFill>
          <a:blip r:embed="rId2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22"/>
          <p:cNvSpPr/>
          <p:nvPr/>
        </p:nvSpPr>
        <p:spPr>
          <a:xfrm>
            <a:off x="0" y="309600"/>
            <a:ext cx="1854360" cy="78084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92" y="0"/>
                </a:lnTo>
                <a:lnTo>
                  <a:pt x="21600" y="10800"/>
                </a:lnTo>
                <a:lnTo>
                  <a:pt x="1679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Text Box 23"/>
          <p:cNvSpPr/>
          <p:nvPr/>
        </p:nvSpPr>
        <p:spPr>
          <a:xfrm>
            <a:off x="7421400" y="6607080"/>
            <a:ext cx="193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8010360" cy="251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182880" rIns="182880" tIns="137160" bIns="13716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Avenue Subway TBM Drive #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ssue: Complete TBM run by March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BM Drive #1 completed February 4, ahead of the required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42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09160" y="1333080"/>
            <a:ext cx="8839080" cy="534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137160" bIns="13716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st Side Access Systems Contra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Issue: Reduce risks of del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aft Risk Assessment identified a number of risks that, if not mitigated, could lead to project dela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s already tak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esigned bench wall to increase production of cable install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vanced bench wall, walkway, and other scope for earlier completions and reduced volume of concurrent wor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vanced two substations to reduce testing and commissioning delay ri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ducting peer review of critical track installation site access pl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ilding 4-D model to confirm work plan and resolve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alyzing feasibility of additional work shifts; if feasible, could greatly reduce delay ri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ther risk mitigation strategies that result from the Follow-up Risk Assessment will be included in contract specs.  The procurement of first Systems contract is planned to start in April with award in March-201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FP procurement process allows team to evaluate and negotiate contract schedule and other ter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4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71160" y="1504800"/>
            <a:ext cx="8505720" cy="509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182880" rIns="182880" tIns="137160" bIns="13716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st Side Access Manhattan Caver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Issue: Hold to recovery plan and restore schedule conting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s taken to increase produ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actor now working 24 hours a day, six days per week, every week (seventh day being evaluat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nged running tunnel waterproofing design to simplify concrete production. This approach has been discussed with LIR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ting up additional material delivery access points in Manhattan (Wellway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gress since last repor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ed concrete operations in W/B Cavern this month as plan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rrently forecast start of concrete operations in E/B Cavern in April, but pushing for March start to meet pl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36"/>
          <p:cNvSpPr/>
          <p:nvPr/>
        </p:nvSpPr>
        <p:spPr>
          <a:xfrm>
            <a:off x="0" y="695160"/>
            <a:ext cx="9144000" cy="5018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February 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6" descr="MTA Cap Constr copy"/>
          <p:cNvPicPr/>
          <p:nvPr/>
        </p:nvPicPr>
        <p:blipFill>
          <a:blip r:embed="rId1"/>
          <a:stretch/>
        </p:blipFill>
        <p:spPr>
          <a:xfrm>
            <a:off x="6515280" y="365040"/>
            <a:ext cx="2279520" cy="439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6"/>
          <p:cNvSpPr/>
          <p:nvPr/>
        </p:nvSpPr>
        <p:spPr>
          <a:xfrm>
            <a:off x="181080" y="48276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POC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36"/>
          <p:cNvSpPr/>
          <p:nvPr/>
        </p:nvSpPr>
        <p:spPr>
          <a:xfrm>
            <a:off x="2486160" y="291960"/>
            <a:ext cx="4076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y Issu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4:13:11Z</dcterms:created>
  <dc:creator>MTACC</dc:creator>
  <dc:description/>
  <dc:language>en-US</dc:language>
  <cp:lastModifiedBy>Michael Jew-Geralds</cp:lastModifiedBy>
  <cp:lastPrinted>2011-02-16T22:34:08Z</cp:lastPrinted>
  <dcterms:modified xsi:type="dcterms:W3CDTF">2011-02-16T22:36:23Z</dcterms:modified>
  <cp:revision>111</cp:revision>
  <dc:subject/>
  <dc:title>MTACC Quarterly Progress Report to CPOC</dc:title>
</cp:coreProperties>
</file>