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D90A-83B8-4761-80B6-3BEFB1DCCC3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0761-002F-42EA-AAD8-4CEBDB826C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458F-D36F-49C9-B793-16446E95453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16BB-42F0-4415-93E2-930F909F68D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B333-01FD-45A0-9470-6E72540E27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811E-F427-475A-B3FA-78D12B87A8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FD8A-8E3B-4F59-9007-A6768EBF5A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5E1B-9582-4FDE-AA91-F92BF940D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68CA-D493-4831-8C8B-539E81A3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46E1AE-02F3-4097-B512-F68DE690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501B01-8FDB-4947-9A2D-6D9D0B13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4C52A-A459-4C60-A162-F2E94018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21913-96E7-4A1B-9374-F92BD0AF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8422A-70BD-4ACE-8271-2EB0DF93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C9DB9F-1AF1-4058-BEA3-92FEFF89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DA41C-FDAE-4993-B17B-BB148A10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CA0E3-3207-439F-A045-6E209E0C3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E93FA9-F385-4161-A272-10B780419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35DBBE-3DEB-491C-AA99-91788E8C9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C927-10B0-4404-ABE2-29C4BEFBE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1E42CE-4999-4988-8A08-7F639D06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7A269E-4ED8-4264-AD35-43D9E692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54A6F8-420A-4407-B1A3-833B487B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BBCD3F-B90A-4D01-9215-C2233728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BF6D61-C772-457E-A085-CA6580E8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FC0B8B-982D-4C78-A231-02466BDA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E67AC-FED8-4B32-AFC1-BFD9B666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3DA709-229E-4FE1-9E8B-343DE2B3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E4C755-1D93-44DB-8FDF-4866F451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E53E61-CC6C-4BF0-823A-D4DC68F6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CFBD-834E-4841-8859-E11BA669F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718F6-54F4-4F14-9AD6-BC58200A1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8B8BFF-7F11-4C96-8B88-EE2763E5A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E24E99-3E6F-4730-B8DA-EE7D34A6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EDA08-F524-4E7F-9599-ADA434D1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7A7E4-0C58-46BA-B12F-ADB0BC71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7D47D-EF4C-4B24-BFD9-47CB4690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1F5C5-E267-4079-B99B-FCD9B6B0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2572E-1B6D-4C85-A1B6-2E986400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444F42-D3FD-4E5B-9BE5-82BC1EAD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6C4C7-DA22-4B88-BCA0-CFCD0B29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04FC-D7E7-4285-9538-3182AE0AE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07000-32C4-461F-9D77-303973D8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2BEC3-BFBF-4A76-B308-FB27117FB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6D49B-58B5-4588-B6BD-4A9AFB35E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D34749-D6EB-4B10-ACFE-78CE7B1B3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65A2A1-BF29-4970-B051-1A896E35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0F69DD-66B4-4D92-BA3A-A0EA49F6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723800-70FA-448D-8BE8-BF8643E7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EC3BF2-26F6-442F-883F-72A7183E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7C4BFB-630D-40F4-9945-499139D8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BFD9F2-44C7-498C-ABA8-B3535FD4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F318-EDA5-42A8-8D21-500CEDBE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C655F1-2FB1-4222-8B9C-FCC87E1A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B1D7BE-5836-473B-A107-3B1E4B47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3C93B0-39D3-43A0-912A-2F0CC8DF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522FAF-1822-45CA-8D74-482163639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14EBB6-3249-4B4D-BBEC-35CF4BB16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A0FA-B560-4551-8D15-55812333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7644-EE30-4EA8-ADE5-DAB98BCC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8795-01F5-425A-B75B-D36A5341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B41D-FBE6-4246-B4A4-DCBF5D8D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44CA-18E7-41D6-8679-381DFDCA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A92F-9E75-4B50-B608-93BCF232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F0D0-0ADB-471A-8D72-CF795415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9760-8040-481B-9E5A-4A38A982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2FC5-D4EF-4DF5-B3D0-8D898ED0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3B5D-0AE3-4668-9425-5B573E7D4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3A7B-395C-4EE2-A3C4-0ED71983E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CAB42-D5C8-49C1-BF0F-FA1E01609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44906-7140-4D58-B65C-C641C8D1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61C5E-A4DF-4732-BF2C-F6ACC3E9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9ACE3-420D-4112-91C8-CD277275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1C2E1-AAC2-4373-830D-A9F5E599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A1FA-825C-42B5-BC44-D7B20A23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66CA7-DF70-4B9C-A613-32441AB7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502CB-80A3-4A53-9918-5E9AC7CF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8D7FE-A765-4CFC-A411-7CBF8D25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2F9BC-A512-4008-A384-25CC8837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02449-C5CB-4C36-9E58-2D55D00C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BF9FF-53C1-4135-A432-49A020F60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21882-0984-485F-8E8A-C6F09F0B0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B0A55-0551-46A4-9AB9-E8E64161D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CB0EC-CAD2-413D-A43B-62FD0551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0072E-B148-4E61-A4C8-BFCCA6A4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3318-89F8-426A-AE2F-C7FA16FE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12B21-A803-43DA-B372-8A6332E6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CF036-EE0E-4B88-A0F5-E236D91E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1B552-D5E3-49CA-AE44-4CD898AB9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30C27-483E-4E57-822C-30DE055C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26D5F-CF0E-46E2-B9ED-48171F1A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E6B96-A652-4ECE-AB2E-B01CC728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56954-BFA8-40DB-BF7C-974D542A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640C1-C624-4C6E-BA37-1352876BE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17FDD-54FC-464B-A4EE-CDE54501F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20641-3A08-4E46-B119-4F43935F5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EB4A-DC26-481D-88D1-76F77E9F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11A49-675B-4D90-BC13-033C33EA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CD35C-47C5-4DE2-931D-5F378880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A9B91-78AA-47C6-A3BA-58CA8404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E2AD2-2926-4116-A039-997B2B9D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C6394-967A-4BDD-8C7C-04B6E1ED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17EE5-43C0-4259-B9FA-55502557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E6778-9736-4FB2-B095-7BF6FEEF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5C0D3-2900-4E59-90C1-2AB310DF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6ABA6-EA38-4D6C-99E0-7036F06D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8766C-B319-4C24-BD19-B8D8474D5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CEFB-7F0D-44DA-80D1-7D1ABC7C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B8EAE-8D8B-4429-BEBC-ECB16B400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50DA3-1248-4315-9EE9-18080641E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3B4B0-B823-4AC2-8536-B9E55481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034FC-8044-49BC-8E62-817AABC7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48D3D-66EA-467E-9106-DE100564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D0C2D-3D33-4A67-ACE1-18E97B56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F9270-36A6-4D4A-ABF0-0CFE9F1D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BFF42-A66A-4873-9603-F9AED221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5784C-C918-450C-8091-DE81E605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DCE8E-A389-480D-93B3-3F3D8F35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16C4-1729-4451-A59E-F0ED90EC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1CA44-10D5-418B-A222-D79EE148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C57F0-26A8-44C0-8C92-AE5A66F7D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45EA1-B148-42F1-BE6A-BE19634E0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F24F1-A8A0-4214-BCF0-D65556073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EBD86-E3BF-43F3-9BD9-2239BA39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E64E8-5691-4214-8548-D86AD692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6A4A1-811E-45F4-A85D-E424C61C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ADC72-2A38-4414-8C48-4F4828C6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AFE82-E447-4902-B3DF-1776F794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E8BDC-95DF-41B3-A927-85C12F81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1492-14A6-4A8A-B473-16FDDF48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5FD11-9185-4FDB-AF04-841161AA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C82C7-ABAB-4994-9F31-4F85A768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5C349-F807-4BCB-A9C7-75C15F52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0DF02-8DCF-4305-8ECC-749E9C082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B1582-4A8F-425B-9F01-D1183877B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F3889-AB07-4A30-981D-BE48B00AA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277DC-DB82-41CC-944D-8BCA3005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6BB24-DD24-456C-91E3-E4E2E4E6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51D11-BA6F-411F-88D0-5157987A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8C0DA-67C4-4F83-ACE9-560DB97A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AE37-CB94-4C7B-9EA7-240F12F1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6BF2D-3F8F-41C5-AAE3-F0172C62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1A9DB-1518-48AA-A5FD-A7653AAC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1C72C-5396-4E53-BC6C-9FBC3C8A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E3507-4398-4DA7-A653-5C8BDF4B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106F8-9935-404D-B70F-9CC7EAE6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02914-BD35-4EED-8896-2D30C245F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3E164-0848-4617-805E-2FEDD7F93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FCBC25-FE99-4C8D-B0FC-F0BD83E8E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D30F9B-4C5F-4D10-A2C0-F8F7CF1F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DC8C99-260A-434C-A005-89B8CC8F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8958-FED6-4E74-B372-C615047B1B7C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40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76AD-E403-42D6-8248-E204247799EF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45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19E2-4B56-4969-B563-7DEE44A41B7E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49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2072-6D11-4561-9108-3AC86120D552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4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5E20-60E6-4C46-8290-BA909B04CACD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9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C8E8-0BCE-4CD4-81A2-A159BFCCCB34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13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E18C-5449-49C5-8E52-B1DFA9E30267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18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8CA8-7A89-462C-A5C3-083AEFA86843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22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D32E-F577-40E5-AC27-FAF895651901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27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CB6C-E07C-4BF7-8ED1-C62A43ADC52D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31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3869-6897-4A05-964B-12F96E6A46D4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36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B6A9-D167-4B14-AB40-0A826BC8F7B1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80880" y="2209680"/>
            <a:ext cx="8382240" cy="14702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Fare Payment System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1447920" y="4419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tio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 Program Oversight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23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4" descr="mtasymbolpms286"/>
          <p:cNvPicPr/>
          <p:nvPr/>
        </p:nvPicPr>
        <p:blipFill>
          <a:blip r:embed="rId1"/>
          <a:stretch/>
        </p:blipFill>
        <p:spPr>
          <a:xfrm>
            <a:off x="3835440" y="914400"/>
            <a:ext cx="128268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re pay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B0A9-5688-4B9D-B530-7035BFE0E91F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ation of bus r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ing commercial relationship with payments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way communications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TA-issued card &amp; reload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 from Metro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ffective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ing forward: Next 6 mon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detailed requirements for MTA-issued card and reload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Project Plan: requirements, cost estimate, schedule, procurement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payments industry negotiation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ize subway communications networks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System Integ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 hardware on Staten Island b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3533-A30D-483F-8638-D353E0DA84E8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1186-7A30-484B-9F03-529E8EC4BBF4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TA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cost of revenue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15¢ cost per revenue dollar col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 fare payment across modes &amp;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antially reduce cash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up performance at turnstiles &amp; fare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up bus boarding and reduce dwel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-p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C9B2-4FD0-4CD5-BA60-8947D338EEB3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re payment c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-based, not card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like E-Z Pass, less like Metro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 may reside with bank, MTA, mobile phone network or other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y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 ent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ustomer wil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ot swipe, at readers on turnstiles and fare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p contactless credit/debit card, prepaid card, phone or MTA 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E69E-353E-4E14-8721-30B6921329AD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re payment concept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courage customers to self-serve on-line, at ATMs and kiosks, and via widespread external network of retail merch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rage existing payment industry infrastructure, products and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relatively inexpensive and commercially available off-the-shelf-hardware and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icable to all modes and ag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gencies involved in concept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gencies have or will have pi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D264-6F1C-4123-8AF6-13EF752FA25A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ter railroad pil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pilot for each LIRR and MN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board and off-board 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s test handheld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lots commence in 1Q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F86D-CECE-4840-A02B-E1D60E621B70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E570-1539-4827-A8F5-4C992D1F8C1A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stry outre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45720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F909-042E-42BE-9932-C2077438265F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stry outreach: Suppl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espread industry interest about this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10: 150 representatives from 80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ment industry including banks and other issuers, card brands, acqui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integ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 manufactu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less network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re collection system 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ervice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D44A-CEE8-4A5B-8B20-EAA4997F728E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ustry outreach: Transit author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implementations of open pay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don (Tf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t Lake City (U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lose contact with major US transit systems that are procuring open payment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with regional partners on seamless intermodal tra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J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YNJ/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8:28:26Z</dcterms:created>
  <dc:creator>Amy Linden</dc:creator>
  <dc:description/>
  <dc:language>en-US</dc:language>
  <cp:lastModifiedBy>Amy Linden</cp:lastModifiedBy>
  <cp:lastPrinted>2011-05-17T22:27:13Z</cp:lastPrinted>
  <dcterms:modified xsi:type="dcterms:W3CDTF">2011-05-19T17:45:26Z</dcterms:modified>
  <cp:revision>458</cp:revision>
  <dc:subject/>
  <dc:title>New Fare Payment Systems</dc:title>
</cp:coreProperties>
</file>