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A4CC7CE-9144-47D1-9E59-580AC9D8E8F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D0EA96C-3129-4A39-AA4B-E15B28B5DB2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b">
            <a:noAutofit/>
          </a:bodyPr>
          <a:p>
            <a:pPr algn="r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AF8C6A92-34CB-42A2-A439-37C48C64DA3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387320"/>
            <a:ext cx="5608800" cy="41562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Hutchinson River Parkway, Cross Bronx Expressway and New England Thruway to Cross Island Parkway, Van Wyck Expressway, LIE, and Grand Cen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E41F652-0610-42A6-982E-2EA70299DD8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3DF83009-FD4C-42F1-B838-5F003DD5DBD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D23888E-5370-4C03-B6A9-852753F88CD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F96763D8-AFDD-4165-9928-CC243CC2F6B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6BC-2E68-4EAA-B14D-5D0F78A9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F93-8878-483A-8C06-2D10DBF2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1C2-D0ED-40AC-8215-0A89519C0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9C6-3B9B-41F1-8913-90C6377F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65E-8074-4F99-B07B-F3637103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3B6-D436-4698-8C9B-475B2A14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350-BB3E-4577-B99D-9BA92608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597-1E5B-4CDC-B70B-F5D52328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235-AC69-41AC-B806-741E92FA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E29-89BE-45FE-AC38-802E586A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D96-67E6-4DA9-AB34-7CFF0BC9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705-4C36-47A8-B7CE-1AF49373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7C8F-9645-4469-A7AD-2C6CDD1CC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RONX16"/>
          <p:cNvPicPr/>
          <p:nvPr/>
        </p:nvPicPr>
        <p:blipFill>
          <a:blip r:embed="rId1"/>
          <a:stretch/>
        </p:blipFill>
        <p:spPr>
          <a:xfrm>
            <a:off x="1297080" y="0"/>
            <a:ext cx="662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307080"/>
            <a:ext cx="7086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Replacement of the Queens Approach Bronx-Whiteston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6095880" cy="79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Risk Assess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5B99-C3DC-4023-8572-3EE5B602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28600" y="4495680"/>
            <a:ext cx="2209680" cy="2439360"/>
            <a:chOff x="228600" y="4495680"/>
            <a:chExt cx="2209680" cy="2439360"/>
          </a:xfrm>
        </p:grpSpPr>
        <p:graphicFrame>
          <p:nvGraphicFramePr>
            <p:cNvPr id="54" name="Object 5"/>
            <p:cNvGraphicFramePr/>
            <p:nvPr/>
          </p:nvGraphicFramePr>
          <p:xfrm>
            <a:off x="564840" y="449568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449568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Text Box 6"/>
            <p:cNvSpPr/>
            <p:nvPr/>
          </p:nvSpPr>
          <p:spPr>
            <a:xfrm>
              <a:off x="228600" y="610956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Bridges 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Cost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38120"/>
          <a:ext cx="7925040" cy="4422960"/>
        </p:xfrm>
        <a:graphic>
          <a:graphicData uri="http://schemas.openxmlformats.org/drawingml/2006/table">
            <a:tbl>
              <a:tblPr/>
              <a:tblGrid>
                <a:gridCol w="3124440"/>
                <a:gridCol w="1676160"/>
                <a:gridCol w="3124440"/>
              </a:tblGrid>
              <a:tr h="1764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610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to address mitigation of Community Sensitivities such as noise, and construction related environmental iss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outreach with the community and elected officials, anticipate and address mitigations, such as noise wall installations, and employ extensive site debris manag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resulting from construction delays, such as security and  traffic challen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e evaluation and processing of warranted change orders related to delays eliminating any impact to construction progress/schedule.  Continue to review and revise MPT staging to expedite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8AA1-E520-47C4-8832-38EE8E834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Schedule 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3992400"/>
        </p:xfrm>
        <a:graphic>
          <a:graphicData uri="http://schemas.openxmlformats.org/drawingml/2006/table">
            <a:tbl>
              <a:tblPr/>
              <a:tblGrid>
                <a:gridCol w="2001600"/>
                <a:gridCol w="800280"/>
                <a:gridCol w="608040"/>
                <a:gridCol w="628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5800" y="1447920"/>
          <a:ext cx="7772400" cy="5010120"/>
        </p:xfrm>
        <a:graphic>
          <a:graphicData uri="http://schemas.openxmlformats.org/drawingml/2006/table">
            <a:tbl>
              <a:tblPr/>
              <a:tblGrid>
                <a:gridCol w="2719440"/>
                <a:gridCol w="2247840"/>
                <a:gridCol w="2805120"/>
              </a:tblGrid>
              <a:tr h="166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(or different) Maintenance of Traffic needed to accommodate traffic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ly monitor traffic conditions and be pro-active with correction/ adjustments of MPT/ staging.  Coordinate with NYCDOT and NYSD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der placement problems (Site logisti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ensure Contractor’s means and methods are efficient to eliminate potential delays related to Girder placement.  Use lessons learned from Bronx Approach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nticipated structural maintenance repai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and aggressively evaluate and inspect existing structure during construction to limit/eliminate resulting del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174E-8666-4FBE-95B9-DA4820CFA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STEPS PRIOR TO CONSTRUCTION CONTRAC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i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Contractor Qualification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id Analysis and determine recommendations with respect to low bi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0612-E7E8-453A-BE6A-B087322C3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306032357_8643f105e0"/>
          <p:cNvPicPr/>
          <p:nvPr/>
        </p:nvPicPr>
        <p:blipFill>
          <a:blip r:embed="rId1"/>
          <a:stretch/>
        </p:blipFill>
        <p:spPr>
          <a:xfrm>
            <a:off x="-44280" y="533520"/>
            <a:ext cx="9188280" cy="554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6341-0F11-4A83-9B9E-D5DF4E33F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3657600"/>
            <a:ext cx="2209680" cy="2439360"/>
            <a:chOff x="228600" y="3657600"/>
            <a:chExt cx="2209680" cy="2439360"/>
          </a:xfrm>
        </p:grpSpPr>
        <p:graphicFrame>
          <p:nvGraphicFramePr>
            <p:cNvPr id="160" name="Object 5"/>
            <p:cNvGraphicFramePr/>
            <p:nvPr/>
          </p:nvGraphicFramePr>
          <p:xfrm>
            <a:off x="564840" y="365760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365760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6"/>
            <p:cNvSpPr/>
            <p:nvPr/>
          </p:nvSpPr>
          <p:spPr>
            <a:xfrm>
              <a:off x="228600" y="527148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ridg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380880" y="22860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32920" y="4038480"/>
            <a:ext cx="73080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81280" y="3962520"/>
            <a:ext cx="8254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486040" y="1905120"/>
            <a:ext cx="3048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Bronx Whitestone Bridge Sequence of Majo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Past-Present-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5562720" y="3200400"/>
            <a:ext cx="137160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80880" y="1055520"/>
            <a:ext cx="2743200" cy="1128960"/>
          </a:xfrm>
          <a:prstGeom prst="rect">
            <a:avLst/>
          </a:prstGeom>
          <a:solidFill>
            <a:srgbClr val="006600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8 –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Bronx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819520" y="4876920"/>
            <a:ext cx="3733560" cy="1646640"/>
          </a:xfrm>
          <a:prstGeom prst="rect">
            <a:avLst/>
          </a:prstGeom>
          <a:solidFill>
            <a:srgbClr val="5f5f5f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3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spension Spa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oval of Stiffening Tr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ation of Wind Fa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Roadway D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ing of T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095880" y="1055520"/>
            <a:ext cx="2743200" cy="1128960"/>
          </a:xfrm>
          <a:prstGeom prst="rect">
            <a:avLst/>
          </a:prstGeom>
          <a:solidFill>
            <a:srgbClr val="26267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11 –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3200400" y="1332000"/>
            <a:ext cx="2819520" cy="1128960"/>
          </a:xfrm>
          <a:prstGeom prst="rect">
            <a:avLst/>
          </a:prstGeom>
          <a:solidFill>
            <a:srgbClr val="99003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YOND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der Rope Replacement, Main Cable Rehab. and Toll Pl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1"/>
          <p:cNvCxnSpPr>
            <a:stCxn id="66" idx="2"/>
          </p:cNvCxnSpPr>
          <p:nvPr/>
        </p:nvCxnSpPr>
        <p:spPr>
          <a:xfrm flipH="1">
            <a:off x="6400080" y="2193840"/>
            <a:ext cx="1067400" cy="138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69" name="Straight Arrow Connector 33"/>
          <p:cNvCxnSpPr>
            <a:stCxn id="64" idx="2"/>
          </p:cNvCxnSpPr>
          <p:nvPr/>
        </p:nvCxnSpPr>
        <p:spPr>
          <a:xfrm>
            <a:off x="1752480" y="2193840"/>
            <a:ext cx="1067760" cy="1464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70" name="Straight Arrow Connector 38"/>
          <p:cNvCxnSpPr>
            <a:stCxn id="65" idx="0"/>
          </p:cNvCxnSpPr>
          <p:nvPr/>
        </p:nvCxnSpPr>
        <p:spPr>
          <a:xfrm flipH="1" flipV="1">
            <a:off x="3504600" y="3656880"/>
            <a:ext cx="118188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cxnSp>
        <p:nvCxnSpPr>
          <p:cNvPr id="71" name="Straight Arrow Connector 40"/>
          <p:cNvCxnSpPr/>
          <p:nvPr/>
        </p:nvCxnSpPr>
        <p:spPr>
          <a:xfrm flipV="1">
            <a:off x="4723200" y="3656880"/>
            <a:ext cx="114372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sp>
        <p:nvSpPr>
          <p:cNvPr id="7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73E7-9FE1-4942-8587-43F0FE8F5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868320"/>
            <a:ext cx="838188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Queens Approach Projec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erial view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098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447920" y="2286000"/>
            <a:ext cx="1898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371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2860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251460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295280" y="25146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5257800"/>
            <a:ext cx="7313760" cy="838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7696080" y="4495680"/>
            <a:ext cx="5335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2590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1371600" y="33526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V="1">
            <a:off x="6400800" y="2742840"/>
            <a:ext cx="16765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335268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86240" y="2971800"/>
            <a:ext cx="1758240" cy="368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2240-672F-49EF-B320-877FD68E1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4960" y="4114800"/>
            <a:ext cx="2276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ens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762120" y="3733920"/>
            <a:ext cx="4572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7840" y="4419720"/>
            <a:ext cx="279576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stone Express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5943600" y="4038120"/>
            <a:ext cx="4572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0320" y="213372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 Island Par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772400" y="2362320"/>
            <a:ext cx="533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038480"/>
            <a:ext cx="5029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ructed in 193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ve recurring needs for roadway repairs and temporary steel re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ow 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shou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designed for current traffic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eet current Seismi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"/>
          <p:cNvPicPr/>
          <p:nvPr/>
        </p:nvPicPr>
        <p:blipFill>
          <a:blip r:embed="rId1"/>
          <a:stretch/>
        </p:blipFill>
        <p:spPr>
          <a:xfrm>
            <a:off x="4876920" y="152280"/>
            <a:ext cx="4038480" cy="14749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61924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0012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72800" y="83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Queens Approach4"/>
          <p:cNvPicPr/>
          <p:nvPr/>
        </p:nvPicPr>
        <p:blipFill>
          <a:blip r:embed="rId2"/>
          <a:stretch/>
        </p:blipFill>
        <p:spPr>
          <a:xfrm>
            <a:off x="5105520" y="1676520"/>
            <a:ext cx="3692520" cy="492264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2" name="Rectangle 8"/>
          <p:cNvSpPr/>
          <p:nvPr/>
        </p:nvSpPr>
        <p:spPr>
          <a:xfrm>
            <a:off x="304920" y="228600"/>
            <a:ext cx="4419360" cy="33732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s: Existing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MG_6374"/>
          <p:cNvPicPr/>
          <p:nvPr/>
        </p:nvPicPr>
        <p:blipFill>
          <a:blip r:embed="rId3"/>
          <a:stretch/>
        </p:blipFill>
        <p:spPr>
          <a:xfrm>
            <a:off x="380880" y="762120"/>
            <a:ext cx="4267440" cy="320040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6C84-5029-4668-A4E7-DF5324F5E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BW-89_CrossSection"/>
          <p:cNvPicPr/>
          <p:nvPr/>
        </p:nvPicPr>
        <p:blipFill>
          <a:blip r:embed="rId1"/>
          <a:stretch/>
        </p:blipFill>
        <p:spPr>
          <a:xfrm>
            <a:off x="5105520" y="1219320"/>
            <a:ext cx="3504960" cy="3422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grpSp>
        <p:nvGrpSpPr>
          <p:cNvPr id="106" name="Group 25"/>
          <p:cNvGrpSpPr/>
          <p:nvPr/>
        </p:nvGrpSpPr>
        <p:grpSpPr>
          <a:xfrm>
            <a:off x="5638680" y="1295280"/>
            <a:ext cx="1162440" cy="382680"/>
            <a:chOff x="5638680" y="1295280"/>
            <a:chExt cx="1162440" cy="382680"/>
          </a:xfrm>
        </p:grpSpPr>
        <p:sp>
          <p:nvSpPr>
            <p:cNvPr id="107" name="Line 14"/>
            <p:cNvSpPr/>
            <p:nvPr/>
          </p:nvSpPr>
          <p:spPr>
            <a:xfrm>
              <a:off x="563868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6019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0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>
              <a:off x="67820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563868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565704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6037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41916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7048440" y="1295280"/>
            <a:ext cx="1162440" cy="382680"/>
            <a:chOff x="7048440" y="1295280"/>
            <a:chExt cx="1162440" cy="382680"/>
          </a:xfrm>
        </p:grpSpPr>
        <p:sp>
          <p:nvSpPr>
            <p:cNvPr id="116" name="Line 10"/>
            <p:cNvSpPr/>
            <p:nvPr/>
          </p:nvSpPr>
          <p:spPr>
            <a:xfrm>
              <a:off x="8191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810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42932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70484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704844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06680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744768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7828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5029200" y="4727520"/>
            <a:ext cx="3581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PIER/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’ wide lanes with shou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Newly Constructed Queen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Offshore_Proposed"/>
          <p:cNvPicPr/>
          <p:nvPr/>
        </p:nvPicPr>
        <p:blipFill>
          <a:blip r:embed="rId2"/>
          <a:stretch/>
        </p:blipFill>
        <p:spPr>
          <a:xfrm>
            <a:off x="1600200" y="1219320"/>
            <a:ext cx="332748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7" name="Freeform 30"/>
          <p:cNvSpPr/>
          <p:nvPr/>
        </p:nvSpPr>
        <p:spPr>
          <a:xfrm>
            <a:off x="2933640" y="1849320"/>
            <a:ext cx="2465280" cy="1108080"/>
          </a:xfrm>
          <a:custGeom>
            <a:avLst/>
            <a:gdLst/>
            <a:ahLst/>
            <a:rect l="l" t="t" r="r" b="b"/>
            <a:pathLst>
              <a:path w="2464905" h="1107882">
                <a:moveTo>
                  <a:pt x="0" y="1107882"/>
                </a:moveTo>
                <a:cubicBezTo>
                  <a:pt x="64935" y="955482"/>
                  <a:pt x="129871" y="803082"/>
                  <a:pt x="238539" y="662609"/>
                </a:cubicBezTo>
                <a:cubicBezTo>
                  <a:pt x="347207" y="522136"/>
                  <a:pt x="502257" y="368411"/>
                  <a:pt x="652007" y="265044"/>
                </a:cubicBezTo>
                <a:cubicBezTo>
                  <a:pt x="801757" y="161677"/>
                  <a:pt x="987287" y="84814"/>
                  <a:pt x="1137037" y="42407"/>
                </a:cubicBezTo>
                <a:cubicBezTo>
                  <a:pt x="1286787" y="0"/>
                  <a:pt x="1414008" y="3976"/>
                  <a:pt x="1550505" y="10602"/>
                </a:cubicBezTo>
                <a:cubicBezTo>
                  <a:pt x="1687002" y="17228"/>
                  <a:pt x="1856630" y="56985"/>
                  <a:pt x="1956021" y="82164"/>
                </a:cubicBezTo>
                <a:cubicBezTo>
                  <a:pt x="2055412" y="107343"/>
                  <a:pt x="2062038" y="117945"/>
                  <a:pt x="2146852" y="161677"/>
                </a:cubicBezTo>
                <a:cubicBezTo>
                  <a:pt x="2231666" y="205409"/>
                  <a:pt x="2348285" y="274983"/>
                  <a:pt x="2464905" y="3445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B601-5BFC-410F-AA05-7BE4DCF53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9387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THE ENTIRE 1,010 FT QUEENS APPROACH VIADU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onstruct New Foundations &amp; P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done under Roadway – no traffic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thru Mid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Staged Replacement of Roadway while maintain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2012 – Late 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emolish existing piers/perform ground level si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under Roadway – no traff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26E3-3E47-48F3-87AD-08675BD53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" y="274680"/>
            <a:ext cx="8763120" cy="63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itigation Built in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from ongoing Bronx Approach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M of preparatory constructio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re-construction outreach with community, elected officials, and other City and 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ffic Enforcem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itigation measure – Temporary closur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nue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ion of Capit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Task Budget:                      $24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’s Estimate:                                 $179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                                                      $109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vs. Budget                                    $13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struction Cos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3330-B345-4AA5-B8DC-EA2C95829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9516-95F0-46D3-9CB0-30B53C37E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k Assessment Results (Post b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on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id/ Sched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$109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1M/ 5m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$130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ject Cos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, CSS, Inspection, etc.          $135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7M/ 5 mo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$162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istribution for Remaining Total Project Escal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0" r="0" b="8524"/>
          <a:stretch/>
        </p:blipFill>
        <p:spPr>
          <a:xfrm>
            <a:off x="457200" y="1814400"/>
            <a:ext cx="8229600" cy="374832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>
            <a:off x="1980720" y="2819520"/>
            <a:ext cx="2134440" cy="2160"/>
          </a:xfrm>
          <a:prstGeom prst="straightConnector1">
            <a:avLst/>
          </a:prstGeom>
          <a:ln w="3816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cxnSp>
        <p:nvCxnSpPr>
          <p:cNvPr id="142" name="Straight Arrow Connector 6"/>
          <p:cNvCxnSpPr/>
          <p:nvPr/>
        </p:nvCxnSpPr>
        <p:spPr>
          <a:xfrm flipH="1">
            <a:off x="4114440" y="2972880"/>
            <a:ext cx="2160" cy="2056680"/>
          </a:xfrm>
          <a:prstGeom prst="straightConnector1">
            <a:avLst/>
          </a:prstGeom>
          <a:ln w="3492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sp>
        <p:nvSpPr>
          <p:cNvPr id="143" name="Oval 11"/>
          <p:cNvSpPr/>
          <p:nvPr/>
        </p:nvSpPr>
        <p:spPr>
          <a:xfrm>
            <a:off x="3581280" y="5029200"/>
            <a:ext cx="9907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6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27672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ojec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03:38Z</dcterms:created>
  <dc:creator>tlewis</dc:creator>
  <dc:description/>
  <dc:language>en-US</dc:language>
  <cp:lastModifiedBy>csaladin</cp:lastModifiedBy>
  <dcterms:modified xsi:type="dcterms:W3CDTF">2011-05-18T16:42:14Z</dcterms:modified>
  <cp:revision>284</cp:revision>
  <dc:subject/>
  <dc:title>Slide 1</dc:title>
</cp:coreProperties>
</file>