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5E41-6742-4E9C-976F-540685F0C6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ACB5-D4C6-4A4A-9C9B-03C2B92A26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0A64-8C78-4CF0-B12E-F6A697BD3E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F4B2-857E-4C6E-9F79-1BAAAB2B99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758E-D1CF-41C1-8DFC-B774FC6349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ED0C-1774-4C0A-8403-777742B44D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7647-7BCD-4CEC-BF02-7519ADEDF3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FFD-917B-4A50-A00E-08DDE9A2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48D-D7DB-4C5B-BBDF-D09EE57B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BDFB8-97DB-4B71-B8CF-F42C525C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745BD-39FF-4E4B-A2B0-2143579E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9951A-47AD-456E-9E89-F00F0334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E7BCD-6B05-46C1-AEC6-4806357E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8756A-42D1-4059-813B-EA014839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CAED4-DA01-4B3E-91FB-EF279AF6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659CD-D145-4800-817B-7C40F048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D8235-A973-42AA-AA53-A967B5D1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57303-C3A3-4151-8186-FEAE3D98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64201-DCBD-4A75-8466-842D837B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7AB-5F5B-4A97-AD39-D0020A7F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BC51C-B97C-4EC4-B693-9DF2B15E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B271F-C27E-4EB3-BCC8-02A751E2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1F073-DDE3-4ED6-A764-148D0010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A6118-866C-418D-B558-1953901F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B6092-C74C-41BE-902F-FC865005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FC8BE-7964-432B-9F9D-C2D824BC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78638-D2C6-4C0C-A4F9-48448E82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86297-4C73-4709-86EC-C2C1AEDE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FED6D-35EA-43F8-B9B3-ABD8E457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6159E-6377-4B84-8800-A217A188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9A4-059F-4FFE-8ECB-4CDBBB0A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554D3-EF45-46F1-AFAF-FAEE8E15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A3241-E1AB-4093-8184-B29929F4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074CA-BC47-472A-8EDB-0413C6B3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B6108-281D-48E3-8E0F-32CB8544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8B80D-10F9-46E2-8C50-ADA3A176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4F07A-2DED-43A3-BC09-645437BB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6C3ED-0BD7-434D-A5D1-4F81F50F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54B81-195F-47A3-9257-D8E20230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56A14-13B2-4DB1-9746-89D4A1C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BAE3A-B6B8-4DE6-B075-542E75BF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ACFC-5AF9-4715-BE13-1D8BC466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A8200-C4E9-4190-9758-90A95683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C23C2-F000-4F8A-959A-B9861175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E5DFA-6028-4D30-B848-C2FDB126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C472A-BCEE-48B8-8274-9236AAF3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3D6D0-C380-4EB8-BF78-13B25052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E934F-5050-4EE7-A0ED-07133D43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4AFE0-EB0A-419E-904E-574E5A93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0C948-2291-492C-9772-73E31B9D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A9549-65CC-449B-9878-AF6221B9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1D2B0-688B-4F9F-8D4E-EE2EB157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A446-C635-45F2-854A-7133CF80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523F9-C6B5-4A46-B3FB-0893F1F3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4946D-787F-40BF-BABA-5B8507E1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8F568-6F05-4393-A5FA-334204D9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8D035-C180-4C1D-9281-82CDAAA3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768B8-193D-4EA2-8B39-8759754D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1E79-BDCF-4424-B8F3-A1B87F5B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9383-C985-4E85-97D7-FDCD28B1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6388-F562-4086-BA20-3620C21E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1D0C-31C3-4CD7-B7E4-D1FFF92E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2A2D-DEE8-4A20-B235-BCFC7C52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1C0-A78C-4A3F-B29F-1E35B80F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82D6-8F4B-49ED-9ADE-4DD840A4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FD41-4178-4649-A0E4-7A8EA165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5838-0BC3-412F-AC75-5F95B100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6D76-75EE-4A44-B2E5-30736FDF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711C-3C8D-4314-9703-13AB36CF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D532-405F-4549-AADA-ACE05CF4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9B22-31A8-466A-B1AF-56595D10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E0912-0BAD-456E-9B82-A1326514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E5C9-0100-4278-94D0-258C1126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F939-46C3-4EBC-9494-BEE70158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D16-B022-4B53-92A2-ADC3C68A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79C9-831D-4381-BDD2-B324E82A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7E1E-F5FB-4A6F-A342-AF44DC7D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8ADAD-F186-40C4-871C-DA8E18D7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67CB-CCDB-4F05-8B97-00B7E46A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1F27E-2715-4E5D-82DD-294C7611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A6E8-ED75-4E13-87A3-11C511CE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72BB-9813-4F87-B526-4DCA65ED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D8EDF-0B5A-4D76-B46E-24FBC506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2FBFF-77E8-42E6-8867-C8A92914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FBFEE-1F17-4C8A-A321-74D51CC7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750-CEEA-4609-9FF4-C0C84EEE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8CD34-36B0-4E0F-A274-94D0EC25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AA7E-018A-470F-9B78-E80E3D9E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16F6-EB57-410A-BF89-83FCF795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DF16C-AE25-409A-B5B6-952037F5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21A72-24CA-4670-BE28-2A3A2C9B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396A7-2852-40D7-9783-41A64A2B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BAAF9-5DFA-480E-B4B9-5D68FC44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D3A99-3369-4FB4-ACA9-AA9E54C8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31E52-E686-4E08-BAE7-B7F49CA6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44EC3-0971-44A6-A738-E7B21810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173-3350-4969-AF1B-29BBEBEC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C4557-2136-4CEA-8930-136030DF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2D9A-4F74-4A0E-8D86-9B03103D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E2972-9842-4715-A08A-AD5E0B5C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78B84-0551-41EB-BAA0-D019BC82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6E895-31E7-4D87-BB0E-2E31F5C8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C78E0-207F-43DA-A20A-164C3212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91666-5B02-407C-8A6D-4096077C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D1B33-0460-4779-910D-03A540FB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8EF6B-3C56-4402-8BE2-27904567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D60EA-C943-4DEB-ADAA-8CA6DCAC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921-F5C3-4A53-A150-67A5DCB0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71A74-F3C7-4714-B230-0E3936EA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C5F8-ED97-468E-B00E-EE9FB046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D9565-0C8A-46D5-8CF0-43E00CA3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9836C-CE62-4DC6-8D0F-D2AA3035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40A2B-8B27-498B-91D3-E6D88488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C615C-3910-4E28-91F4-9BEED458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3E3F2-1746-4311-BAF1-98258477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51E7C-5E63-4DD2-8D5E-8C608EA8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D0FF6-9D1C-412F-AB4E-BE86466E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D4D8B-E6EB-4F92-A35C-96F1B02C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93B-C705-4224-A94C-50D63EF0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1735F-E9B8-442B-8C8D-5EF74FFA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E0B00-B96B-4EFF-9BA5-0A857F0B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C3723-0953-42E2-98CB-E32AF4C3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0BD5E-C357-4AEF-9AA9-744D4DB5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56709-3243-4F26-8668-2B7DC8DA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BC5A6-7226-4879-849B-8270A059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5ECA5-D7B7-4B91-A776-BD4BBE1D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18975-9E5D-4F0E-8D45-9CAEFD68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EB011-F8EE-4CB4-A9E8-FE2F4504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D4358-4EE8-4425-9E43-402E0E7B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DD8-164F-4FC7-A8EA-DFFB30B6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5D88E-F0F6-4435-B074-562BB7AD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B4DE3-C1B1-44D4-AF98-440C81A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42D65-C0CB-4689-9F7B-207E6B98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AF1BF-9AB8-458C-A236-21D72630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EE4C1-179A-47AC-A0EC-E1BF6D14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543CA-B172-4F5A-B619-11017296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4EDA6-A709-448F-A4B8-83DD6B34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1FC7B-4430-4B64-B30D-0A65AADE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EE6C7-5934-4036-88B1-94A6F51E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FE252-E33D-4A9D-94C0-CC22797C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173-E6CD-4DA2-847E-216EFAA9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E208A-1D64-4084-874B-F3244B55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0D2B1-5893-4C33-83E1-26B84251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3A13B-9FD6-4A4B-B9A5-B08B1467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ACC8C-3E0A-4FE1-B1EE-B2E0C705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D28C9-7556-4A44-8939-8B475949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561FC-333C-49A5-93B4-0B3D78B9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92E36-0B55-4CAD-A1B8-0526A0BF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BA3CB-8FE5-436E-AE5B-FE8D9096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A110B-FEAE-403B-AA5A-AC44C8EC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169D7-6A7D-4C4F-8A76-6DA81E00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ECF9-E067-47A0-972A-B1FBD018E0A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0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5AE7-7CA9-4464-99FD-D13F978887C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5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36F2-A5F0-4B9F-8597-FE0FB79F4D9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9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E1B8-9F0B-44A8-90FA-3FA10F195F6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1C54-1427-4A91-A7AC-DC3736AF259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9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6342-D7AD-4AB1-908B-0DFE7A6D8D2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3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BF2A-228B-444E-AF72-10F6E400C37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8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D46D-938B-46D1-A2BF-C036D5C3BE5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2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7B21-C16F-4475-9CDA-FA08B9865F2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7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7F31-56B8-46CF-81CC-9480958AA1E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1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8DD9-425E-4E94-BC40-471BEC35DBC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6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0338-A860-48DE-9392-CE6258014FE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are Payment Sys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3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tasymbolpms286"/>
          <p:cNvPicPr/>
          <p:nvPr/>
        </p:nvPicPr>
        <p:blipFill>
          <a:blip r:embed="rId1"/>
          <a:stretch/>
        </p:blipFill>
        <p:spPr>
          <a:xfrm>
            <a:off x="3835440" y="91440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FE35-46C0-42A9-886C-C0C0711D6D8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bus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commercial relationship with payment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communication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-issued card &amp;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Metro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: Next 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detailed requirements for MTA-issued card and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ject Plan: requirements, cost estimate, schedule, procur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ayments industry nego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ubway communications network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ystem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hardware on Staten Isl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639F-8B10-4789-B4A7-B1E81EFC7F2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280E-967C-4FE5-A70F-BBDDDD0827D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of revenu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15¢ cost per revenue dollar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fare payment across modes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reduce cas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performance at turnstiles &amp;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bus boarding and reduce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1F8E-AE85-44E0-A0CB-910CDE7AF0A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-based, not car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E-Z Pass, less like Metro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may reside with bank, MTA, mobile phone network or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stomer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swipe, at readers on turnstiles and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contactless credit/debit card, prepaid card, phone or MT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3325-41D9-4412-8334-C51045D1C6C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ustomers to self-serve on-line, at ATMs and kiosks, and via widespread external network of retail merch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 existing payment industry infrastructure,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latively inexpensive and commercially available off-the-shelf-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to all modes and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involved in 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have or will have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1878-296E-4860-879F-70388D3F730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er railroad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lot for each LIRR and M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board and off-board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test 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commence in 1Q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ACFD-F082-4970-ADA9-0C4B8D98B18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64E2-0E29-474F-BEC1-6A6945A5AE0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66C5-423F-4B3E-812F-FC1BDB9EA1F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: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industry interest about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0: 150 representatives from 8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industry including banks and other issuers, card brands, acqui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collection syste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rvi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DA89-D272-4171-879D-AD1917E9739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outreach: Transit auth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mplementations of ope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(T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Lake City (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ose contact with major US transit systems that are procuring open pay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regional partners on seamless intermodal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YNJ/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28:26Z</dcterms:created>
  <dc:creator>Amy Linden</dc:creator>
  <dc:description/>
  <dc:language>en-US</dc:language>
  <cp:lastModifiedBy>Amy Linden</cp:lastModifiedBy>
  <cp:lastPrinted>2011-05-17T22:27:13Z</cp:lastPrinted>
  <dcterms:modified xsi:type="dcterms:W3CDTF">2011-05-19T17:45:26Z</dcterms:modified>
  <cp:revision>458</cp:revision>
  <dc:subject/>
  <dc:title>New Fare Payment Systems</dc:title>
</cp:coreProperties>
</file>