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5C71-F70C-4B1F-B349-796E4FBEF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0BF4-BB49-4E5D-B538-B0275517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AB8A-4DA7-47E3-B4BF-BBFBB4160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95D5-7B48-44AE-8728-DF90BD101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0004-6093-4AE7-AB0B-5854D184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EB4D-1FCC-48BA-9FFE-3AD395F2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8B83-F1AB-417A-9384-67B48BB2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828D-34F6-4175-9FD5-86944AA4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90B4-E5E1-4C98-A0E2-86E25597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BDF5-8BB2-46B5-8D65-B72C23C9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DC71-B9F2-4639-81D2-61AFB9F1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F61D-DD35-4770-BD49-82FA99C9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7FAC-A5C4-44FC-8971-4E1708823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levator &amp; Escalator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2011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irst Quarter Report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mta-logo"/>
          <p:cNvPicPr/>
          <p:nvPr/>
        </p:nvPicPr>
        <p:blipFill>
          <a:blip r:embed="rId1"/>
          <a:stretch/>
        </p:blipFill>
        <p:spPr>
          <a:xfrm>
            <a:off x="7543800" y="5029200"/>
            <a:ext cx="1258920" cy="14032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457200" y="5638680"/>
            <a:ext cx="66960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 of Wa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e 24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1062000" y="4460760"/>
            <a:ext cx="44625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igh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vator  and escalator availability indicates a slight improvement from last qu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maintenance cycles implemented in April of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’s growing concern regarding performance and negative public per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Initiative currently performing a process revie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YCT a member of a Consortium consisting of six-transit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3D8C-97A7-4339-9324-34333F561E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levator &amp; Escalator Avai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vator availability improved by 0.1% from last qu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vator availability is 0.2% below goal of 97.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tor availability improved by 0.7% from last qu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tor availability is 3.6% below goal of 96.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29A8-0A0C-47AB-A064-FA5AFF621B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ew Maintenance 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ed in April of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d to 4-6-8 week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enance cycles determined b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 of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enger 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facturers’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t performance/maintenance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s of this new cycle towards improving availability are still un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722A-BC0C-4539-9B38-7D1185FF44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anagement Concerns Regarding Perform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below NYCT’s goal and also  below other transit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perception of performance - ne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st IG report, ineffective use of remote monitor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ed to fully utilize LiftNet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ed for new leadership at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675B-A965-46B4-B63B-79CA384D39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trategic Initiative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procedures to verify completion of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e major overhau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dicate vehicles to on-time tool &amp; material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time spent on admin tas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t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ot a dedicated planner and sched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e shifts back to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 teams with ra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Customer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ate text message aler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outage signage in 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elevator help button calls to E&amp;E control de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website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B3B2-C3B2-4AFC-9B19-9D7E90CBFE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&amp;E Consort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 transit agencies involv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M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 consistent training curr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YCT committed to invest approximately $250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B519-9503-42F3-888A-9CC58E9D3F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ving For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 new lead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working closely with the Strategic Initiatives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resource review to determine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 data from new maintenance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667C-74CE-437B-A757-EE6ACFC4C8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4T15:17:26Z</dcterms:created>
  <dc:creator>NYCT</dc:creator>
  <dc:description/>
  <dc:language>en-US</dc:language>
  <cp:lastModifiedBy>Leaders</cp:lastModifiedBy>
  <dcterms:modified xsi:type="dcterms:W3CDTF">2011-06-26T22:20:13Z</dcterms:modified>
  <cp:revision>13</cp:revision>
  <dc:subject/>
  <dc:title>Elevator &amp; Escalator Update</dc:title>
</cp:coreProperties>
</file>