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997700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603A-C765-4DEA-826B-E6785F44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2AFF-8263-4A84-82E7-D651B47FA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FAAC-F2BF-47AA-ABBF-394855073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86C-4B64-4A86-805F-D18A3EC6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5698B-6602-4961-9251-AD4094D2B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798B8-740E-4842-ABD5-7520E0D17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0F8D-1153-4F4C-8B9F-4A498C964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BCA-1528-4C07-8C91-B35F57B8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183B-965B-4D2C-96F0-45C5EC826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4E53-9ED4-40BF-A7A5-3CC5CB2B6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6B35-4A09-4310-BF4C-BB0E12AF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EEA-9404-447E-877A-91323D6E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FE1A-727A-45E1-B681-9084B02CA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Elevator &amp; Escalator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2011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irst Quarter Report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mta-logo"/>
          <p:cNvPicPr/>
          <p:nvPr/>
        </p:nvPicPr>
        <p:blipFill>
          <a:blip r:embed="rId1"/>
          <a:stretch/>
        </p:blipFill>
        <p:spPr>
          <a:xfrm>
            <a:off x="7543800" y="5029200"/>
            <a:ext cx="1258920" cy="14032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4"/>
          <p:cNvSpPr/>
          <p:nvPr/>
        </p:nvSpPr>
        <p:spPr>
          <a:xfrm>
            <a:off x="457200" y="5638680"/>
            <a:ext cx="66960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aintenance of Wa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June 24,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062000" y="4460760"/>
            <a:ext cx="44625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vator  and escalator availability indicates a slight improvement from last qua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intenance cycles implemented in April of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agement’s growing concern regarding performance and negative public perce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Initiative currently performing a process revie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a member of a Consortium consisting of six-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ving 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D24AC-586F-4778-8990-D4724263D27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levator &amp; Escalator Avai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mproved by 0.1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vator availability is 0.2% below goal of 97.1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mproved by 0.7% from last quar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tor availability is 3.6% below goal of 96.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4174-DE80-4D38-9315-8598FA3A175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New Maintenance Cyc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ed in April of 20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d to 4-6-8 week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 cycles determin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 of 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nger Loa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ufacturers’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t performance/maintenance hi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esults of this new cycle towards improving availability are still unkn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626B-C8C9-4265-862B-16126E18816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Management Concerns Regarding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below NYCT’s goal and also  below other transit agen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perception of performance - nega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st IG report, ineffective use of remote monitor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to fully utilize LiftNet cap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ed for new leadership at t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6122-15DC-4CF4-AF1C-46139F8520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rategic Initiatives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procedures to verify completion of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e major overhaul pr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dicate vehicles to on-time tool &amp; material deliv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 time spent on admin tas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orit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lot a dedicated planner and schedu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edule shifts back t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ip teams with ra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roved Customer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ate text message aler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outage signage in st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 elevator help button calls to E&amp;E control de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rove website communi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560B-0A8A-41D8-9F03-03834BB957F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E&amp;E Consorti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 transit agencies involv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Y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M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a consistent training curr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YCT committed to invest approximately $250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DB14-6DD1-4D1D-B8C3-EA721354080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ving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ement new lead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e working closely with the Strategic Initiatives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resource review to determine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yze data from new maintenance cyc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ADE2-73E7-4E25-9A69-4A8560EF99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4T15:17:26Z</dcterms:created>
  <dc:creator>NYCT</dc:creator>
  <dc:description/>
  <dc:language>en-US</dc:language>
  <cp:lastModifiedBy>Leaders</cp:lastModifiedBy>
  <dcterms:modified xsi:type="dcterms:W3CDTF">2011-06-26T22:20:13Z</dcterms:modified>
  <cp:revision>13</cp:revision>
  <dc:subject/>
  <dc:title>Elevator &amp; Escalator Update</dc:title>
</cp:coreProperties>
</file>