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721A-FE2C-41D0-A25A-66C3B1F4B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AD2E-56F3-4F5D-A8F0-763A6C32D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1176-EC36-4E50-A87B-9D48EA475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91E3-BDC3-4648-8848-E227D8A36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ACDB-2605-4CB0-879A-4796ABC43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28D8-B02B-4708-A9C3-0A5E8AB5D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0080-B277-4403-ADED-6DD69B6FF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7A76-9AAA-4007-9AB0-D660B6EBB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0130-BAC7-4626-8083-75437F9EC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3B93-6F17-4D65-BAFA-68787842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1EF6-A7BA-40AD-8597-EE1BEC1D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9394-CFB6-40B2-98BB-19E475DF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C4F23-D185-4660-81F0-919511B19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levator &amp; Escalator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2011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irst Quarter Report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mta-logo"/>
          <p:cNvPicPr/>
          <p:nvPr/>
        </p:nvPicPr>
        <p:blipFill>
          <a:blip r:embed="rId1"/>
          <a:stretch/>
        </p:blipFill>
        <p:spPr>
          <a:xfrm>
            <a:off x="7543800" y="5029200"/>
            <a:ext cx="1258920" cy="14032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4"/>
          <p:cNvSpPr/>
          <p:nvPr/>
        </p:nvSpPr>
        <p:spPr>
          <a:xfrm>
            <a:off x="457200" y="5638680"/>
            <a:ext cx="66960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enance of Wa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ne 24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1062000" y="4460760"/>
            <a:ext cx="446256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ighl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vator  and escalator availability indicates a slight improvement from last qua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maintenance cycles implemented in April of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ment’s growing concern regarding performance and negative public per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c Initiative currently performing a process revie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YCT a member of a Consortium consisting of six-transit a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ing 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8E7B-596B-40F6-BD3A-31BF6D3B70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levator &amp; Escalator Avai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vator availability improved by 0.1% from last qua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vator availability is 0.2% below goal of 97.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alator availability improved by 0.7% from last qua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alator availability is 3.6% below goal of 96.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2A09-6B86-42ED-8897-8162DECA1D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ew Maintenance Cy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ed in April of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d to 4-6-8 week 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enance cycles determined b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 of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enger Lo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ufacturers’ 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t performance/maintenance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ults of this new cycle towards improving availability are still un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B79C-4ABA-42FE-96D9-9E3146CB8D4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anagement Concerns Regarding Perform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 below NYCT’s goal and also  below other transit a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perception of performance - neg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st IG report, ineffective use of remote monitor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ed to fully utilize LiftNet 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ed for new leadership at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D0D8-F736-49F7-AC04-2D09A18992D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trategic Initiatives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procedures to verify completion of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e major overhau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dicate vehicles to on-time tool &amp; material deli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time spent on admin tas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orit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lot a dedicated planner and schedu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e shifts back to 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 teams with ra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Customer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ate text message alert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outage signage in s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 elevator help button calls to E&amp;E control de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website 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60EE-2C4A-45EC-B6E3-4C9CB312535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&amp;E Consort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 transit agencies involv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Y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M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a consistent training curricul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YCT committed to invest approximately $250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97DB-15FD-445F-9DFC-35F33F34C2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oving For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 new lead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 working closely with the Strategic Initiatives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resource review to determine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ze data from new maintenance 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2E7D-86C8-434F-B3CC-EFCB931B725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4T15:17:26Z</dcterms:created>
  <dc:creator>NYCT</dc:creator>
  <dc:description/>
  <dc:language>en-US</dc:language>
  <cp:lastModifiedBy>Leaders</cp:lastModifiedBy>
  <dcterms:modified xsi:type="dcterms:W3CDTF">2011-06-26T22:20:13Z</dcterms:modified>
  <cp:revision>13</cp:revision>
  <dc:subject/>
  <dc:title>Elevator &amp; Escalator Update</dc:title>
</cp:coreProperties>
</file>