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997700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05205-E010-4031-862F-74B144AE9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F7B2D-0112-436A-9EE8-6253FE9BB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4BFA3-0C1E-4326-BDA7-B6540CE8F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B16FA-5811-4428-819B-96694456F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AC06E-2370-41F3-820D-4DB7A817B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AB3FC-102E-40D2-BA24-8DBAD2EAE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F055E-77B0-4933-817F-04EF252D4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6C75C-2BC3-4EFF-94A7-391489798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434DC-B75E-4B3E-A386-84F395580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BCEE4-9A55-4234-86E3-D8C51F4A0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3BF63-3506-40D0-871B-84137B27E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107D0-9C08-467D-99A1-60F501E22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02E21-2DE9-4C29-A111-552D18E65C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Elevator &amp; Escalator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2011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First Quarter Report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mta-logo"/>
          <p:cNvPicPr/>
          <p:nvPr/>
        </p:nvPicPr>
        <p:blipFill>
          <a:blip r:embed="rId1"/>
          <a:stretch/>
        </p:blipFill>
        <p:spPr>
          <a:xfrm>
            <a:off x="7543800" y="5029200"/>
            <a:ext cx="1258920" cy="140328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4"/>
          <p:cNvSpPr/>
          <p:nvPr/>
        </p:nvSpPr>
        <p:spPr>
          <a:xfrm>
            <a:off x="457200" y="5638680"/>
            <a:ext cx="669600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intenance of Wa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June 24,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8"/>
          <p:cNvSpPr/>
          <p:nvPr/>
        </p:nvSpPr>
        <p:spPr>
          <a:xfrm>
            <a:off x="1062000" y="4460760"/>
            <a:ext cx="446256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Highligh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vator  and escalator availability indicates a slight improvement from last quar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maintenance cycles implemented in April of 20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agement’s growing concern regarding performance and negative public perce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ategic Initiative currently performing a process review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YCT a member of a Consortium consisting of six-transit agen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ving 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D82EE-F9A0-4F90-ABE6-22DD7607F5F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Elevator &amp; Escalator Avail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vator availability improved by 0.1% from last quar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vator availability is 0.2% below goal of 97.1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calator availability improved by 0.7% from last quar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calator availability is 3.6% below goal of 96.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82627-00D2-460B-BF17-8B34AF5D787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New Maintenance Cyc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lemented in April of 20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ved to 4-6-8 week cyc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intenance cycles determined by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ge of Equi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ssenger Loa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ufacturers’ recommend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st performance/maintenance his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esults of this new cycle towards improving availability are still unkn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FF916-2B91-4597-926F-398C180680C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Management Concerns Regarding Performa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formance below NYCT’s goal and also  below other transit agen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blic perception of performance - nega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test IG report, ineffective use of remote monitoring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need to fully utilize LiftNet capabi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need for new leadership at t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8860C-033F-4185-A7B2-6CD8C3E1DCE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Strategic Initiatives Re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ducti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 procedures to verify completion of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roduce major overhaul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 tra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dicate vehicles to on-time tool &amp; material deliv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uce time spent on admin task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orit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lot a dedicated planner and schedu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hedule shifts back to 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quip teams with rad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roved Customer Commun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tivate text message alert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 outage signage in st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 elevator help button calls to E&amp;E control de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 website communi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AFFB5-E041-4435-9D43-D89AC20146A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E&amp;E Consorti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 transit agencies involve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Y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P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M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 a consistent training curricul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YCT committed to invest approximately $250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A87E8-BAC1-487E-9B3A-F4DF0B105F3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Moving Forwa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lement new leadersh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e working closely with the Strategic Initiatives Gro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resource review to determine nee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lyze data from new maintenance cyc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82CAF-DB1A-4A6A-933A-DD48EB3585F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24T15:17:26Z</dcterms:created>
  <dc:creator>NYCT</dc:creator>
  <dc:description/>
  <dc:language>en-US</dc:language>
  <cp:lastModifiedBy>Leaders</cp:lastModifiedBy>
  <dcterms:modified xsi:type="dcterms:W3CDTF">2011-06-26T22:20:13Z</dcterms:modified>
  <cp:revision>13</cp:revision>
  <dc:subject/>
  <dc:title>Elevator &amp; Escalator Update</dc:title>
</cp:coreProperties>
</file>