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879C-2266-4D24-A4A1-616AC348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53B1-CF23-4C8B-B07E-73EBF1FA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D1A7-F773-4906-8DE0-E6A37F8B1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0C19-841A-4601-8193-0FD0ADC4F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0798-2C5A-42CC-913B-310885F6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CA5D-E97E-4C6A-9F91-577F744D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D8B9-E92C-4AC4-B3E5-8A8EAA10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23B8-5D2F-4CE7-8D1C-C88A03C3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7D78-46BE-4E78-838B-AC5678DA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2E27-49F1-42E0-93BB-157F1068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2EEC-FC7F-484A-AE66-76A11D4F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674B-8C88-4898-8EEF-065C110D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E945-4387-4D0A-A67B-F513509E5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levator &amp; Escalator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2011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irst Quarter Report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mta-logo"/>
          <p:cNvPicPr/>
          <p:nvPr/>
        </p:nvPicPr>
        <p:blipFill>
          <a:blip r:embed="rId1"/>
          <a:stretch/>
        </p:blipFill>
        <p:spPr>
          <a:xfrm>
            <a:off x="7543800" y="5029200"/>
            <a:ext cx="1258920" cy="1403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457200" y="5638680"/>
            <a:ext cx="66960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 of Wa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e 24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062000" y="4460760"/>
            <a:ext cx="44625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vator  and escalator availability indicates a slight improvement from last qu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maintenance cycles implemented in April of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’s growing concern regarding performance and negative public per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Initiative currently performing a process revie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CT a member of a Consortium consisting of six-transit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B8C5-0543-4BBB-9307-C814DEA79D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levator &amp; Escalator Avai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vator availability improved by 0.1% from last qu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vator availability is 0.2% below goal of 97.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tor availability improved by 0.7% from last qu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tor availability is 3.6% below goal of 96.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7A0A-E92A-4B88-98D9-7C38CE3697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ew Maintenance 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ed in April of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d to 4-6-8 week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enance cycles determined b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of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enger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facturers’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 performance/maintenance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s of this new cycle towards improving availability are still un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0A72-33B2-4644-AAA7-A77934DD0C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nagement Concerns Regarding 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below NYCT’s goal and also  below other transit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perception of performance -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st IG report, ineffective use of remote monitor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ed to fully utilize LiftNet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ed for new leadership at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5D61-0FEA-4422-A980-CA1CEF468C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rategic Initiative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procedures to verify completion of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e major overhau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dicate vehicles to on-time tool &amp; material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time spent on admin tas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ot a dedicated planner and sched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 shifts back to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 teams with 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Customer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ate text message aler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outage signage in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elevator help button calls to E&amp;E control de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website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FC2E-24A3-498A-B770-8BE24CFDBA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&amp;E Consort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transit agencies involv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consistent training 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CT committed to invest approximately $25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10FE-E25D-4E14-9E92-AFEBB8F0EC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ving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new 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working closely with the Strategic Initiatives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resource review to determine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data from new maintenance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3BE0-F919-4416-B6EA-92374AEBBC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4T15:17:26Z</dcterms:created>
  <dc:creator>NYCT</dc:creator>
  <dc:description/>
  <dc:language>en-US</dc:language>
  <cp:lastModifiedBy>Leaders</cp:lastModifiedBy>
  <dcterms:modified xsi:type="dcterms:W3CDTF">2011-06-26T22:20:13Z</dcterms:modified>
  <cp:revision>13</cp:revision>
  <dc:subject/>
  <dc:title>Elevator &amp; Escalator Update</dc:title>
</cp:coreProperties>
</file>