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700881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0092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6960" cy="4636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3971880" y="0"/>
            <a:ext cx="3036960" cy="4636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95560" y="690480"/>
            <a:ext cx="4619520" cy="3463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701280" y="43891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0" y="8772120"/>
            <a:ext cx="3036960" cy="4618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3971880" y="8772120"/>
            <a:ext cx="3036960" cy="4618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20D5A73-D65E-4A22-8BEF-A2277E44CE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971880" y="8772480"/>
            <a:ext cx="3036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95D0F5B-5F66-436B-8B4A-6586BC951E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3971880" y="8772480"/>
            <a:ext cx="3036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F263845-1F3E-423B-9F09-EE6395C5CB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87280" y="6904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701280" y="43891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lvl="1" marL="457200" indent="0">
              <a:lnSpc>
                <a:spcPct val="7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7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971880" y="8772480"/>
            <a:ext cx="3036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F8B3D08-7BC0-4C63-9C5D-BE2B732D52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3971880" y="8772480"/>
            <a:ext cx="3036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4D94C3E-E5FE-4A4C-AC9D-C7900B5B9E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95560" y="6904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701280" y="43891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971880" y="8772480"/>
            <a:ext cx="3036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E64468C-5A55-4198-A804-475954258F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3971880" y="8772480"/>
            <a:ext cx="3036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A159F7D-7BCA-4AC0-AF15-707FA8F5D3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95560" y="6904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01280" y="43891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971880" y="8772480"/>
            <a:ext cx="3036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086A50E-57CF-4FF8-9CBF-331FCDE32E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3971880" y="8772480"/>
            <a:ext cx="3036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1ADC32B-D283-4478-A481-B3E5133178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95560" y="6904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701280" y="43891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971880" y="8772480"/>
            <a:ext cx="3036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3732C93-CCC6-44F6-9EE2-58010846DD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3971880" y="8772480"/>
            <a:ext cx="3036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BE355E9-6709-42EC-82C7-30E031EA17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95560" y="6904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701280" y="43891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lking Poin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RR currently leads discussions with Amtrak on balancing the risks to LIRR service with the needs of the Total Track Replacement project; in considering impacts on LIRR service, LIRR is best suited to make those judgments and should take the lead role in identifying mitigations to project delays that can appropriately consider trade-offs between customer service and constr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MTA Cap Constr copy"/>
          <p:cNvPicPr/>
          <p:nvPr/>
        </p:nvPicPr>
        <p:blipFill>
          <a:blip r:embed="rId2"/>
          <a:stretch/>
        </p:blipFill>
        <p:spPr>
          <a:xfrm>
            <a:off x="6019920" y="276120"/>
            <a:ext cx="2736720" cy="5288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6" descr="MTA Cap Constr copy"/>
          <p:cNvPicPr/>
          <p:nvPr/>
        </p:nvPicPr>
        <p:blipFill>
          <a:blip r:embed="rId3"/>
          <a:stretch/>
        </p:blipFill>
        <p:spPr>
          <a:xfrm>
            <a:off x="6019920" y="276120"/>
            <a:ext cx="2736720" cy="528840"/>
          </a:xfrm>
          <a:prstGeom prst="rect">
            <a:avLst/>
          </a:prstGeom>
          <a:ln w="0">
            <a:noFill/>
          </a:ln>
        </p:spPr>
      </p:pic>
      <p:pic>
        <p:nvPicPr>
          <p:cNvPr id="2" name="Picture 8" descr="MTA Cap Constr copy"/>
          <p:cNvPicPr/>
          <p:nvPr/>
        </p:nvPicPr>
        <p:blipFill>
          <a:blip r:embed="rId4"/>
          <a:stretch/>
        </p:blipFill>
        <p:spPr>
          <a:xfrm>
            <a:off x="6019920" y="276120"/>
            <a:ext cx="2736720" cy="528840"/>
          </a:xfrm>
          <a:prstGeom prst="rect">
            <a:avLst/>
          </a:prstGeom>
          <a:ln w="0">
            <a:noFill/>
          </a:ln>
        </p:spPr>
      </p:pic>
      <p:sp>
        <p:nvSpPr>
          <p:cNvPr id="3" name="AutoShape 22"/>
          <p:cNvSpPr/>
          <p:nvPr/>
        </p:nvSpPr>
        <p:spPr>
          <a:xfrm>
            <a:off x="0" y="309600"/>
            <a:ext cx="1854360" cy="780840"/>
          </a:xfrm>
          <a:custGeom>
            <a:avLst/>
            <a:gdLst>
              <a:gd name="textAreaLeft" fmla="*/ 0 w 1854360"/>
              <a:gd name="textAreaRight" fmla="*/ 1854720 w 1854360"/>
              <a:gd name="textAreaTop" fmla="*/ 0 h 780840"/>
              <a:gd name="textAreaBottom" fmla="*/ 781200 h 780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792" y="0"/>
                </a:lnTo>
                <a:lnTo>
                  <a:pt x="21600" y="10800"/>
                </a:lnTo>
                <a:lnTo>
                  <a:pt x="1679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Box 1"/>
          <p:cNvSpPr/>
          <p:nvPr/>
        </p:nvSpPr>
        <p:spPr>
          <a:xfrm>
            <a:off x="4270320" y="6464160"/>
            <a:ext cx="349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4AC87-832D-4913-9516-D19192360FE5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Box 2"/>
          <p:cNvSpPr/>
          <p:nvPr/>
        </p:nvSpPr>
        <p:spPr>
          <a:xfrm>
            <a:off x="7594560" y="6465960"/>
            <a:ext cx="125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eptember 26, 201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726840" y="1631880"/>
            <a:ext cx="79340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Reca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The IEC was directed to report their confidence in the project’s mitigation proposed in June.  In response, the IEC has evaluated the viability of these mitigations with respect to schedu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Review was undertaken before the current scope of the Amtrak East River Tunnel work was fully know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The IEC is continuing to evaluate the impact of the East River Tunnel work and mitigation strategies as they are prepared by ES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0" name="Picture 25" descr="MTA Cap Constr copy"/>
          <p:cNvPicPr/>
          <p:nvPr/>
        </p:nvPicPr>
        <p:blipFill>
          <a:blip r:embed="rId1"/>
          <a:stretch/>
        </p:blipFill>
        <p:spPr>
          <a:xfrm>
            <a:off x="6019920" y="276120"/>
            <a:ext cx="2736720" cy="52884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63"/>
          <p:cNvSpPr/>
          <p:nvPr/>
        </p:nvSpPr>
        <p:spPr>
          <a:xfrm>
            <a:off x="925560" y="1198440"/>
            <a:ext cx="69422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0" descr="McKissack Delcan MTA Independent Engineer Logo"/>
          <p:cNvPicPr/>
          <p:nvPr/>
        </p:nvPicPr>
        <p:blipFill>
          <a:blip r:embed="rId2"/>
          <a:stretch/>
        </p:blipFill>
        <p:spPr>
          <a:xfrm>
            <a:off x="6543720" y="735120"/>
            <a:ext cx="2000160" cy="55728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36"/>
          <p:cNvSpPr/>
          <p:nvPr/>
        </p:nvSpPr>
        <p:spPr>
          <a:xfrm>
            <a:off x="0" y="307800"/>
            <a:ext cx="1722600" cy="5274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 Black"/>
              </a:rPr>
              <a:t>ES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726840" y="1631880"/>
            <a:ext cx="79088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65040" indent="-3650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IEC previously reported a delay to the Revenue Service Date of September 2016, absent mitigations,  due t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822240" indent="-3650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Poor performance of Manhattan contract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822240" indent="-3650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Design approval and construction delays in Harold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822240" indent="-3650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ccess issues for systems work in new ESA tunne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365040" indent="-3650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MTACC proposed four out-of-the-box actions to mitigate delay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822240" indent="-365040">
              <a:lnSpc>
                <a:spcPct val="100000"/>
              </a:lnSpc>
              <a:spcBef>
                <a:spcPts val="300"/>
              </a:spcBef>
              <a:buClr>
                <a:srgbClr val="000099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Deliver Precast Panels for GCT Caverns through Manhatta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822240" indent="-365040">
              <a:lnSpc>
                <a:spcPct val="100000"/>
              </a:lnSpc>
              <a:spcBef>
                <a:spcPts val="300"/>
              </a:spcBef>
              <a:buClr>
                <a:srgbClr val="000099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Reduction of Operational Readiness Du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822240" indent="-365040">
              <a:lnSpc>
                <a:spcPct val="100000"/>
              </a:lnSpc>
              <a:spcBef>
                <a:spcPts val="300"/>
              </a:spcBef>
              <a:buClr>
                <a:srgbClr val="000099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Pre-Purchasing of Systems Equi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822240" indent="-365040">
              <a:lnSpc>
                <a:spcPct val="100000"/>
              </a:lnSpc>
              <a:spcBef>
                <a:spcPts val="300"/>
              </a:spcBef>
              <a:buClr>
                <a:srgbClr val="000099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Delay to B/C Approach Structur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69920" indent="0">
              <a:lnSpc>
                <a:spcPct val="10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65040" indent="0">
              <a:lnSpc>
                <a:spcPct val="75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5" name="Picture 25" descr="MTA Cap Constr copy"/>
          <p:cNvPicPr/>
          <p:nvPr/>
        </p:nvPicPr>
        <p:blipFill>
          <a:blip r:embed="rId1"/>
          <a:stretch/>
        </p:blipFill>
        <p:spPr>
          <a:xfrm>
            <a:off x="6019920" y="276120"/>
            <a:ext cx="2736720" cy="52884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63"/>
          <p:cNvSpPr/>
          <p:nvPr/>
        </p:nvSpPr>
        <p:spPr>
          <a:xfrm>
            <a:off x="925560" y="1198440"/>
            <a:ext cx="69422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0" descr="McKissack Delcan MTA Independent Engineer Logo"/>
          <p:cNvPicPr/>
          <p:nvPr/>
        </p:nvPicPr>
        <p:blipFill>
          <a:blip r:embed="rId2"/>
          <a:stretch/>
        </p:blipFill>
        <p:spPr>
          <a:xfrm>
            <a:off x="6543720" y="735120"/>
            <a:ext cx="2000160" cy="55728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36"/>
          <p:cNvSpPr/>
          <p:nvPr/>
        </p:nvSpPr>
        <p:spPr>
          <a:xfrm>
            <a:off x="0" y="307800"/>
            <a:ext cx="1722600" cy="5274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 Black"/>
              </a:rPr>
              <a:t>ES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726840" y="1631880"/>
            <a:ext cx="781668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Finding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The mitigations reviewed by the IEC do not bring the Revenue Service Date back to September 2016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However, two mitigations offer benefit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822240" indent="-3650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Bringing the precast panels through Manhattan will improve access to the new ESA tunnels by reducing interference risk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822240" indent="-3650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ny reduction of the operational readiness results in time  savings and will improve a revised Revenue Service D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The costs to the project resulting from these mitigations are yet to be determin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0" name="Picture 25" descr="MTA Cap Constr copy"/>
          <p:cNvPicPr/>
          <p:nvPr/>
        </p:nvPicPr>
        <p:blipFill>
          <a:blip r:embed="rId1"/>
          <a:stretch/>
        </p:blipFill>
        <p:spPr>
          <a:xfrm>
            <a:off x="6019920" y="276120"/>
            <a:ext cx="2736720" cy="52884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63"/>
          <p:cNvSpPr/>
          <p:nvPr/>
        </p:nvSpPr>
        <p:spPr>
          <a:xfrm>
            <a:off x="925560" y="1198440"/>
            <a:ext cx="69422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30" descr="McKissack Delcan MTA Independent Engineer Logo"/>
          <p:cNvPicPr/>
          <p:nvPr/>
        </p:nvPicPr>
        <p:blipFill>
          <a:blip r:embed="rId2"/>
          <a:stretch/>
        </p:blipFill>
        <p:spPr>
          <a:xfrm>
            <a:off x="6543720" y="735120"/>
            <a:ext cx="2000160" cy="55728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36"/>
          <p:cNvSpPr/>
          <p:nvPr/>
        </p:nvSpPr>
        <p:spPr>
          <a:xfrm>
            <a:off x="0" y="307800"/>
            <a:ext cx="1722600" cy="5274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 Black"/>
              </a:rPr>
              <a:t>ES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726840" y="1631880"/>
            <a:ext cx="781668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65040" indent="-3650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Additional delays were identified during the review of the proposed out-of-the-box mitigations that will also need to be mitigated during the rebaselining.  These delays, which are still under discussion with ESA, includ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822240" indent="-3650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ccess and construction duration issues for the remaining Harold third party wor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822240" indent="-3650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Insufficient durations for structural and systems finish-out work in Manhattan cavern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65040" indent="0">
              <a:lnSpc>
                <a:spcPct val="100000"/>
              </a:lnSpc>
              <a:spcBef>
                <a:spcPts val="15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5" name="Picture 25" descr="MTA Cap Constr copy"/>
          <p:cNvPicPr/>
          <p:nvPr/>
        </p:nvPicPr>
        <p:blipFill>
          <a:blip r:embed="rId1"/>
          <a:stretch/>
        </p:blipFill>
        <p:spPr>
          <a:xfrm>
            <a:off x="6019920" y="276120"/>
            <a:ext cx="2736720" cy="52884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63"/>
          <p:cNvSpPr/>
          <p:nvPr/>
        </p:nvSpPr>
        <p:spPr>
          <a:xfrm>
            <a:off x="925560" y="1198440"/>
            <a:ext cx="69422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30" descr="McKissack Delcan MTA Independent Engineer Logo"/>
          <p:cNvPicPr/>
          <p:nvPr/>
        </p:nvPicPr>
        <p:blipFill>
          <a:blip r:embed="rId2"/>
          <a:stretch/>
        </p:blipFill>
        <p:spPr>
          <a:xfrm>
            <a:off x="6543720" y="735120"/>
            <a:ext cx="2000160" cy="55728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36"/>
          <p:cNvSpPr/>
          <p:nvPr/>
        </p:nvSpPr>
        <p:spPr>
          <a:xfrm>
            <a:off x="0" y="307800"/>
            <a:ext cx="1722600" cy="5274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 Black"/>
              </a:rPr>
              <a:t>ES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726840" y="1631880"/>
            <a:ext cx="781668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IEC Recommend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Include Amtrak in rebaselining effort, which considers current delays, unmitigated risks and the East River Tunnel work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As part of the rebaselining, advance Westbound Bypass and Eastbound Reroute work to comply with high-speed rail grant requiremen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Improve the prospect of achieving the goal of a revised FFGA Revenue Service Date by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822240" indent="-3650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Forming a partnership between Amtrak and MTA to create a vehicle to incentivize Amtra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822240" indent="-3650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trengthening LIRR’s position to lead the coordination in Harold and find a balance between customer service and construc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0" name="Picture 25" descr="MTA Cap Constr copy"/>
          <p:cNvPicPr/>
          <p:nvPr/>
        </p:nvPicPr>
        <p:blipFill>
          <a:blip r:embed="rId1"/>
          <a:stretch/>
        </p:blipFill>
        <p:spPr>
          <a:xfrm>
            <a:off x="6019920" y="276120"/>
            <a:ext cx="2736720" cy="52884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63"/>
          <p:cNvSpPr/>
          <p:nvPr/>
        </p:nvSpPr>
        <p:spPr>
          <a:xfrm>
            <a:off x="925560" y="1198440"/>
            <a:ext cx="69422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0" descr="McKissack Delcan MTA Independent Engineer Logo"/>
          <p:cNvPicPr/>
          <p:nvPr/>
        </p:nvPicPr>
        <p:blipFill>
          <a:blip r:embed="rId2"/>
          <a:stretch/>
        </p:blipFill>
        <p:spPr>
          <a:xfrm>
            <a:off x="6543720" y="735120"/>
            <a:ext cx="2000160" cy="55728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36"/>
          <p:cNvSpPr/>
          <p:nvPr/>
        </p:nvSpPr>
        <p:spPr>
          <a:xfrm>
            <a:off x="0" y="307800"/>
            <a:ext cx="1722600" cy="5274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 Black"/>
              </a:rPr>
              <a:t>ES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7T10:32:45Z</dcterms:created>
  <dc:creator>NYCT</dc:creator>
  <dc:description/>
  <dc:language>en-US</dc:language>
  <cp:lastModifiedBy>Michael Jew-Geralds</cp:lastModifiedBy>
  <cp:lastPrinted>2011-09-26T12:27:38Z</cp:lastPrinted>
  <dcterms:modified xsi:type="dcterms:W3CDTF">2011-09-26T21:13:17Z</dcterms:modified>
  <cp:revision>1697</cp:revision>
  <dc:subject/>
  <dc:title>Slide 1</dc:title>
</cp:coreProperties>
</file>