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188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9FF5F7-B90E-45B7-814C-84D3D3C74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883567-1617-4E5B-8907-8C314B1A0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C8A6C0-3ACD-4438-9939-592706B80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E3BDF3-4002-4A44-9352-4E7C91A4A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2CAC5E-A345-4A5A-87A6-CDAEB4C46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49C3C0-F6A9-4984-99F9-863F747F2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BFC01A-0E48-47B7-80C7-32E1FCEE7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AA6165-E592-4834-B40F-462B474BD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98C102-4168-4117-9A91-0A5376FE4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4E4D1E-E8A9-4F95-9CEB-CAE919F6E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1880" y="877248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C45E8B-4589-4418-BABF-B3F48D979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9556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3891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king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RR currently leads discussions with Amtrak on balancing the risks to LIRR service with the needs of the Total Track Replacement project; in considering impacts on LIRR service, LIRR is best suited to make those judgments and should take the lead role in identifying mitigations to project delays that can appropriately consider trade-offs between customer service and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MTA Cap Constr copy"/>
          <p:cNvPicPr/>
          <p:nvPr/>
        </p:nvPicPr>
        <p:blipFill>
          <a:blip r:embed="rId3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MTA Cap Constr copy"/>
          <p:cNvPicPr/>
          <p:nvPr/>
        </p:nvPicPr>
        <p:blipFill>
          <a:blip r:embed="rId4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3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"/>
          <p:cNvSpPr/>
          <p:nvPr/>
        </p:nvSpPr>
        <p:spPr>
          <a:xfrm>
            <a:off x="4270320" y="6464160"/>
            <a:ext cx="34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E5BD-2AA3-452B-A933-96D28FFF3C4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2"/>
          <p:cNvSpPr/>
          <p:nvPr/>
        </p:nvSpPr>
        <p:spPr>
          <a:xfrm>
            <a:off x="7594560" y="646596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tember 26, 20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34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c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was directed to report their confidence in the project’s mitigation proposed in June.  In response, the IEC has evaluated the viability of these mitigations with respect to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view was undertaken before the current scope of the Amtrak East River Tunnel work was fully kn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EC is continuing to evaluate the impact of the East River Tunnel work and mitigation strategies as they are prepared by E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9088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EC previously reported a delay to the Revenue Service Date of September 2016, absent mitigations,  du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or performance of Manhattan contra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sign approval and construction delays in Harol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issues for systems work in new ESA tunn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TACC proposed four out-of-the-box actions to mitigate delay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iver Precast Panels for GCT Caverns through Manhatt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uction of Operational Readiness D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e-Purchasing of Systems Equi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to B/C Approach Stru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6992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7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nd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mitigations reviewed by the IEC do not bring the Revenue Service Date back to September 2016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owever, two mitigations offer benefi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ringing the precast panels through Manhattan will improve access to the new ESA tunnels by reducing interference ri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y reduction of the operational readiness results in time  savings and will improve a revised Revenue Service 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costs to the project resulting from these mitigations are yet to be determi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dditional delays were identified during the review of the proposed out-of-the-box mitigations that will also need to be mitigated during the rebaselining.  These delays, which are still under discussion with ESA,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ccess and construction duration issues for the remaining Harold third party 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sufficient durations for structural and systems finish-out work in Manhattan caver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504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26840" y="1631880"/>
            <a:ext cx="78166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EC Recomme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nclude Amtrak in rebaselining effort, which considers current delays, unmitigated risks and the East River Tunnel 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s part of the rebaselining, advance Westbound Bypass and Eastbound Reroute work to comply with high-speed rail grant require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mprove the prospect of achieving the goal of a revised FFGA Revenue Service Date by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rming a partnership between Amtrak and MTA to create a vehicle to incentivize Amtr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trengthening LIRR’s position to lead the coordination in Harold and find a balance between customer service and constr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5" descr="MTA Cap Constr copy"/>
          <p:cNvPicPr/>
          <p:nvPr/>
        </p:nvPicPr>
        <p:blipFill>
          <a:blip r:embed="rId1"/>
          <a:stretch/>
        </p:blipFill>
        <p:spPr>
          <a:xfrm>
            <a:off x="6019920" y="276120"/>
            <a:ext cx="2736720" cy="528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3"/>
          <p:cNvSpPr/>
          <p:nvPr/>
        </p:nvSpPr>
        <p:spPr>
          <a:xfrm>
            <a:off x="925560" y="1198440"/>
            <a:ext cx="6942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0" descr="McKissack Delcan MTA Independent Engineer Logo"/>
          <p:cNvPicPr/>
          <p:nvPr/>
        </p:nvPicPr>
        <p:blipFill>
          <a:blip r:embed="rId2"/>
          <a:stretch/>
        </p:blipFill>
        <p:spPr>
          <a:xfrm>
            <a:off x="6543720" y="735120"/>
            <a:ext cx="2000160" cy="557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6"/>
          <p:cNvSpPr/>
          <p:nvPr/>
        </p:nvSpPr>
        <p:spPr>
          <a:xfrm>
            <a:off x="0" y="307800"/>
            <a:ext cx="1722600" cy="527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0:32:45Z</dcterms:created>
  <dc:creator>NYCT</dc:creator>
  <dc:description/>
  <dc:language>en-US</dc:language>
  <cp:lastModifiedBy>Michael Jew-Geralds</cp:lastModifiedBy>
  <cp:lastPrinted>2011-09-26T12:27:38Z</cp:lastPrinted>
  <dcterms:modified xsi:type="dcterms:W3CDTF">2011-09-26T21:13:17Z</dcterms:modified>
  <cp:revision>1697</cp:revision>
  <dc:subject/>
  <dc:title>Slide 1</dc:title>
</cp:coreProperties>
</file>