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95560" y="690480"/>
            <a:ext cx="461952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8772120"/>
            <a:ext cx="3036960" cy="461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971880" y="8772120"/>
            <a:ext cx="3036960" cy="461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06AFE0A-C1F8-4E87-BD86-4A5DEB8256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CBCD066-49F7-4474-92DD-6B5FB61A68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6CBF306-17C8-4EDF-827F-45B1591AA6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87280" y="6904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lvl="1" marL="457200" indent="0">
              <a:lnSpc>
                <a:spcPct val="7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7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0EB5243-AB70-4AC1-BA37-21CE9ECD70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9B88789-DB78-4AD2-8DAB-95411AB5F7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95560" y="6904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7299168-F84C-446F-B25B-359569283C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012C268-06DC-4610-8443-963799E6C5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95560" y="6904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964E8D5-438E-4533-99CF-7E94619645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9DEB44D-2FC5-4726-BF22-01FCDB114B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95560" y="6904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DE337BF-F878-4211-872B-FFFC9CCA30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165F975-FDC0-43DF-A833-0D777C1D85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95560" y="6904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lking Poi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RR currently leads discussions with Amtrak on balancing the risks to LIRR service with the needs of the Total Track Replacement project; in considering impacts on LIRR service, LIRR is best suited to make those judgments and should take the lead role in identifying mitigations to project delays that can appropriately consider trade-offs between customer service and co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MTA Cap Constr copy"/>
          <p:cNvPicPr/>
          <p:nvPr/>
        </p:nvPicPr>
        <p:blipFill>
          <a:blip r:embed="rId2"/>
          <a:stretch/>
        </p:blipFill>
        <p:spPr>
          <a:xfrm>
            <a:off x="6019920" y="276120"/>
            <a:ext cx="2736720" cy="528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6" descr="MTA Cap Constr copy"/>
          <p:cNvPicPr/>
          <p:nvPr/>
        </p:nvPicPr>
        <p:blipFill>
          <a:blip r:embed="rId3"/>
          <a:stretch/>
        </p:blipFill>
        <p:spPr>
          <a:xfrm>
            <a:off x="6019920" y="276120"/>
            <a:ext cx="2736720" cy="528840"/>
          </a:xfrm>
          <a:prstGeom prst="rect">
            <a:avLst/>
          </a:prstGeom>
          <a:ln w="0">
            <a:noFill/>
          </a:ln>
        </p:spPr>
      </p:pic>
      <p:pic>
        <p:nvPicPr>
          <p:cNvPr id="2" name="Picture 8" descr="MTA Cap Constr copy"/>
          <p:cNvPicPr/>
          <p:nvPr/>
        </p:nvPicPr>
        <p:blipFill>
          <a:blip r:embed="rId4"/>
          <a:stretch/>
        </p:blipFill>
        <p:spPr>
          <a:xfrm>
            <a:off x="6019920" y="276120"/>
            <a:ext cx="2736720" cy="528840"/>
          </a:xfrm>
          <a:prstGeom prst="rect">
            <a:avLst/>
          </a:prstGeom>
          <a:ln w="0">
            <a:noFill/>
          </a:ln>
        </p:spPr>
      </p:pic>
      <p:sp>
        <p:nvSpPr>
          <p:cNvPr id="3" name="AutoShape 22"/>
          <p:cNvSpPr/>
          <p:nvPr/>
        </p:nvSpPr>
        <p:spPr>
          <a:xfrm>
            <a:off x="0" y="309600"/>
            <a:ext cx="1854360" cy="780840"/>
          </a:xfrm>
          <a:custGeom>
            <a:avLst/>
            <a:gdLst>
              <a:gd name="textAreaLeft" fmla="*/ 0 w 1854360"/>
              <a:gd name="textAreaRight" fmla="*/ 1854720 w 1854360"/>
              <a:gd name="textAreaTop" fmla="*/ 0 h 780840"/>
              <a:gd name="textAreaBottom" fmla="*/ 781200 h 78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92" y="0"/>
                </a:lnTo>
                <a:lnTo>
                  <a:pt x="21600" y="10800"/>
                </a:lnTo>
                <a:lnTo>
                  <a:pt x="1679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Box 1"/>
          <p:cNvSpPr/>
          <p:nvPr/>
        </p:nvSpPr>
        <p:spPr>
          <a:xfrm>
            <a:off x="4270320" y="646416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491CB-2EFB-4EA4-BC2F-BF91190F3BA8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2"/>
          <p:cNvSpPr/>
          <p:nvPr/>
        </p:nvSpPr>
        <p:spPr>
          <a:xfrm>
            <a:off x="7594560" y="6465960"/>
            <a:ext cx="125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eptember 26, 20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726840" y="1631880"/>
            <a:ext cx="7934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eca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e IEC was directed to report their confidence in the project’s mitigation proposed in June.  In response, the IEC has evaluated the viability of these mitigations with respect to schedu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eview was undertaken before the current scope of the Amtrak East River Tunnel work was fully know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e IEC is continuing to evaluate the impact of the East River Tunnel work and mitigation strategies as they are prepared by ES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" name="Picture 25" descr="MTA Cap Constr copy"/>
          <p:cNvPicPr/>
          <p:nvPr/>
        </p:nvPicPr>
        <p:blipFill>
          <a:blip r:embed="rId1"/>
          <a:stretch/>
        </p:blipFill>
        <p:spPr>
          <a:xfrm>
            <a:off x="6019920" y="276120"/>
            <a:ext cx="2736720" cy="5288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3"/>
          <p:cNvSpPr/>
          <p:nvPr/>
        </p:nvSpPr>
        <p:spPr>
          <a:xfrm>
            <a:off x="925560" y="1198440"/>
            <a:ext cx="69422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0" descr="McKissack Delcan MTA Independent Engineer Logo"/>
          <p:cNvPicPr/>
          <p:nvPr/>
        </p:nvPicPr>
        <p:blipFill>
          <a:blip r:embed="rId2"/>
          <a:stretch/>
        </p:blipFill>
        <p:spPr>
          <a:xfrm>
            <a:off x="6543720" y="735120"/>
            <a:ext cx="2000160" cy="5572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6"/>
          <p:cNvSpPr/>
          <p:nvPr/>
        </p:nvSpPr>
        <p:spPr>
          <a:xfrm>
            <a:off x="0" y="307800"/>
            <a:ext cx="1722600" cy="527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 Black"/>
              </a:rPr>
              <a:t>E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26840" y="1631880"/>
            <a:ext cx="79088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65040" indent="-3650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EC previously reported a delay to the Revenue Service Date of September 2016, absent mitigations,  du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oor performance of Manhattan contrac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sign approval and construction delays in Harol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ccess issues for systems work in new ESA tunne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65040" indent="-3650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TACC proposed four out-of-the-box actions to mitigate delay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liver Precast Panels for GCT Caverns through Manhatt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duction of Operational Readiness Du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re-Purchasing of Systems Equi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lay to B/C Approach Structu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6992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65040" indent="0">
              <a:lnSpc>
                <a:spcPct val="75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" name="Picture 25" descr="MTA Cap Constr copy"/>
          <p:cNvPicPr/>
          <p:nvPr/>
        </p:nvPicPr>
        <p:blipFill>
          <a:blip r:embed="rId1"/>
          <a:stretch/>
        </p:blipFill>
        <p:spPr>
          <a:xfrm>
            <a:off x="6019920" y="276120"/>
            <a:ext cx="2736720" cy="52884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3"/>
          <p:cNvSpPr/>
          <p:nvPr/>
        </p:nvSpPr>
        <p:spPr>
          <a:xfrm>
            <a:off x="925560" y="1198440"/>
            <a:ext cx="69422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0" descr="McKissack Delcan MTA Independent Engineer Logo"/>
          <p:cNvPicPr/>
          <p:nvPr/>
        </p:nvPicPr>
        <p:blipFill>
          <a:blip r:embed="rId2"/>
          <a:stretch/>
        </p:blipFill>
        <p:spPr>
          <a:xfrm>
            <a:off x="6543720" y="735120"/>
            <a:ext cx="2000160" cy="5572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6"/>
          <p:cNvSpPr/>
          <p:nvPr/>
        </p:nvSpPr>
        <p:spPr>
          <a:xfrm>
            <a:off x="0" y="307800"/>
            <a:ext cx="1722600" cy="527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 Black"/>
              </a:rPr>
              <a:t>E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726840" y="1631880"/>
            <a:ext cx="781668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ind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e mitigations reviewed by the IEC do not bring the Revenue Service Date back to September 2016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However, two mitigations offer benefit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Bringing the precast panels through Manhattan will improve access to the new ESA tunnels by reducing interference risk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ny reduction of the operational readiness results in time  savings and will improve a revised Revenue Service D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e costs to the project resulting from these mitigations are yet to be determin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" name="Picture 25" descr="MTA Cap Constr copy"/>
          <p:cNvPicPr/>
          <p:nvPr/>
        </p:nvPicPr>
        <p:blipFill>
          <a:blip r:embed="rId1"/>
          <a:stretch/>
        </p:blipFill>
        <p:spPr>
          <a:xfrm>
            <a:off x="6019920" y="276120"/>
            <a:ext cx="2736720" cy="5288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63"/>
          <p:cNvSpPr/>
          <p:nvPr/>
        </p:nvSpPr>
        <p:spPr>
          <a:xfrm>
            <a:off x="925560" y="1198440"/>
            <a:ext cx="69422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0" descr="McKissack Delcan MTA Independent Engineer Logo"/>
          <p:cNvPicPr/>
          <p:nvPr/>
        </p:nvPicPr>
        <p:blipFill>
          <a:blip r:embed="rId2"/>
          <a:stretch/>
        </p:blipFill>
        <p:spPr>
          <a:xfrm>
            <a:off x="6543720" y="735120"/>
            <a:ext cx="2000160" cy="5572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36"/>
          <p:cNvSpPr/>
          <p:nvPr/>
        </p:nvSpPr>
        <p:spPr>
          <a:xfrm>
            <a:off x="0" y="307800"/>
            <a:ext cx="1722600" cy="527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 Black"/>
              </a:rPr>
              <a:t>E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726840" y="1631880"/>
            <a:ext cx="781668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65040" indent="-3650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dditional delays were identified during the review of the proposed out-of-the-box mitigations that will also need to be mitigated during the rebaselining.  These delays, which are still under discussion with ESA, includ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ccess and construction duration issues for the remaining Harold third party wor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nsufficient durations for structural and systems finish-out work in Manhattan cavern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6504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" name="Picture 25" descr="MTA Cap Constr copy"/>
          <p:cNvPicPr/>
          <p:nvPr/>
        </p:nvPicPr>
        <p:blipFill>
          <a:blip r:embed="rId1"/>
          <a:stretch/>
        </p:blipFill>
        <p:spPr>
          <a:xfrm>
            <a:off x="6019920" y="276120"/>
            <a:ext cx="2736720" cy="5288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63"/>
          <p:cNvSpPr/>
          <p:nvPr/>
        </p:nvSpPr>
        <p:spPr>
          <a:xfrm>
            <a:off x="925560" y="1198440"/>
            <a:ext cx="69422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0" descr="McKissack Delcan MTA Independent Engineer Logo"/>
          <p:cNvPicPr/>
          <p:nvPr/>
        </p:nvPicPr>
        <p:blipFill>
          <a:blip r:embed="rId2"/>
          <a:stretch/>
        </p:blipFill>
        <p:spPr>
          <a:xfrm>
            <a:off x="6543720" y="735120"/>
            <a:ext cx="2000160" cy="5572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36"/>
          <p:cNvSpPr/>
          <p:nvPr/>
        </p:nvSpPr>
        <p:spPr>
          <a:xfrm>
            <a:off x="0" y="307800"/>
            <a:ext cx="1722600" cy="527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 Black"/>
              </a:rPr>
              <a:t>E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726840" y="1631880"/>
            <a:ext cx="781668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EC Recommend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Include Amtrak in rebaselining effort, which considers current delays, unmitigated risks and the East River Tunnel wor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As part of the rebaselining, advance Westbound Bypass and Eastbound Reroute work to comply with high-speed rail grant requiremen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Improve the prospect of achieving the goal of a revised FFGA Revenue Service Date by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orming a partnership between Amtrak and MTA to create a vehicle to incentivize Amtra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trengthening LIRR’s position to lead the coordination in Harold and find a balance between customer service and constru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" name="Picture 25" descr="MTA Cap Constr copy"/>
          <p:cNvPicPr/>
          <p:nvPr/>
        </p:nvPicPr>
        <p:blipFill>
          <a:blip r:embed="rId1"/>
          <a:stretch/>
        </p:blipFill>
        <p:spPr>
          <a:xfrm>
            <a:off x="6019920" y="276120"/>
            <a:ext cx="2736720" cy="52884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3"/>
          <p:cNvSpPr/>
          <p:nvPr/>
        </p:nvSpPr>
        <p:spPr>
          <a:xfrm>
            <a:off x="925560" y="1198440"/>
            <a:ext cx="69422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0" descr="McKissack Delcan MTA Independent Engineer Logo"/>
          <p:cNvPicPr/>
          <p:nvPr/>
        </p:nvPicPr>
        <p:blipFill>
          <a:blip r:embed="rId2"/>
          <a:stretch/>
        </p:blipFill>
        <p:spPr>
          <a:xfrm>
            <a:off x="6543720" y="735120"/>
            <a:ext cx="2000160" cy="55728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36"/>
          <p:cNvSpPr/>
          <p:nvPr/>
        </p:nvSpPr>
        <p:spPr>
          <a:xfrm>
            <a:off x="0" y="307800"/>
            <a:ext cx="1722600" cy="527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 Black"/>
              </a:rPr>
              <a:t>E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7T10:32:45Z</dcterms:created>
  <dc:creator>NYCT</dc:creator>
  <dc:description/>
  <dc:language>en-US</dc:language>
  <cp:lastModifiedBy>Michael Jew-Geralds</cp:lastModifiedBy>
  <cp:lastPrinted>2011-09-26T12:27:38Z</cp:lastPrinted>
  <dcterms:modified xsi:type="dcterms:W3CDTF">2011-09-26T21:13:17Z</dcterms:modified>
  <cp:revision>1697</cp:revision>
  <dc:subject/>
  <dc:title>Slide 1</dc:title>
</cp:coreProperties>
</file>