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95560" y="690480"/>
            <a:ext cx="461952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8772120"/>
            <a:ext cx="3036960" cy="461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971880" y="8772120"/>
            <a:ext cx="3036960" cy="461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136FC97-8727-4B4B-AB4D-1DEE114046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55F6E9-63BF-491C-B325-59A6703428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11AA4E1-1491-4EF3-A4EB-7BF7923AE5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87280" y="6904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lvl="1" marL="45720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6B40194-DD53-45AC-B4FF-AB06A7EC2A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35E79A6-B655-43C7-BD05-D3C3BB4B01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95560" y="6904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A5373E5-4BC4-4C90-B65E-91178462FE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A039BD8-060A-45EB-B94F-6BBBA48B32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95560" y="6904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6F156DC-96D4-4AC6-8BF5-1C002B36AF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32A386-37B8-49AD-956C-3BC5C31C4C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95560" y="6904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67F4709-DC0B-4178-B6DB-D8281BFCFE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A130216-6846-4030-9537-E31002E07D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95560" y="6904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lking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RR currently leads discussions with Amtrak on balancing the risks to LIRR service with the needs of the Total Track Replacement project; in considering impacts on LIRR service, LIRR is best suited to make those judgments and should take the lead role in identifying mitigations to project delays that can appropriately consider trade-offs between customer service and 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MTA Cap Constr copy"/>
          <p:cNvPicPr/>
          <p:nvPr/>
        </p:nvPicPr>
        <p:blipFill>
          <a:blip r:embed="rId2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MTA Cap Constr copy"/>
          <p:cNvPicPr/>
          <p:nvPr/>
        </p:nvPicPr>
        <p:blipFill>
          <a:blip r:embed="rId3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8" descr="MTA Cap Constr copy"/>
          <p:cNvPicPr/>
          <p:nvPr/>
        </p:nvPicPr>
        <p:blipFill>
          <a:blip r:embed="rId4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3" name="AutoShape 22"/>
          <p:cNvSpPr/>
          <p:nvPr/>
        </p:nvSpPr>
        <p:spPr>
          <a:xfrm>
            <a:off x="0" y="309600"/>
            <a:ext cx="1854360" cy="78084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780840"/>
              <a:gd name="textAreaBottom" fmla="*/ 781200 h 78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92" y="0"/>
                </a:lnTo>
                <a:lnTo>
                  <a:pt x="21600" y="10800"/>
                </a:lnTo>
                <a:lnTo>
                  <a:pt x="1679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1"/>
          <p:cNvSpPr/>
          <p:nvPr/>
        </p:nvSpPr>
        <p:spPr>
          <a:xfrm>
            <a:off x="4270320" y="646416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DAA1-73E6-4E5A-B89A-239B4C814134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2"/>
          <p:cNvSpPr/>
          <p:nvPr/>
        </p:nvSpPr>
        <p:spPr>
          <a:xfrm>
            <a:off x="7594560" y="6465960"/>
            <a:ext cx="12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ptember 26, 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726840" y="1631880"/>
            <a:ext cx="7934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eca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IEC was directed to report their confidence in the project’s mitigation proposed in June.  In response, the IEC has evaluated the viability of these mitigations with respect to sched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view was undertaken before the current scope of the Amtrak East River Tunnel work was fully know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IEC is continuing to evaluate the impact of the East River Tunnel work and mitigation strategies as they are prepared by E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" name="Picture 25" descr="MTA Cap Constr copy"/>
          <p:cNvPicPr/>
          <p:nvPr/>
        </p:nvPicPr>
        <p:blipFill>
          <a:blip r:embed="rId1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3"/>
          <p:cNvSpPr/>
          <p:nvPr/>
        </p:nvSpPr>
        <p:spPr>
          <a:xfrm>
            <a:off x="925560" y="1198440"/>
            <a:ext cx="6942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0" descr="McKissack Delcan MTA Independent Engineer Logo"/>
          <p:cNvPicPr/>
          <p:nvPr/>
        </p:nvPicPr>
        <p:blipFill>
          <a:blip r:embed="rId2"/>
          <a:stretch/>
        </p:blipFill>
        <p:spPr>
          <a:xfrm>
            <a:off x="6543720" y="735120"/>
            <a:ext cx="2000160" cy="5572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6"/>
          <p:cNvSpPr/>
          <p:nvPr/>
        </p:nvSpPr>
        <p:spPr>
          <a:xfrm>
            <a:off x="0" y="307800"/>
            <a:ext cx="1722600" cy="527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26840" y="1631880"/>
            <a:ext cx="79088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65040" indent="-365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EC previously reported a delay to the Revenue Service Date of September 2016, absent mitigations,  du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oor performance of Manhattan contra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sign approval and construction delays in Harol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ccess issues for systems work in new ESA tunn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65040" indent="-365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TACC proposed four out-of-the-box actions to mitigate delay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liver Precast Panels for GCT Caverns through Manhatt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duction of Operational Readiness Du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re-Purchasing of Systems Equi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lay to B/C Approach Struct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6992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65040" indent="0">
              <a:lnSpc>
                <a:spcPct val="75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Picture 25" descr="MTA Cap Constr copy"/>
          <p:cNvPicPr/>
          <p:nvPr/>
        </p:nvPicPr>
        <p:blipFill>
          <a:blip r:embed="rId1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3"/>
          <p:cNvSpPr/>
          <p:nvPr/>
        </p:nvSpPr>
        <p:spPr>
          <a:xfrm>
            <a:off x="925560" y="1198440"/>
            <a:ext cx="6942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0" descr="McKissack Delcan MTA Independent Engineer Logo"/>
          <p:cNvPicPr/>
          <p:nvPr/>
        </p:nvPicPr>
        <p:blipFill>
          <a:blip r:embed="rId2"/>
          <a:stretch/>
        </p:blipFill>
        <p:spPr>
          <a:xfrm>
            <a:off x="6543720" y="735120"/>
            <a:ext cx="2000160" cy="5572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6"/>
          <p:cNvSpPr/>
          <p:nvPr/>
        </p:nvSpPr>
        <p:spPr>
          <a:xfrm>
            <a:off x="0" y="307800"/>
            <a:ext cx="1722600" cy="527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726840" y="1631880"/>
            <a:ext cx="781668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nd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mitigations reviewed by the IEC do not bring the Revenue Service Date back to September 2016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However, two mitigations offer benefit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ringing the precast panels through Manhattan will improve access to the new ESA tunnels by reducing interference ris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ny reduction of the operational readiness results in time  savings and will improve a revised Revenue Service 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costs to the project resulting from these mitigations are yet to be determin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Picture 25" descr="MTA Cap Constr copy"/>
          <p:cNvPicPr/>
          <p:nvPr/>
        </p:nvPicPr>
        <p:blipFill>
          <a:blip r:embed="rId1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3"/>
          <p:cNvSpPr/>
          <p:nvPr/>
        </p:nvSpPr>
        <p:spPr>
          <a:xfrm>
            <a:off x="925560" y="1198440"/>
            <a:ext cx="6942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0" descr="McKissack Delcan MTA Independent Engineer Logo"/>
          <p:cNvPicPr/>
          <p:nvPr/>
        </p:nvPicPr>
        <p:blipFill>
          <a:blip r:embed="rId2"/>
          <a:stretch/>
        </p:blipFill>
        <p:spPr>
          <a:xfrm>
            <a:off x="6543720" y="735120"/>
            <a:ext cx="2000160" cy="5572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6"/>
          <p:cNvSpPr/>
          <p:nvPr/>
        </p:nvSpPr>
        <p:spPr>
          <a:xfrm>
            <a:off x="0" y="307800"/>
            <a:ext cx="1722600" cy="527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726840" y="1631880"/>
            <a:ext cx="781668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65040" indent="-365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dditional delays were identified during the review of the proposed out-of-the-box mitigations that will also need to be mitigated during the rebaselining.  These delays, which are still under discussion with ESA, includ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ccess and construction duration issues for the remaining Harold third party wor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sufficient durations for structural and systems finish-out work in Manhattan cavern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6504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" name="Picture 25" descr="MTA Cap Constr copy"/>
          <p:cNvPicPr/>
          <p:nvPr/>
        </p:nvPicPr>
        <p:blipFill>
          <a:blip r:embed="rId1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3"/>
          <p:cNvSpPr/>
          <p:nvPr/>
        </p:nvSpPr>
        <p:spPr>
          <a:xfrm>
            <a:off x="925560" y="1198440"/>
            <a:ext cx="6942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0" descr="McKissack Delcan MTA Independent Engineer Logo"/>
          <p:cNvPicPr/>
          <p:nvPr/>
        </p:nvPicPr>
        <p:blipFill>
          <a:blip r:embed="rId2"/>
          <a:stretch/>
        </p:blipFill>
        <p:spPr>
          <a:xfrm>
            <a:off x="6543720" y="735120"/>
            <a:ext cx="2000160" cy="5572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6"/>
          <p:cNvSpPr/>
          <p:nvPr/>
        </p:nvSpPr>
        <p:spPr>
          <a:xfrm>
            <a:off x="0" y="307800"/>
            <a:ext cx="1722600" cy="527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726840" y="1631880"/>
            <a:ext cx="781668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EC Recommend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Include Amtrak in rebaselining effort, which considers current delays, unmitigated risks and the East River Tunnel 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As part of the rebaselining, advance Westbound Bypass and Eastbound Reroute work to comply with high-speed rail grant requireme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Improve the prospect of achieving the goal of a revised FFGA Revenue Service Date by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rming a partnership between Amtrak and MTA to create a vehicle to incentivize Amtra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trengthening LIRR’s position to lead the coordination in Harold and find a balance between customer service and constru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" name="Picture 25" descr="MTA Cap Constr copy"/>
          <p:cNvPicPr/>
          <p:nvPr/>
        </p:nvPicPr>
        <p:blipFill>
          <a:blip r:embed="rId1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3"/>
          <p:cNvSpPr/>
          <p:nvPr/>
        </p:nvSpPr>
        <p:spPr>
          <a:xfrm>
            <a:off x="925560" y="1198440"/>
            <a:ext cx="6942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0" descr="McKissack Delcan MTA Independent Engineer Logo"/>
          <p:cNvPicPr/>
          <p:nvPr/>
        </p:nvPicPr>
        <p:blipFill>
          <a:blip r:embed="rId2"/>
          <a:stretch/>
        </p:blipFill>
        <p:spPr>
          <a:xfrm>
            <a:off x="6543720" y="735120"/>
            <a:ext cx="2000160" cy="5572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6"/>
          <p:cNvSpPr/>
          <p:nvPr/>
        </p:nvSpPr>
        <p:spPr>
          <a:xfrm>
            <a:off x="0" y="307800"/>
            <a:ext cx="1722600" cy="527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7T10:32:45Z</dcterms:created>
  <dc:creator>NYCT</dc:creator>
  <dc:description/>
  <dc:language>en-US</dc:language>
  <cp:lastModifiedBy>Michael Jew-Geralds</cp:lastModifiedBy>
  <cp:lastPrinted>2011-09-26T12:27:38Z</cp:lastPrinted>
  <dcterms:modified xsi:type="dcterms:W3CDTF">2011-09-26T21:13:17Z</dcterms:modified>
  <cp:revision>1697</cp:revision>
  <dc:subject/>
  <dc:title>Slide 1</dc:title>
</cp:coreProperties>
</file>