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188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4B53BE-7223-4FC8-B765-E6453E79F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B1364B-EA59-47CC-A620-69A787E02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96540E-B1D9-4E55-A5FF-D024F8D85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DF614C-DB44-40ED-A4AB-8F10452E9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0B8119-794B-4EDD-80C0-FB8A41707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AF31F3-8D14-43DA-BA55-9D030BF27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9F5721-7C0C-4AB9-87A8-2FC5AE797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F4E3CC-CCC0-4346-AF7D-6124D0750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1925E6-5F03-48F8-B61A-C3813078C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FA6A80-427C-466A-B83A-97BC085D4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00789A-D14C-428E-9E49-B942A3881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king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RR currently leads discussions with Amtrak on balancing the risks to LIRR service with the needs of the Total Track Replacement project; in considering impacts on LIRR service, LIRR is best suited to make those judgments and should take the lead role in identifying mitigations to project delays that can appropriately consider trade-offs between customer service and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MTA Cap Constr copy"/>
          <p:cNvPicPr/>
          <p:nvPr/>
        </p:nvPicPr>
        <p:blipFill>
          <a:blip r:embed="rId3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MTA Cap Constr copy"/>
          <p:cNvPicPr/>
          <p:nvPr/>
        </p:nvPicPr>
        <p:blipFill>
          <a:blip r:embed="rId4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3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4270320" y="64641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3B04-D600-46D0-9767-50BB14A0CCE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2"/>
          <p:cNvSpPr/>
          <p:nvPr/>
        </p:nvSpPr>
        <p:spPr>
          <a:xfrm>
            <a:off x="7594560" y="646596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tember 26,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34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c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was directed to report their confidence in the project’s mitigation proposed in June.  In response, the IEC has evaluated the viability of these mitigations with respect to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view was undertaken before the current scope of the Amtrak East River Tunnel work was fully kn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is continuing to evaluate the impact of the East River Tunnel work and mitigation strategies as they are prepared by E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088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EC previously reported a delay to the Revenue Service Date of September 2016, absent mitigations,  du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or performance of Manhattan contra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sign approval and construction delays in Harol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issues for systems work in new ESA tu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TACC proposed four out-of-the-box actions to mitigate delay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iver Precast Panels for GCT Caverns through Manhatt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uction of Operational Readiness D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e-Purchasing of Systems Equi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to B/C Approach Stru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7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mitigations reviewed by the IEC do not bring the Revenue Service Date back to September 2016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owever, two mitigations offer benefi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inging the precast panels through Manhattan will improve access to the new ESA tunnels by reducing interference ri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y reduction of the operational readiness results in time  savings and will improve a revised Revenue Service 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costs to the project resulting from these mitigations are yet to be determi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dditional delays were identified during the review of the proposed out-of-the-box mitigations that will also need to be mitigated during the rebaselining.  These delays, which are still under discussion with ESA,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and construction duration issues for the remaining Harold third party 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sufficient durations for structural and systems finish-out work in Manhattan caver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EC Recomme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nclude Amtrak in rebaselining effort, which considers current delays, unmitigated risks and the East River Tunnel 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s part of the rebaselining, advance Westbound Bypass and Eastbound Reroute work to comply with high-speed rail grant requir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mprove the prospect of achieving the goal of a revised FFGA Revenue Service Date b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rming a partnership between Amtrak and MTA to create a vehicle to incentivize Amtr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trengthening LIRR’s position to lead the coordination in Harold and find a balance between customer service and constr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0:32:45Z</dcterms:created>
  <dc:creator>NYCT</dc:creator>
  <dc:description/>
  <dc:language>en-US</dc:language>
  <cp:lastModifiedBy>Michael Jew-Geralds</cp:lastModifiedBy>
  <cp:lastPrinted>2011-09-26T12:27:38Z</cp:lastPrinted>
  <dcterms:modified xsi:type="dcterms:W3CDTF">2011-09-26T21:13:17Z</dcterms:modified>
  <cp:revision>1697</cp:revision>
  <dc:subject/>
  <dc:title>Slide 1</dc:title>
</cp:coreProperties>
</file>