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687E03-7AD3-4BBE-8A68-4678A8CDF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362E9E-B6B3-48EC-AE83-F146F9C64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A9C7F8-C09C-44EA-B914-33FB2FB83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E82901-55A2-44E1-B1E4-BB5B19D38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CBE108-AF7D-45EE-8B69-5DFCD9339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nute demo of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6927E7-C922-4A71-ACB9-9BB30C74C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5A6F66-CC04-4DE9-AC6E-B2A38399A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EEF74B-3373-42B8-81AB-475D3DFD8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5A194F-DCBE-43B6-B388-7BB369FB4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068-27DE-4A75-A08C-F180A21E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F110-1DB1-4CF3-9FD9-34544B4D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3FA6-BF33-4AB9-B0D6-AE967E08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942C-DA56-4EB7-BBC1-EC9F83B4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A08-4E61-4295-AA4A-95D8CE3B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071-E951-4F13-A18D-B89EB45D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D7A3-6597-4570-BFEF-B7B12B10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483C-C47D-4DB9-817B-C91CA6F5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905E-E9CF-4C04-A329-37CAFDC3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DA68-C353-40AE-8A46-E90F6D9A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775-7C5C-469D-99CC-9F84348B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A149-52E0-421F-8383-251A2268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F84F-1C47-41F1-A79F-3DF7C46336A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382240" cy="14698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TA Bus Time – progress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 Operations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tasymbolpms286"/>
          <p:cNvPicPr/>
          <p:nvPr/>
        </p:nvPicPr>
        <p:blipFill>
          <a:blip r:embed="rId1"/>
          <a:stretch/>
        </p:blipFill>
        <p:spPr>
          <a:xfrm>
            <a:off x="3657600" y="1066680"/>
            <a:ext cx="12826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7F68-4BAB-4D06-A50C-8742C07C4B3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3356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TA Bus Time Deployment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s A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TA Bus Time: Progres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 last 6 mon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 Time Launched on all Staten Island routes 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favorably by bus riders; public; and develop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ing for wider rollout in parallel with managing Staten Island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2B76-AA39-4E3E-A202-88D873F15C6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D499-2A7C-44B2-A503-291A97F7382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ers have access to Bus Time using various digital/mobile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04920" y="1676520"/>
            <a:ext cx="8610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browser -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website -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ased access* – being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Response code at bus stops** - being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-front displays – available fo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304920" y="567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Guide-a-Ride at stops being rolled out in 6 weeks, users can text intersection/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Not available until Guide-a-Rides are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E31E-7C58-4609-8176-C3B6850637F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s are excited by the prospec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52280" y="118908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tried that new app this morning and it is absolutely wonderful… It was a pleasure &amp; accurate… This has to be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st thing the MTA has ever done for bus rider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 ”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ve the concep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this service.” - </a:t>
            </a:r>
            <a:r>
              <a:rPr b="1" i="1" lang="en-US" sz="2400" spc="-1" strike="noStrike">
                <a:solidFill>
                  <a:srgbClr val="0d0d0d"/>
                </a:solidFill>
                <a:latin typeface="Arial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there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line as to which boroughs will get bus tim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ext?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ne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stem is fantasti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”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cited at the idea of being able to make a decis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ased on bus locations just by looking at my phone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0748-A1A5-44D7-9272-3B01A3985A9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s for 2012 -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52280" y="126540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the roll out of Bus Time to remaining four boroughs with Bronx starting next and one more borough before the end of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ing borough deployment during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08:42Z</dcterms:created>
  <dc:creator>MTA</dc:creator>
  <dc:description/>
  <dc:language>en-US</dc:language>
  <cp:lastModifiedBy>demarte</cp:lastModifiedBy>
  <cp:lastPrinted>2011-03-15T20:37:27Z</cp:lastPrinted>
  <dcterms:modified xsi:type="dcterms:W3CDTF">2012-01-20T14:50:06Z</dcterms:modified>
  <cp:revision>647</cp:revision>
  <dc:subject/>
  <dc:title>New Fare</dc:title>
</cp:coreProperties>
</file>