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034A9B-3366-481B-887D-5A147485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B4BCE0-DBE2-4061-9E1B-3E3958FC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5E6B40-7F1E-46AD-BB30-22977A0D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82363E-0CBB-4A05-9EFB-4434D1A2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C62872-4F6E-45E3-9691-26B14AD1F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nute demo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8C1E93-7102-44FD-9BC8-75C7C03F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472420-1873-4BDF-A226-01BAA347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2C3F46-ADD9-467A-AAE3-31ED6F9B6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9040" y="4416120"/>
            <a:ext cx="550368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FA11E9-727A-4E9B-8D7C-471E0FB9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2C3-8585-49A0-90B1-1CFC7399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21F-2CE2-4E00-826A-5AAFB4BB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DCA-7882-4C9A-8CF3-B4BA2FB8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EFF-0061-47D2-9667-A98799D2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242-37E2-4136-B771-5C064ECA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A2A-B995-4073-BA43-09078E32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80D-C2C2-4E95-B1F0-10A3C292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5CB-F592-4569-9301-3F3F43BC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997-0B37-44D9-AEA0-B7877207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B5A-CEF8-401A-A843-ADA73A8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111-3910-41EF-8E72-49FD1A2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62D-B136-4352-B801-8D4DC03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DB60-804E-468D-868D-9DA8C8B27D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TA Bus Time – progr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Operations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tasymbolpms286"/>
          <p:cNvPicPr/>
          <p:nvPr/>
        </p:nvPicPr>
        <p:blipFill>
          <a:blip r:embed="rId1"/>
          <a:stretch/>
        </p:blipFill>
        <p:spPr>
          <a:xfrm>
            <a:off x="3657600" y="106668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7FED-38B5-4670-BAA0-72355A40998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3356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TA Bus Time Deployment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s A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TA Bus Time: Progres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 last 6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Time Launched on all Staten Island routes on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favorably by bus riders; public; and develop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for wider rollout in parallel with managing Staten Island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84F3-4F5A-4CE2-BA07-31E2B28151A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FB55-27CE-4465-9D0B-7D2A8893079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 have access to Bus Time using various digital/mobi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er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website -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ased access* –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sponse code at bus stops** - being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-front displays – available f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04920" y="567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uide-a-Ride at stops being rolled out in 6 weeks, users can text intersection/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t available until Guide-a-Rides are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033E-60FD-40B9-BDBF-7883E50B83D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are excited by the prospec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52280" y="1189080"/>
            <a:ext cx="8915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tried that new app this morning and it is absolutely wonderful… It was a pleasure &amp; accurate… This has to be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st thing the MTA has ever done for bus rider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 ”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ve the conce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this service.” -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line as to which boroughs will get bus tim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xt?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ne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 is fantas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”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cited at the idea of being able to make a decis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sed on bus locations just by looking at my phone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03B-50B9-45DB-9E97-41C7D834D72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s for 2012 -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1265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roll out of Bus Time to remaining four boroughs with Bronx starting next and one more borough before the end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borough deployment during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08:42Z</dcterms:created>
  <dc:creator>MTA</dc:creator>
  <dc:description/>
  <dc:language>en-US</dc:language>
  <cp:lastModifiedBy>demarte</cp:lastModifiedBy>
  <cp:lastPrinted>2011-03-15T20:37:27Z</cp:lastPrinted>
  <dcterms:modified xsi:type="dcterms:W3CDTF">2012-01-20T14:50:06Z</dcterms:modified>
  <cp:revision>647</cp:revision>
  <dc:subject/>
  <dc:title>New Fare</dc:title>
</cp:coreProperties>
</file>