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7C34AA4-3F85-4888-BAD3-A700747D6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7BAF4E5-1C7C-4294-86A6-247B2DAC2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AAEC6F5-8505-4E0E-BAA3-CE6BD8199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206DD54-A97F-4A77-AE4A-7D396B699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71DDBC1-0DD8-4B0A-81FC-A9F1C71D3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nute demo of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8DADB93-1A2D-4A4C-AC1A-6CE735616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D6B0529-90AC-4D92-BF65-EED7A1A75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4D0CCB5-7D4F-4FC0-AF43-76F9B8660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A58A710-986D-4C09-8B35-824C3E2AB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20FA-AE2B-42AF-887D-AF1D770C0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FA06-00B2-42BD-AEA1-3209460F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EC4A-43AC-47CD-95F3-DCE76AEF7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DB2B-FC73-4D74-85A6-0D37B54D4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758F-F38E-44C7-AE82-3FD84143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2EC2-D18F-4FB7-9E88-EF496354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4AB4-BF7D-4453-BE77-E00165EC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425F-BBB3-4C71-B019-D1B45183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D226-8B52-4326-BEF9-EF44B965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A2DD-CFE2-42F5-83D7-E03D66B7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C879-13BE-4A2F-A826-9C76F52D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8E62-3AF1-4383-8AA7-C182438A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D844-A93B-48B7-8A92-241EC34C510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742840"/>
            <a:ext cx="8382240" cy="14698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TA Bus Time – progress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47920" y="4419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ti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 Operations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2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mtasymbolpms286"/>
          <p:cNvPicPr/>
          <p:nvPr/>
        </p:nvPicPr>
        <p:blipFill>
          <a:blip r:embed="rId1"/>
          <a:stretch/>
        </p:blipFill>
        <p:spPr>
          <a:xfrm>
            <a:off x="3657600" y="1066680"/>
            <a:ext cx="12826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890D-B185-40BC-99D8-26459D20338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3356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TA Bus Time Deployment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s Ah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TA Bus Time: Progres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 last 6 mon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 Time Launched on all Staten Island routes on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d favorably by bus riders; public; and developer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ing for wider rollout in parallel with managing Staten Island de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0835-6643-44C3-A0E9-CDF50CC5314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A75D-BE98-4A78-AD5F-AFD8BCD64D1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stomers have access to Bus Time using various digital/mobile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04920" y="1676520"/>
            <a:ext cx="8610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browser -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e website -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based access* – being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Response code at bus stops** - being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-front displays – available for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"/>
          <p:cNvSpPr/>
          <p:nvPr/>
        </p:nvSpPr>
        <p:spPr>
          <a:xfrm>
            <a:off x="304920" y="5670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Guide-a-Ride at stops being rolled out in 6 weeks, users can text intersection/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Not available until Guide-a-Rides are depl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F602-8384-450B-8A9C-207FD421580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s are excited by the prospect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152280" y="1189080"/>
            <a:ext cx="8915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tried that new app this morning and it is absolutely wonderful… It was a pleasure &amp; accurate… This has to be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st thing the MTA has ever done for bus rider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… ” –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ve the concep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of this service.” - </a:t>
            </a:r>
            <a:r>
              <a:rPr b="1" i="1" lang="en-US" sz="2400" spc="-1" strike="noStrike">
                <a:solidFill>
                  <a:srgbClr val="0d0d0d"/>
                </a:solidFill>
                <a:latin typeface="Arial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 there 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meline as to which boroughs will get bus tim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ext?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 ne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ystem is fantasti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”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’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cited at the idea of being able to make a decisi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ased on bus locations just by looking at my phone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onym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F911-560A-460F-A3DC-E9E0CD254E8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s for 2012 -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52280" y="1265400"/>
            <a:ext cx="8763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the roll out of Bus Time to remaining four boroughs with Bronx starting next and one more borough before the end of th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aining borough deployment during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8:08:42Z</dcterms:created>
  <dc:creator>MTA</dc:creator>
  <dc:description/>
  <dc:language>en-US</dc:language>
  <cp:lastModifiedBy>demarte</cp:lastModifiedBy>
  <cp:lastPrinted>2011-03-15T20:37:27Z</cp:lastPrinted>
  <dcterms:modified xsi:type="dcterms:W3CDTF">2012-01-20T14:50:06Z</dcterms:modified>
  <cp:revision>647</cp:revision>
  <dc:subject/>
  <dc:title>New Fare</dc:title>
</cp:coreProperties>
</file>