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FBC018-77EB-4801-951A-C22EDFACB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88585AD-6965-48F7-B6B8-6013F9429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32F496F-3FD3-4481-BEB9-2AEF6E962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FCEBC44-57ED-4F6E-874A-02389661D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3984343-A2CA-4D37-AEC9-2645E38C6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nute demo of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24213D8-1E31-498E-A9A2-35A3778C0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8149A3E-00C1-4644-8506-64ECEC5FA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E3BB69C-6D5A-4642-8FD1-C390C8249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85117E6-74ED-4A7B-A598-4DD4911E6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8A68-BE8A-4267-BFD1-597BA9924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3A11-72E1-4FC3-8358-79D1A5A1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C75C-206A-4A16-B524-6DF678067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F5D2-26A9-4DDA-A0DD-71F83D79B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CF16-6C75-491B-A825-9CBC6249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A8AD-4AEE-4E4A-AE27-33EE9229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8C14-E5AA-4EA7-80F7-EC689470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6833-D57E-4324-8968-6DFA648C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2024-ECDA-4F65-A74A-951215CF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DA13-7825-4055-A0B1-FAB4106D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5E23-7A46-4486-A647-307DAC3E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BAEE-56AF-4B4D-9B82-E31D70AC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17B8-273A-460B-BE9A-27623E14069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742840"/>
            <a:ext cx="8382240" cy="14698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TA Bus Time – progress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47920" y="4419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 Operations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2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mtasymbolpms286"/>
          <p:cNvPicPr/>
          <p:nvPr/>
        </p:nvPicPr>
        <p:blipFill>
          <a:blip r:embed="rId1"/>
          <a:stretch/>
        </p:blipFill>
        <p:spPr>
          <a:xfrm>
            <a:off x="3657600" y="1066680"/>
            <a:ext cx="12826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37A2-CCE3-4CCA-81D2-E392F031812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3356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TA Bus Time Deployment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s A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TA Bus Time: Progres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 last 6 mon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 Time Launched on all Staten Island routes on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d favorably by bus riders; public; and developer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ing for wider rollout in parallel with managing Staten Island de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6E0B-0EA5-4DBE-B8FC-876F0682F7E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117A-A7B0-4DB0-9027-2C35FBCA185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stomers have access to Bus Time using various digital/mobile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04920" y="1676520"/>
            <a:ext cx="8610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browser -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e website -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based access* – being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Response code at bus stops** - being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-front displays – available for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"/>
          <p:cNvSpPr/>
          <p:nvPr/>
        </p:nvSpPr>
        <p:spPr>
          <a:xfrm>
            <a:off x="304920" y="5670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Guide-a-Ride at stops being rolled out in 6 weeks, users can text intersection/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Not available until Guide-a-Rides are depl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3013-0938-4DEC-8410-55BFB275FE3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s are excited by the prospect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152280" y="1189080"/>
            <a:ext cx="8915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tried that new app this morning and it is absolutely wonderful… It was a pleasure &amp; accurate… This has to be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st thing the MTA has ever done for bus rider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… ”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ve the concep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of this service.” - </a:t>
            </a:r>
            <a:r>
              <a:rPr b="1" i="1" lang="en-US" sz="2400" spc="-1" strike="noStrike">
                <a:solidFill>
                  <a:srgbClr val="0d0d0d"/>
                </a:solidFill>
                <a:latin typeface="Arial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 there 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meline as to which boroughs will get bus tim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ext?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 ne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ystem is fantasti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”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’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cited at the idea of being able to make a decisi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ased on bus locations just by looking at my phone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onym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85A5-BA9D-4754-86F1-EB17E777BE6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s for 2012 -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52280" y="1265400"/>
            <a:ext cx="8763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the roll out of Bus Time to remaining four boroughs with Bronx starting next and one more borough before the end of th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aining borough deployment during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8:08:42Z</dcterms:created>
  <dc:creator>MTA</dc:creator>
  <dc:description/>
  <dc:language>en-US</dc:language>
  <cp:lastModifiedBy>demarte</cp:lastModifiedBy>
  <cp:lastPrinted>2011-03-15T20:37:27Z</cp:lastPrinted>
  <dcterms:modified xsi:type="dcterms:W3CDTF">2012-01-20T14:50:06Z</dcterms:modified>
  <cp:revision>647</cp:revision>
  <dc:subject/>
  <dc:title>New Fare</dc:title>
</cp:coreProperties>
</file>