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3E684-85B6-4BA2-B46E-AAEFDBDFA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332336-1C46-4B28-96FB-1550869102DD}" type="datetime">
              <a:rPr b="0" lang="en-US" sz="1200" spc="-1" strike="noStrike">
                <a:solidFill>
                  <a:srgbClr val="000000"/>
                </a:solidFill>
                <a:latin typeface="Arial"/>
              </a:rPr>
              <a:t>07/30/26</a:t>
            </a:fld>
            <a:r>
              <a:rPr b="0" lang="en-US" sz="1200" spc="-1" strike="noStrike">
                <a:solidFill>
                  <a:srgbClr val="000000"/>
                </a:solidFill>
                <a:latin typeface="Arial"/>
              </a:rPr>
              <a:t> </a:t>
            </a:r>
            <a:fld id="{FF23170B-8587-4437-A855-2643CEABC475}"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3386C87-92AC-48AA-9E1D-689DC7F16B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9A29F14-BDCF-4A05-AC44-4261397F948F}" type="datetime">
              <a:rPr b="0" lang="en-US" sz="1200" spc="-1" strike="noStrike">
                <a:solidFill>
                  <a:srgbClr val="000000"/>
                </a:solidFill>
                <a:latin typeface="Arial"/>
              </a:rPr>
              <a:t>07/30/26</a:t>
            </a:fld>
            <a:r>
              <a:rPr b="0" lang="en-US" sz="1200" spc="-1" strike="noStrike">
                <a:solidFill>
                  <a:srgbClr val="000000"/>
                </a:solidFill>
                <a:latin typeface="Arial"/>
              </a:rPr>
              <a:t> </a:t>
            </a:r>
            <a:fld id="{AB2EB02D-61D4-418F-BC4D-563D0ABF7686}"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1D0774-CB79-489D-B6C8-8B0FDC779B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9A3F2B1-AC39-47F2-82D4-FCC8473B9BCF}" type="datetime">
              <a:rPr b="0" lang="en-US" sz="1200" spc="-1" strike="noStrike">
                <a:solidFill>
                  <a:srgbClr val="000000"/>
                </a:solidFill>
                <a:latin typeface="Arial"/>
              </a:rPr>
              <a:t>07/30/26</a:t>
            </a:fld>
            <a:r>
              <a:rPr b="0" lang="en-US" sz="1200" spc="-1" strike="noStrike">
                <a:solidFill>
                  <a:srgbClr val="000000"/>
                </a:solidFill>
                <a:latin typeface="Arial"/>
              </a:rPr>
              <a:t> </a:t>
            </a:r>
            <a:fld id="{11B2DC66-F534-4EA7-B5C3-CB52DBF85A57}"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51AD01-A870-4B45-B4E2-D907ABA8AF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20589C-E33D-4080-BE17-6C22A67131B0}" type="datetime">
              <a:rPr b="0" lang="en-US" sz="1200" spc="-1" strike="noStrike">
                <a:solidFill>
                  <a:srgbClr val="000000"/>
                </a:solidFill>
                <a:latin typeface="Arial"/>
              </a:rPr>
              <a:t>07/30/26</a:t>
            </a:fld>
            <a:r>
              <a:rPr b="0" lang="en-US" sz="1200" spc="-1" strike="noStrike">
                <a:solidFill>
                  <a:srgbClr val="000000"/>
                </a:solidFill>
                <a:latin typeface="Arial"/>
              </a:rPr>
              <a:t> </a:t>
            </a:r>
            <a:fld id="{51BEE030-41BF-429E-AA1B-C71F5678FD7B}"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F0A993-0DB5-4845-B72B-FE2DC06A2C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B09020-750B-459E-AB97-4F80B62F1185}" type="datetime">
              <a:rPr b="0" lang="en-US" sz="1200" spc="-1" strike="noStrike">
                <a:solidFill>
                  <a:srgbClr val="000000"/>
                </a:solidFill>
                <a:latin typeface="Arial"/>
              </a:rPr>
              <a:t>07/30/26</a:t>
            </a:fld>
            <a:r>
              <a:rPr b="0" lang="en-US" sz="1200" spc="-1" strike="noStrike">
                <a:solidFill>
                  <a:srgbClr val="000000"/>
                </a:solidFill>
                <a:latin typeface="Arial"/>
              </a:rPr>
              <a:t> </a:t>
            </a:r>
            <a:fld id="{F91FC644-C97B-4803-BE39-7EB375937A02}"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0B099B-1B9A-4A7F-8E71-CA8C739C90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A20F6F-8FB2-4E35-93B2-9BC04931FB87}" type="datetime">
              <a:rPr b="0" lang="en-US" sz="1200" spc="-1" strike="noStrike">
                <a:solidFill>
                  <a:srgbClr val="000000"/>
                </a:solidFill>
                <a:latin typeface="Arial"/>
              </a:rPr>
              <a:t>07/30/26</a:t>
            </a:fld>
            <a:r>
              <a:rPr b="0" lang="en-US" sz="1200" spc="-1" strike="noStrike">
                <a:solidFill>
                  <a:srgbClr val="000000"/>
                </a:solidFill>
                <a:latin typeface="Arial"/>
              </a:rPr>
              <a:t> </a:t>
            </a:r>
            <a:fld id="{EBA92267-66B0-476C-834E-E641C44EB3B8}"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2A67D7-216F-429B-8844-1F018F05B0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684E19-79FD-4FE4-AA5E-3C407242E531}" type="datetime">
              <a:rPr b="0" lang="en-US" sz="1200" spc="-1" strike="noStrike">
                <a:solidFill>
                  <a:srgbClr val="000000"/>
                </a:solidFill>
                <a:latin typeface="Arial"/>
              </a:rPr>
              <a:t>07/30/26</a:t>
            </a:fld>
            <a:r>
              <a:rPr b="0" lang="en-US" sz="1200" spc="-1" strike="noStrike">
                <a:solidFill>
                  <a:srgbClr val="000000"/>
                </a:solidFill>
                <a:latin typeface="Arial"/>
              </a:rPr>
              <a:t> </a:t>
            </a:r>
            <a:fld id="{0E5DA690-0DE0-46AE-B2AF-3B7C8DA2EBEA}"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B2D5AB-6076-4ED8-9B9C-3C463587F1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66BCC-F7AD-44BB-9299-4D9DE9EE1CC5}" type="datetime">
              <a:rPr b="0" lang="en-US" sz="1200" spc="-1" strike="noStrike">
                <a:solidFill>
                  <a:srgbClr val="000000"/>
                </a:solidFill>
                <a:latin typeface="Calibri"/>
              </a:rPr>
              <a:t>07/30/26</a:t>
            </a:fld>
            <a:r>
              <a:rPr b="0" lang="en-US" sz="1200" spc="-1" strike="noStrike">
                <a:solidFill>
                  <a:srgbClr val="000000"/>
                </a:solidFill>
                <a:latin typeface="Calibri"/>
              </a:rPr>
              <a:t> </a:t>
            </a:r>
            <a:fld id="{CB904FFA-B662-4C5F-A8A8-8EA7BBA7057B}" type="datetime10">
              <a:rPr b="0" lang="en-US" sz="1200" spc="-1" strike="noStrike">
                <a:solidFill>
                  <a:srgbClr val="000000"/>
                </a:solidFill>
                <a:latin typeface="Calibri"/>
              </a:rPr>
              <a:t>11:57</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92B9C-478D-4FCF-B8D5-A9DFA42D06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6D83E2-6075-4110-8BB3-DCB594D9C7ED}" type="datetime">
              <a:rPr b="0" lang="en-US" sz="1200" spc="-1" strike="noStrike">
                <a:solidFill>
                  <a:srgbClr val="000000"/>
                </a:solidFill>
                <a:latin typeface="Arial"/>
              </a:rPr>
              <a:t>07/30/26</a:t>
            </a:fld>
            <a:r>
              <a:rPr b="0" lang="en-US" sz="1200" spc="-1" strike="noStrike">
                <a:solidFill>
                  <a:srgbClr val="000000"/>
                </a:solidFill>
                <a:latin typeface="Arial"/>
              </a:rPr>
              <a:t> </a:t>
            </a:r>
            <a:fld id="{5A5AFC95-7285-4B1F-AC1C-4B459BEC94D6}"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F1D8DEF-F3AA-4979-B6EE-F95705614E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B939222-DAE5-4D49-8E30-00DAD58E150D}" type="datetime">
              <a:rPr b="0" lang="en-US" sz="1200" spc="-1" strike="noStrike">
                <a:solidFill>
                  <a:srgbClr val="000000"/>
                </a:solidFill>
                <a:latin typeface="Arial"/>
              </a:rPr>
              <a:t>07/30/26</a:t>
            </a:fld>
            <a:r>
              <a:rPr b="0" lang="en-US" sz="1200" spc="-1" strike="noStrike">
                <a:solidFill>
                  <a:srgbClr val="000000"/>
                </a:solidFill>
                <a:latin typeface="Arial"/>
              </a:rPr>
              <a:t> </a:t>
            </a:r>
            <a:fld id="{B333A2EE-21AC-4EDD-926C-37FD62D72A6E}"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19C375-4F2F-4E86-9EC2-9D57F036BD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636DD3-E5B8-4E58-8377-4D12F0BFA2C9}" type="datetime">
              <a:rPr b="0" lang="en-US" sz="1200" spc="-1" strike="noStrike">
                <a:solidFill>
                  <a:srgbClr val="000000"/>
                </a:solidFill>
                <a:latin typeface="Arial"/>
              </a:rPr>
              <a:t>07/30/26</a:t>
            </a:fld>
            <a:r>
              <a:rPr b="0" lang="en-US" sz="1200" spc="-1" strike="noStrike">
                <a:solidFill>
                  <a:srgbClr val="000000"/>
                </a:solidFill>
                <a:latin typeface="Arial"/>
              </a:rPr>
              <a:t> </a:t>
            </a:r>
            <a:fld id="{CE879324-9762-469F-AF73-6D1DB14A8DED}" type="datetime10">
              <a:rPr b="0" lang="en-US" sz="1200" spc="-1" strike="noStrike">
                <a:solidFill>
                  <a:srgbClr val="000000"/>
                </a:solidFill>
                <a:latin typeface="Arial"/>
              </a:rPr>
              <a:t>11:57</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157670-0EF1-4813-BF7F-703B5BD0A88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BBA2E-A173-4BAB-925B-84C725C3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895D7-C6DB-42AB-87DB-5FFD1111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1A949-1D07-463F-8331-30278C3C2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96495-17E3-41F2-B201-072CBE327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B6537-5FA2-49D5-9A65-A328116AD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5695D-2C3D-481D-8159-264E601CD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A7AC8-A748-4998-BE1C-B516881F5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CD3F7-35CC-435C-B10D-1F0242598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CBBA4-EE50-4305-81F4-4B30189BA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71FD-1BC5-4DD3-AB9C-B668D6E84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4423-5525-4F8D-B4E3-7C2BC5ABF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7D8D-3033-4B6F-A53D-8F367022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26C04-68D8-4F68-AA26-18098821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3088-D200-45B7-8295-1729B374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AA3FF-6FA0-47BC-B7AB-E50407A4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6C7EB-27F6-414E-A303-26499FAE4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8F7BF-4E34-40BB-8BD9-37E5497BC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B89E9F-AFE7-4977-A6A7-F4F2A9297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9AA28-E925-4B6B-84C7-F6ED112C7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D833D-15DD-4C62-AFB6-2990248A0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B1898-12EB-4135-ADBF-371FBB43D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2AAB3-0955-4811-9BD6-4C686F7CE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06B4-818F-4110-8804-72A81B609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DC54D-A2B5-42D5-9609-24FDFFB24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440CB-5370-4034-B46B-C4006BA04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3374D-12D9-4807-BA4C-485A75124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0B01C-B68D-4765-988C-1737BA60C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16D3D-A895-43B1-897C-AF3133DCB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91BCE8-3E69-462F-A8F0-5A442F3985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52FE5-2C1F-4FFF-AD67-40C82A4090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ABBD65-C495-46F2-9E13-46EF0241C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EC38A-9D17-48B1-9F69-FBE0EF429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D4100-41E8-4051-9A91-B669FC914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E1C7-3B2C-4A7A-8503-6B3B8DFB0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743AC-D730-4ED8-97CF-2E2509020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E39DE-5538-4DCB-B98F-D9F664F68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95A0B-78BA-4C69-A86B-979EDE9FB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2CBEC-0236-464F-A5B9-9F7738738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E8F07-AD0F-43AD-86C0-CA0FCC399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4394D-732B-498F-B5A1-E620EF3C5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7CFF7-E2DB-4D36-9AF8-EB51975EF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A2419-9497-452F-B50D-7DE1A21ABE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4D80A1-A709-4327-915F-9081460A3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507AE7-7312-4E2C-B4E2-BF0EAB9D1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4E41-5DF7-453D-A172-7C0B46C7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50370-9B5A-48E0-93B3-5E75DD168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2881B-92F1-4E43-A93E-BE02F75B8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CB3E0-B8C3-4B96-A3B6-928989BE6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0F7F3-D374-40DA-AF6F-05D7AC4122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77D37-2B71-492E-AEC3-D026735DA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1471A-E0B2-436B-AAA3-9262D6A76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68FA9-CB72-4753-8382-9095B10BF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A6281-9B4C-48EE-BC1C-3C2AC2A5E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29C5D-07EB-4141-AFF8-445732766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9473C0-81BD-452B-B46A-B1E2AF5F34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6882-94DB-4B68-B2DC-32466B3F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68E695-F1C1-482A-A6BD-610EBCB02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4AABB8-7FA6-4531-9162-E1C0A869D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E248AD-6E91-465F-A6B0-CD1F5C5D8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49E8E-61EC-408D-819A-75BECC0BE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4EFF0-EF41-4CBF-B513-A584A106D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D4CAE-45B4-44D9-BE49-AF2568223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19119-4D3F-4F4A-ABDF-2B79CC25FB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09C0F-16A0-4466-A818-824007CAA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3E150-74B8-4D92-B7F2-9A464CA3C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B2688-D60C-477F-84BB-6FAC7BD43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D842-FF54-4670-90C5-23900E7E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B6D9B-B059-4567-9732-F376DAF05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5D8870-52C5-450C-B386-0BA7A995F2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1EEA7-0081-44E1-BA28-CF0DD5E6B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CEFAB7-4CB4-4BCD-90BA-FEC4BF73C1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5FD11-7B30-495B-954C-4148E047D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61FED-588B-4EC9-9E0F-B9C3A0F5A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C266A-F1D3-4DC1-94AC-6E2317127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06AF1-C900-45C7-9A1E-AF7E2BADF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837979-649F-4B4A-B189-3E14EAE82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C732C-07A9-4958-A853-5A3DD321E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A51D-60FC-4D9E-8D2E-001B5D13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AE4BB-EC9F-409B-AF6F-4E1778FF5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FF030-6DC2-4743-BC50-4A6211043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3B63B-D3E3-44B0-84BE-147D8F928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FB3F9A-D089-4EFD-9713-D62B79481A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588379-B67C-4541-B367-570EE2BAE1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FDDC-EAFB-41E2-AF0D-526D13EF4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167D5-B5E9-4522-BBA8-EF30035D2EA9}"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A3F4E-BD78-44AB-9875-707A9A6DF0F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74A6D-62E5-4D89-BFE7-9BFA9FD79133}"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7A840-7BD1-4733-AFC1-FD2C3D8B37AF}"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3D377-2DAB-42C8-86BD-1AB8B64B1E6E}"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10F89-BF08-4CA0-9263-1635FE7D5CE4}"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45D62-7C1D-46EB-803C-3F8F2448B907}"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A7599-ED3C-40E5-8E7A-39891F312962}"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114EA-226B-4207-AA4B-109ED35FF955}"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CCF4C-3ABB-4EE4-8CBC-32FED1E0079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C5813-6FD1-4A28-8416-82C279BEEAC2}"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36711-84F9-4EE0-90BA-9A3A950AA348}"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58047-0E83-4E0D-A9D1-9DCCC091AC53}"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4A7F0-8F41-4238-A38A-D73956A15EA7}"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86EF9-9822-46A7-9749-886AE2AA918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8250E-A618-42ED-AB0B-14E70FCB28A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1E5BB-83AE-42C6-BEAE-628ECC70204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F1BCE-054C-49E8-B96A-46788FD1DA31}"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001F3-CE21-4E97-A36D-48DF080D571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E6AEB-7E8A-4229-966D-ED67570A035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CF943-1B24-4D91-BF86-DDCF936A6D7B}"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FF9C8-1063-4CFD-9DFA-41B48A391AE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11BC0-977E-4C23-870F-96F6042B8F8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462DF-3BAB-48A1-BC28-0A413FCE860C}"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7B8AF-DD38-4BD9-BBDA-F637DECA178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0E8E2-9393-446B-96CD-6E6739E6097F}"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BD00B-FB94-41DF-86B8-E4FEF12A8405}"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