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41C13-8346-454A-B9EF-8AD1C1A77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99B483-ECAA-43DF-861D-CA4B8BCC5729}" type="datetime">
              <a:rPr b="0" lang="en-US" sz="1200" spc="-1" strike="noStrike">
                <a:solidFill>
                  <a:srgbClr val="000000"/>
                </a:solidFill>
                <a:latin typeface="Arial"/>
              </a:rPr>
              <a:t>07/29/26</a:t>
            </a:fld>
            <a:r>
              <a:rPr b="0" lang="en-US" sz="1200" spc="-1" strike="noStrike">
                <a:solidFill>
                  <a:srgbClr val="000000"/>
                </a:solidFill>
                <a:latin typeface="Arial"/>
              </a:rPr>
              <a:t> </a:t>
            </a:r>
            <a:fld id="{81303B0E-6043-4C02-A923-3FB8B9A3570A}"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4DA7E9-76CA-49CA-8819-039568A310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5F25EEC-324A-4F33-8490-D4E939CB8B62}" type="datetime">
              <a:rPr b="0" lang="en-US" sz="1200" spc="-1" strike="noStrike">
                <a:solidFill>
                  <a:srgbClr val="000000"/>
                </a:solidFill>
                <a:latin typeface="Arial"/>
              </a:rPr>
              <a:t>07/29/26</a:t>
            </a:fld>
            <a:r>
              <a:rPr b="0" lang="en-US" sz="1200" spc="-1" strike="noStrike">
                <a:solidFill>
                  <a:srgbClr val="000000"/>
                </a:solidFill>
                <a:latin typeface="Arial"/>
              </a:rPr>
              <a:t> </a:t>
            </a:r>
            <a:fld id="{A63B509D-16B2-462C-8800-EC0B875EAB06}"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2C43CC-5B87-4015-867A-D56E647491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477AC0-0686-4546-8610-EC047546F131}" type="datetime">
              <a:rPr b="0" lang="en-US" sz="1200" spc="-1" strike="noStrike">
                <a:solidFill>
                  <a:srgbClr val="000000"/>
                </a:solidFill>
                <a:latin typeface="Arial"/>
              </a:rPr>
              <a:t>07/29/26</a:t>
            </a:fld>
            <a:r>
              <a:rPr b="0" lang="en-US" sz="1200" spc="-1" strike="noStrike">
                <a:solidFill>
                  <a:srgbClr val="000000"/>
                </a:solidFill>
                <a:latin typeface="Arial"/>
              </a:rPr>
              <a:t> </a:t>
            </a:r>
            <a:fld id="{506B1097-B2AF-4E89-BE8A-70AA820D4923}"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F35F3E-00EE-47A0-B3CA-BFF4E52E508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91501E-4072-4E6F-9764-6FF9606EE10B}" type="datetime">
              <a:rPr b="0" lang="en-US" sz="1200" spc="-1" strike="noStrike">
                <a:solidFill>
                  <a:srgbClr val="000000"/>
                </a:solidFill>
                <a:latin typeface="Arial"/>
              </a:rPr>
              <a:t>07/29/26</a:t>
            </a:fld>
            <a:r>
              <a:rPr b="0" lang="en-US" sz="1200" spc="-1" strike="noStrike">
                <a:solidFill>
                  <a:srgbClr val="000000"/>
                </a:solidFill>
                <a:latin typeface="Arial"/>
              </a:rPr>
              <a:t> </a:t>
            </a:r>
            <a:fld id="{C981023F-63D2-4386-A09E-8B012F12553C}"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C4805C-1CC0-40ED-A2A0-731506C4B7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20162CB-847F-4F8C-BE8B-1FC1E4E748E2}" type="datetime">
              <a:rPr b="0" lang="en-US" sz="1200" spc="-1" strike="noStrike">
                <a:solidFill>
                  <a:srgbClr val="000000"/>
                </a:solidFill>
                <a:latin typeface="Arial"/>
              </a:rPr>
              <a:t>07/29/26</a:t>
            </a:fld>
            <a:r>
              <a:rPr b="0" lang="en-US" sz="1200" spc="-1" strike="noStrike">
                <a:solidFill>
                  <a:srgbClr val="000000"/>
                </a:solidFill>
                <a:latin typeface="Arial"/>
              </a:rPr>
              <a:t> </a:t>
            </a:r>
            <a:fld id="{53F386CB-3EF0-492D-A682-044E4C413611}"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13A66E-6AAA-4012-9E1B-637B6E4103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EA069D-D694-45AD-B5BE-69ABB7A19080}" type="datetime">
              <a:rPr b="0" lang="en-US" sz="1200" spc="-1" strike="noStrike">
                <a:solidFill>
                  <a:srgbClr val="000000"/>
                </a:solidFill>
                <a:latin typeface="Arial"/>
              </a:rPr>
              <a:t>07/29/26</a:t>
            </a:fld>
            <a:r>
              <a:rPr b="0" lang="en-US" sz="1200" spc="-1" strike="noStrike">
                <a:solidFill>
                  <a:srgbClr val="000000"/>
                </a:solidFill>
                <a:latin typeface="Arial"/>
              </a:rPr>
              <a:t> </a:t>
            </a:r>
            <a:fld id="{DB94DDF9-307F-4F06-BA55-09C52D88DA4F}"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8A753C-A55E-4EA7-ACAE-9778217B88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4889F8-09B3-49FE-AE25-05B6BB7B804E}" type="datetime">
              <a:rPr b="0" lang="en-US" sz="1200" spc="-1" strike="noStrike">
                <a:solidFill>
                  <a:srgbClr val="000000"/>
                </a:solidFill>
                <a:latin typeface="Arial"/>
              </a:rPr>
              <a:t>07/29/26</a:t>
            </a:fld>
            <a:r>
              <a:rPr b="0" lang="en-US" sz="1200" spc="-1" strike="noStrike">
                <a:solidFill>
                  <a:srgbClr val="000000"/>
                </a:solidFill>
                <a:latin typeface="Arial"/>
              </a:rPr>
              <a:t> </a:t>
            </a:r>
            <a:fld id="{F91356CF-7EB1-4525-AB4D-7ADA934CE4DA}"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B6D61B-3C87-4AE0-935C-E22B1B3DEF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AAE09-C104-4C9B-86CF-47592C7D8551}" type="datetime">
              <a:rPr b="0" lang="en-US" sz="1200" spc="-1" strike="noStrike">
                <a:solidFill>
                  <a:srgbClr val="000000"/>
                </a:solidFill>
                <a:latin typeface="Calibri"/>
              </a:rPr>
              <a:t>07/29/26</a:t>
            </a:fld>
            <a:r>
              <a:rPr b="0" lang="en-US" sz="1200" spc="-1" strike="noStrike">
                <a:solidFill>
                  <a:srgbClr val="000000"/>
                </a:solidFill>
                <a:latin typeface="Calibri"/>
              </a:rPr>
              <a:t> </a:t>
            </a:r>
            <a:fld id="{1FD0ED8C-C7E1-466E-A041-6A5615E7E95E}" type="datetime10">
              <a:rPr b="0" lang="en-US" sz="1200" spc="-1" strike="noStrike">
                <a:solidFill>
                  <a:srgbClr val="000000"/>
                </a:solidFill>
                <a:latin typeface="Calibri"/>
              </a:rPr>
              <a:t>19:04</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E9FDF-36B4-4B4E-AC37-40E27EDE44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88AC55-A48F-44B6-81A7-ECC7E3D33527}" type="datetime">
              <a:rPr b="0" lang="en-US" sz="1200" spc="-1" strike="noStrike">
                <a:solidFill>
                  <a:srgbClr val="000000"/>
                </a:solidFill>
                <a:latin typeface="Arial"/>
              </a:rPr>
              <a:t>07/29/26</a:t>
            </a:fld>
            <a:r>
              <a:rPr b="0" lang="en-US" sz="1200" spc="-1" strike="noStrike">
                <a:solidFill>
                  <a:srgbClr val="000000"/>
                </a:solidFill>
                <a:latin typeface="Arial"/>
              </a:rPr>
              <a:t> </a:t>
            </a:r>
            <a:fld id="{0FB1BF7B-D792-4944-8907-7FAB0E9E0C5D}"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10C8BD9-597F-4592-9944-02D8A06D82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68589F-8D0C-4D32-A38F-2053BFD43F20}" type="datetime">
              <a:rPr b="0" lang="en-US" sz="1200" spc="-1" strike="noStrike">
                <a:solidFill>
                  <a:srgbClr val="000000"/>
                </a:solidFill>
                <a:latin typeface="Arial"/>
              </a:rPr>
              <a:t>07/29/26</a:t>
            </a:fld>
            <a:r>
              <a:rPr b="0" lang="en-US" sz="1200" spc="-1" strike="noStrike">
                <a:solidFill>
                  <a:srgbClr val="000000"/>
                </a:solidFill>
                <a:latin typeface="Arial"/>
              </a:rPr>
              <a:t> </a:t>
            </a:r>
            <a:fld id="{27474C08-8D85-4A88-8FBE-5505595B3A14}"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C3A4DF-A8AB-4692-9B22-FAFEDA2B2DE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64F113-3D70-4AB5-8BD6-A7BC1D9E69F8}" type="datetime">
              <a:rPr b="0" lang="en-US" sz="1200" spc="-1" strike="noStrike">
                <a:solidFill>
                  <a:srgbClr val="000000"/>
                </a:solidFill>
                <a:latin typeface="Arial"/>
              </a:rPr>
              <a:t>07/29/26</a:t>
            </a:fld>
            <a:r>
              <a:rPr b="0" lang="en-US" sz="1200" spc="-1" strike="noStrike">
                <a:solidFill>
                  <a:srgbClr val="000000"/>
                </a:solidFill>
                <a:latin typeface="Arial"/>
              </a:rPr>
              <a:t> </a:t>
            </a:r>
            <a:fld id="{06107FBE-9138-499F-87FD-FB641DBC4AC5}" type="datetime10">
              <a:rPr b="0" lang="en-US" sz="1200" spc="-1" strike="noStrike">
                <a:solidFill>
                  <a:srgbClr val="000000"/>
                </a:solidFill>
                <a:latin typeface="Arial"/>
              </a:rPr>
              <a:t>19:04</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9A18EA-4598-4862-A044-C4174748679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FF79C-3E2A-4F29-AEF9-C4BAFF6B6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E4B7-4411-40AF-AD9B-EB59E6445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A21B5-4494-4113-8FEA-CF9307AB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6674-E3E5-4B0E-B148-615B28C33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78C0E-EFAC-46DC-81B2-2C7D37E5E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8467C-22C2-4F06-8188-B470DEF44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CF84B-40A7-4549-B010-3BD3D8FE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6ADD7-9B76-4BCE-B13D-6BD64EFD4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86E37-8C65-41F3-86AC-3F1061DA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71D4B-E405-469A-9B50-5530BDB58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FA197-BF91-49CE-83C2-261844566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6692-76D9-4962-9993-02875808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504AE-AF22-4431-B946-7ED414C6F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7A2DD-D41E-4FE4-A5EC-913FA439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9B109-3875-4F50-8145-F0EBE2FCB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5051E-001C-4F50-9E8F-91A7EBAF7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C6C46-9FD4-4760-ABC5-31CCE6C01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54A44-07FD-455F-9E40-CD7A7408C6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8F3CD-1B93-48FB-9FEC-65DCDBF48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92AAF-B7B7-4CE5-A8D1-B4271D8E1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61808-60C0-4965-95B8-9A07E2782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AFDAB-3A82-4E12-9B08-018EBB92B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2624F-C837-4FE2-A384-09D045A8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D471B-7A63-4CC0-85A9-2C9579482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91A66-1258-416A-8985-546078E36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1B700-C439-4569-8575-DF660E3D0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7890F-E4F5-4B6F-82A5-D5D528C6B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1416D-2DB8-4AE9-9E17-88464FE57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5A2001-20DA-4D46-86DC-227560DF8C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B80E5-471D-42C1-84DF-090A2BE4C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995DF-A989-4963-A5CD-E3BE931111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BEAA2-2E31-46D4-93DB-676F3DC66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0F311-B4AC-45E8-A18F-C04DC8319D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1809-5C8D-4E14-AD81-2F27682F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F2571-1158-4AA7-8D67-CA084796C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92AA9-3CC5-4A73-A47E-E4291EA26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546DB-0730-410D-A6ED-0C84DFA44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4F041-1227-4F76-AE14-9DA9FAD75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5355E-7A05-47E3-8409-AED8489F3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6CC31-419D-487E-A74C-551F0EDBF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3306F-BC4B-4DAF-8B53-077B21C0E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959C15-ED1F-40A3-8ECA-6CC19B6F2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B6448-0F8D-4717-8792-4D97CD014A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325E0-110A-47C0-9FA4-88255DCAF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E919D-3AF4-413E-B469-98C9F0CB9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3642E-48E9-40CB-9AE4-5982925695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D991D-F1B4-4765-AC0F-91058D3E1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FFAC2-D622-463F-B2D9-780028BBE8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ABB1B-112E-427D-92D0-AB076A730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FF135-7330-4068-9C3C-D22B991DE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942F2-0E00-4DA4-9719-10F774339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ABB3F-02EF-49EB-8306-3AFE424CC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41C3B-8864-411A-AD69-ACD7D8EEA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61B10-1CD1-4348-B21B-73BB9849E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F1A1C4-E8E7-4DB5-B16F-0C358CB2D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818B-C993-48F9-8434-583AE652E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C1B4F2-ED37-4192-9A09-6A4C1DF27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E2F2C9-B153-42A1-87E3-5C2E5B0C1E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F4CD7-30FB-4460-9764-6F4487A79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58701-145D-46D4-B995-1B79EB1FC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98F23-83FE-4A9A-B84C-F7FA0A161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8F7ED-017E-4432-86BA-D16714A1D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2A40D-351E-40E1-AA90-1763808B2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8A5BA-2535-43BE-97DF-65D4F95E2E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185F3-5E5B-4CF7-BFD2-71DC00C64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73109-C986-476C-800B-25826F864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84320-A9B6-455B-9D02-080A598F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E1C95-C6A1-44B4-A10C-CEAD5EBC7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8C6DC2-1B5C-4133-BF09-B179EFEF8E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E5F4B-6670-4E92-97FC-FD733857F7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BDBC59-2C9F-4591-AFBA-A03ACC364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A8730-000B-4EBD-840F-75063C277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42CE0-08F5-4520-BB15-1F00521A4B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949083-4893-4B10-90BA-46A9CD8EB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6F0994-71BD-4A29-BBEE-5240D128C9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8886A2-BC33-4CCA-A18C-59864EF1C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AACB4-68F6-4CE5-BFA3-AF5B5EB6A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49EB-8B19-4B21-BB87-769E296E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5983A-F720-4AE2-AC42-F95BD662D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842DB5-4BC3-452E-9A40-73962F8271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3B68E-00B1-4391-BDB7-19E1F0AB0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F5B835-D67A-4BC1-B587-6875498423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26D95-13E4-4EE7-9C10-85B7462427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7B9C-DCA8-419C-9805-B89EA1F31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AC625-8601-4DCC-8FF8-C77F0BF5156A}"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FD716-0B45-4424-925A-F3537DEFC89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34271-B0AE-44ED-BCDE-EA04563D94BE}"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31B3C-CA63-4063-B5C4-0EED5DB8D8F8}"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9E501-7D29-4CAA-98C7-39917C80521A}"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0A258-C033-4709-A006-3879F907256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E6BD5-1E85-4387-BB3C-B42085702FDA}"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B2A0C-9C5C-4299-A5F1-25FEA8D2089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98A3C-26B9-42B0-8788-B44B363811C3}"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92ACB-E1C7-49B1-AD72-D59B958FE36F}"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4A188-81C1-459B-A3B2-E861D5C5D984}"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946C5-E79F-4649-A862-F69DC6EC9299}"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6D780-9634-4842-AEA4-BA5DF4147A1E}"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C157A-287F-4170-B082-137ECC69F97F}"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93708-C65E-4E84-AC51-942A3874AA1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11EF8-035D-4B63-844A-0BEAB8A8C4B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7D760-F85E-49C6-8FCB-94C6B3FDC5C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01632-622D-4C86-9713-57121CA76DF9}"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C4D23-7A4B-4963-98CD-119D912BE6E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8E2D3-C5D5-43C9-BF23-C1DEE58A114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C9A25-846C-4CAB-B327-02898B3FF572}"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F7E3A-F906-42FF-8BEE-DDB63FBA38D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4AC8B-9494-45D5-B611-B41229EDC176}"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95821-0B09-4843-A895-224AEB86D4D6}"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EE7F7-6008-4B56-A308-9E32EB959D10}"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BA8A3-5D31-46A4-A269-EC93808BC08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C283F-2A52-40C5-A31C-A0D44FA6070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