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2F4EEC9-2785-4D4C-81A6-66AC12831C4D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4C38E87-D1A8-436D-AC7B-A5D1AAA7F8ED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:0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3000" y="0"/>
            <a:ext cx="6883560" cy="51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-360" y="5162040"/>
            <a:ext cx="7010280" cy="413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F326347-9D9D-4936-B532-89C76914172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675D11C-518A-48B4-9B2E-07DA89A769F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1FC4B75-7ED9-4980-BDE3-7D4B583D4409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A7777C2-D4CA-4DB8-B744-72A7EB99845C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:0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FFA2754-A853-4800-BBC7-C3A763351C6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755CAF6-AE81-4B1E-9189-55164E10D83B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09DB555-FFCE-4933-86AD-3A812E5D013C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:0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E1063DC-FFD9-4063-9C1A-35980429DA9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2CC380C-0D4E-45B5-8CEF-1A2FE76F60BB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0E29E22-BF95-4713-8BFF-7D8D77D97C0A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:0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7DCE662-AAC5-462F-A1D5-25DFFFCC79E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C99A40E-2BD3-466F-95CC-E5F0076051B6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AABCFBF-336B-425E-9805-DA94146BC8D5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:0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0EDF141-3B66-442D-ADE9-2A524FDD330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D340E41-57C3-4F06-A1E6-5B67FD5A7F15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2B88140-7A57-4068-B5A9-9CF453B5EF60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:0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9FEAC27-728F-4B82-8F3D-E574FBF86EC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168EC4F-F298-47D8-B694-26D028B33B2F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5C9A1FC-8C80-408C-BA72-2E6009CC4E00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:0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7010280" cy="5257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827D73F-6CE7-4D0B-B3AF-31F1F24EECB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1B8FEFC-896C-42AB-B8F5-D710937D8246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2B75EC6-5DBC-438C-A2D2-37FDB58ABCC2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:0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AF93484-1A93-42F9-AA2E-1C8F541320A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23E087B-2359-49CA-B32D-21FDBAB9E787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4A1FBD7-1E67-4CD0-9ACD-6C853FD777CA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:04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CB8-E6A5-429C-AC7A-6EB9D060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BE6-F108-430F-B3E6-AA31E380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DEA0-ED39-4539-AC33-74BDA22E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67F-092D-411D-A44E-EF85B671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59C-76AE-44DC-B74E-0EEEA277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4E1-964C-47F1-9192-5A606CA5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5D0-EFE6-4545-B2D6-6730E707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966-E7B8-4DDF-9A85-98084A23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966-5CD9-435A-8665-84A61504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C87-1AF9-49EC-BDC2-72DE1A75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D875-6EA4-4A5F-92D8-19A8C0F2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335-D994-4172-ADBE-3A3B50AB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690480" indent="-233280">
              <a:spcBef>
                <a:spcPts val="1049"/>
              </a:spcBef>
              <a:buClr>
                <a:srgbClr val="66ff66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B3B0-B329-4A0E-88B9-05DA5ADFA070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1295280"/>
            <a:ext cx="3897360" cy="4230720"/>
          </a:xfrm>
          <a:custGeom>
            <a:avLst/>
            <a:gdLst/>
            <a:ahLst/>
            <a:rect l="l" t="t" r="r" b="b"/>
            <a:pathLst>
              <a:path w="549" h="595">
                <a:moveTo>
                  <a:pt x="354" y="250"/>
                </a:moveTo>
                <a:lnTo>
                  <a:pt x="322" y="247"/>
                </a:lnTo>
                <a:lnTo>
                  <a:pt x="322" y="416"/>
                </a:lnTo>
                <a:lnTo>
                  <a:pt x="273" y="426"/>
                </a:lnTo>
                <a:lnTo>
                  <a:pt x="273" y="244"/>
                </a:lnTo>
                <a:lnTo>
                  <a:pt x="234" y="237"/>
                </a:lnTo>
                <a:lnTo>
                  <a:pt x="234" y="172"/>
                </a:lnTo>
                <a:lnTo>
                  <a:pt x="354" y="192"/>
                </a:lnTo>
                <a:lnTo>
                  <a:pt x="354" y="250"/>
                </a:lnTo>
                <a:lnTo>
                  <a:pt x="354" y="250"/>
                </a:lnTo>
                <a:close/>
                <a:moveTo>
                  <a:pt x="448" y="396"/>
                </a:moveTo>
                <a:lnTo>
                  <a:pt x="419" y="400"/>
                </a:lnTo>
                <a:lnTo>
                  <a:pt x="416" y="377"/>
                </a:lnTo>
                <a:lnTo>
                  <a:pt x="387" y="380"/>
                </a:lnTo>
                <a:lnTo>
                  <a:pt x="383" y="406"/>
                </a:lnTo>
                <a:lnTo>
                  <a:pt x="348" y="413"/>
                </a:lnTo>
                <a:lnTo>
                  <a:pt x="383" y="198"/>
                </a:lnTo>
                <a:lnTo>
                  <a:pt x="419" y="205"/>
                </a:lnTo>
                <a:lnTo>
                  <a:pt x="448" y="396"/>
                </a:lnTo>
                <a:lnTo>
                  <a:pt x="448" y="396"/>
                </a:lnTo>
                <a:close/>
                <a:moveTo>
                  <a:pt x="409" y="335"/>
                </a:moveTo>
                <a:lnTo>
                  <a:pt x="403" y="266"/>
                </a:lnTo>
                <a:lnTo>
                  <a:pt x="400" y="266"/>
                </a:lnTo>
                <a:lnTo>
                  <a:pt x="393" y="335"/>
                </a:lnTo>
                <a:lnTo>
                  <a:pt x="409" y="335"/>
                </a:lnTo>
                <a:lnTo>
                  <a:pt x="409" y="335"/>
                </a:lnTo>
                <a:close/>
                <a:moveTo>
                  <a:pt x="250" y="595"/>
                </a:moveTo>
                <a:lnTo>
                  <a:pt x="279" y="592"/>
                </a:lnTo>
                <a:lnTo>
                  <a:pt x="309" y="588"/>
                </a:lnTo>
                <a:lnTo>
                  <a:pt x="338" y="582"/>
                </a:lnTo>
                <a:lnTo>
                  <a:pt x="367" y="572"/>
                </a:lnTo>
                <a:lnTo>
                  <a:pt x="393" y="559"/>
                </a:lnTo>
                <a:lnTo>
                  <a:pt x="416" y="543"/>
                </a:lnTo>
                <a:lnTo>
                  <a:pt x="439" y="527"/>
                </a:lnTo>
                <a:lnTo>
                  <a:pt x="461" y="507"/>
                </a:lnTo>
                <a:lnTo>
                  <a:pt x="481" y="488"/>
                </a:lnTo>
                <a:lnTo>
                  <a:pt x="497" y="465"/>
                </a:lnTo>
                <a:lnTo>
                  <a:pt x="513" y="439"/>
                </a:lnTo>
                <a:lnTo>
                  <a:pt x="526" y="413"/>
                </a:lnTo>
                <a:lnTo>
                  <a:pt x="536" y="387"/>
                </a:lnTo>
                <a:lnTo>
                  <a:pt x="543" y="357"/>
                </a:lnTo>
                <a:lnTo>
                  <a:pt x="549" y="328"/>
                </a:lnTo>
                <a:lnTo>
                  <a:pt x="549" y="296"/>
                </a:lnTo>
                <a:lnTo>
                  <a:pt x="549" y="266"/>
                </a:lnTo>
                <a:lnTo>
                  <a:pt x="543" y="237"/>
                </a:lnTo>
                <a:lnTo>
                  <a:pt x="536" y="208"/>
                </a:lnTo>
                <a:lnTo>
                  <a:pt x="526" y="182"/>
                </a:lnTo>
                <a:lnTo>
                  <a:pt x="513" y="156"/>
                </a:lnTo>
                <a:lnTo>
                  <a:pt x="497" y="130"/>
                </a:lnTo>
                <a:lnTo>
                  <a:pt x="481" y="107"/>
                </a:lnTo>
                <a:lnTo>
                  <a:pt x="461" y="87"/>
                </a:lnTo>
                <a:lnTo>
                  <a:pt x="439" y="68"/>
                </a:lnTo>
                <a:lnTo>
                  <a:pt x="416" y="52"/>
                </a:lnTo>
                <a:lnTo>
                  <a:pt x="393" y="35"/>
                </a:lnTo>
                <a:lnTo>
                  <a:pt x="367" y="22"/>
                </a:lnTo>
                <a:lnTo>
                  <a:pt x="338" y="13"/>
                </a:lnTo>
                <a:lnTo>
                  <a:pt x="309" y="6"/>
                </a:lnTo>
                <a:lnTo>
                  <a:pt x="279" y="3"/>
                </a:lnTo>
                <a:lnTo>
                  <a:pt x="250" y="0"/>
                </a:lnTo>
                <a:lnTo>
                  <a:pt x="231" y="0"/>
                </a:lnTo>
                <a:lnTo>
                  <a:pt x="211" y="3"/>
                </a:lnTo>
                <a:lnTo>
                  <a:pt x="192" y="6"/>
                </a:lnTo>
                <a:lnTo>
                  <a:pt x="175" y="9"/>
                </a:lnTo>
                <a:lnTo>
                  <a:pt x="156" y="13"/>
                </a:lnTo>
                <a:lnTo>
                  <a:pt x="140" y="19"/>
                </a:lnTo>
                <a:lnTo>
                  <a:pt x="123" y="29"/>
                </a:lnTo>
                <a:lnTo>
                  <a:pt x="107" y="35"/>
                </a:lnTo>
                <a:lnTo>
                  <a:pt x="91" y="45"/>
                </a:lnTo>
                <a:lnTo>
                  <a:pt x="74" y="55"/>
                </a:lnTo>
                <a:lnTo>
                  <a:pt x="61" y="65"/>
                </a:lnTo>
                <a:lnTo>
                  <a:pt x="45" y="78"/>
                </a:lnTo>
                <a:lnTo>
                  <a:pt x="35" y="91"/>
                </a:lnTo>
                <a:lnTo>
                  <a:pt x="22" y="104"/>
                </a:lnTo>
                <a:lnTo>
                  <a:pt x="9" y="117"/>
                </a:lnTo>
                <a:lnTo>
                  <a:pt x="0" y="133"/>
                </a:lnTo>
                <a:lnTo>
                  <a:pt x="84" y="146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33" y="156"/>
                </a:lnTo>
                <a:lnTo>
                  <a:pt x="218" y="169"/>
                </a:lnTo>
                <a:lnTo>
                  <a:pt x="218" y="435"/>
                </a:lnTo>
                <a:lnTo>
                  <a:pt x="162" y="445"/>
                </a:lnTo>
                <a:lnTo>
                  <a:pt x="162" y="328"/>
                </a:lnTo>
                <a:lnTo>
                  <a:pt x="162" y="328"/>
                </a:lnTo>
                <a:lnTo>
                  <a:pt x="162" y="322"/>
                </a:lnTo>
                <a:lnTo>
                  <a:pt x="166" y="315"/>
                </a:lnTo>
                <a:lnTo>
                  <a:pt x="166" y="305"/>
                </a:lnTo>
                <a:lnTo>
                  <a:pt x="166" y="296"/>
                </a:lnTo>
                <a:lnTo>
                  <a:pt x="166" y="286"/>
                </a:lnTo>
                <a:lnTo>
                  <a:pt x="166" y="276"/>
                </a:lnTo>
                <a:lnTo>
                  <a:pt x="166" y="273"/>
                </a:lnTo>
                <a:lnTo>
                  <a:pt x="166" y="273"/>
                </a:lnTo>
                <a:lnTo>
                  <a:pt x="162" y="273"/>
                </a:lnTo>
                <a:lnTo>
                  <a:pt x="162" y="273"/>
                </a:lnTo>
                <a:lnTo>
                  <a:pt x="162" y="273"/>
                </a:lnTo>
                <a:lnTo>
                  <a:pt x="130" y="449"/>
                </a:lnTo>
                <a:lnTo>
                  <a:pt x="78" y="458"/>
                </a:lnTo>
                <a:lnTo>
                  <a:pt x="39" y="266"/>
                </a:lnTo>
                <a:lnTo>
                  <a:pt x="39" y="266"/>
                </a:lnTo>
                <a:lnTo>
                  <a:pt x="39" y="273"/>
                </a:lnTo>
                <a:lnTo>
                  <a:pt x="39" y="283"/>
                </a:lnTo>
                <a:lnTo>
                  <a:pt x="39" y="292"/>
                </a:lnTo>
                <a:lnTo>
                  <a:pt x="39" y="305"/>
                </a:lnTo>
                <a:lnTo>
                  <a:pt x="39" y="315"/>
                </a:lnTo>
                <a:lnTo>
                  <a:pt x="39" y="325"/>
                </a:lnTo>
                <a:lnTo>
                  <a:pt x="42" y="331"/>
                </a:lnTo>
                <a:lnTo>
                  <a:pt x="42" y="335"/>
                </a:lnTo>
                <a:lnTo>
                  <a:pt x="42" y="465"/>
                </a:lnTo>
                <a:lnTo>
                  <a:pt x="6" y="471"/>
                </a:lnTo>
                <a:lnTo>
                  <a:pt x="16" y="484"/>
                </a:lnTo>
                <a:lnTo>
                  <a:pt x="29" y="497"/>
                </a:lnTo>
                <a:lnTo>
                  <a:pt x="42" y="510"/>
                </a:lnTo>
                <a:lnTo>
                  <a:pt x="52" y="523"/>
                </a:lnTo>
                <a:lnTo>
                  <a:pt x="68" y="533"/>
                </a:lnTo>
                <a:lnTo>
                  <a:pt x="81" y="543"/>
                </a:lnTo>
                <a:lnTo>
                  <a:pt x="97" y="553"/>
                </a:lnTo>
                <a:lnTo>
                  <a:pt x="110" y="559"/>
                </a:lnTo>
                <a:lnTo>
                  <a:pt x="127" y="569"/>
                </a:lnTo>
                <a:lnTo>
                  <a:pt x="143" y="575"/>
                </a:lnTo>
                <a:lnTo>
                  <a:pt x="159" y="582"/>
                </a:lnTo>
                <a:lnTo>
                  <a:pt x="179" y="585"/>
                </a:lnTo>
                <a:lnTo>
                  <a:pt x="195" y="588"/>
                </a:lnTo>
                <a:lnTo>
                  <a:pt x="211" y="592"/>
                </a:lnTo>
                <a:lnTo>
                  <a:pt x="231" y="595"/>
                </a:lnTo>
                <a:lnTo>
                  <a:pt x="250" y="595"/>
                </a:lnTo>
                <a:lnTo>
                  <a:pt x="250" y="595"/>
                </a:lnTo>
                <a:close/>
              </a:path>
            </a:pathLst>
          </a:custGeom>
          <a:solidFill>
            <a:srgbClr val="0000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46080" y="1998720"/>
            <a:ext cx="728352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NYCT Subway Car Program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ogress Update to CPOC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ichael P. Wetherell, P.E.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Vice President and Chief Mechanical Officer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epartment of Subways</a:t>
            </a:r>
            <a:br>
              <a:rPr sz="16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vember 26, 2012</a:t>
            </a:r>
            <a:endParaRPr b="1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32400" y="6216480"/>
            <a:ext cx="28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NYCT PC Bullet"/>
              </a:rPr>
              <a:t>,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89080" y="874800"/>
          <a:ext cx="8291520" cy="30744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new ‘A’ Division cars + 380 converted R142A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(46) 11-car trains for Flushing CBTC / </a:t>
                      </a:r>
                      <a:r>
                        <a:rPr b="0" lang="en-US" sz="1200" spc="-1" strike="noStrike">
                          <a:solidFill>
                            <a:srgbClr val="990099"/>
                          </a:solidFill>
                          <a:latin typeface="NYCT PC Bullet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ne Extension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/30/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and Conditional Acceptance Completion: 2/28/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6.5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$497.2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3.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90960" y="56340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4040" y="4413240"/>
            <a:ext cx="8296560" cy="229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ingle C-car scheduled to be delivered early November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of October 18, 2012: 70 cars in production at Kawasaki’s US faciliti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 the Base Order are 90% complete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go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 of Base Contract trains by end of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of RTO personnel for Qualification Test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Unit Qualification Testing on NYCT property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080" y="410220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FCC-D9A6-4F52-865F-2AC24463ADF9}" type="slidenum">
              <a:t>2</a:t>
            </a:fld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3720" y="717480"/>
            <a:ext cx="316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R188 11-Car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Train Con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814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en-US" sz="16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is the only NYCT subway line that runs 11-car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7440" y="1808280"/>
            <a:ext cx="8709120" cy="184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475-E56B-4543-BBC1-C68776762806}" type="slidenum">
              <a:t>3</a:t>
            </a:fld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6120" y="590400"/>
            <a:ext cx="8620200" cy="5353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Delivery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267160"/>
            <a:ext cx="843912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Order deliveries complete by Decemb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ew Option train scheduled to be delivered Ma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ht new trains forecasted to be conditionally accepted in time for opening of </a:t>
            </a:r>
            <a:r>
              <a:rPr b="0" lang="en-US" sz="14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e 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ion of delivery of all new and converted trains scheduled for 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ushing Line CBTC forecasted completion is Novem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00200" y="984240"/>
          <a:ext cx="579744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84240"/>
                    <a:ext cx="57974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E4A-C464-427C-BEB6-CCCC855F95E3}" type="slidenum">
              <a:t>4</a:t>
            </a:fld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85840" y="1092240"/>
          <a:ext cx="8545320" cy="3143160"/>
        </p:xfrm>
        <a:graphic>
          <a:graphicData uri="http://schemas.openxmlformats.org/drawingml/2006/table">
            <a:tbl>
              <a:tblPr/>
              <a:tblGrid>
                <a:gridCol w="857160"/>
                <a:gridCol w="3657600"/>
                <a:gridCol w="2057400"/>
                <a:gridCol w="1973160"/>
              </a:tblGrid>
              <a:tr h="3787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9069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new single C-car for placement within the 10 R142A conversion car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two new train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Order Conditional Accep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5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 Order Car Delivery Comple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60440" indent="-460440"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Activity an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63520" y="480060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50920" y="5099040"/>
            <a:ext cx="616428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ificant impacts on Cost and/or Construction/Beneficial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llow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s that can lead to cost increase or schedule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near-term impact on cost or schedu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819-50CC-4249-90E5-2086DDF947ED}" type="slidenum">
              <a:t>5</a:t>
            </a:fld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89080" y="1092240"/>
          <a:ext cx="8291520" cy="31986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4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60-foot ‘B’ Division cars (design based on R160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provide 36½ tr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5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ed: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4/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test train: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12/22/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roduction unit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7/27/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Completion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0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35.6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84040" y="4797000"/>
            <a:ext cx="8267760" cy="190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warded to Bombardier Transit Corporation on June 4, 201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Master Program Schedule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Technical Specification Review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Process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080" y="448632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79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487-4AB5-4954-A1D4-996A8B63801B}" type="slidenum">
              <a:t>6</a:t>
            </a:fld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89080" y="1092240"/>
          <a:ext cx="8291520" cy="27972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2680" indent="-1126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2 60-foot ‘B’ Div cars built by ALSKAW replaces older 60-foot c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cars delivered May 6,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lose-Out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490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3.0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49.2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42.3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4647960"/>
            <a:ext cx="826776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Month MDBF: 645,207 miles (September 2012)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ars off of warranty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s: 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N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M</a:t>
            </a:r>
            <a:r>
              <a:rPr b="0" lang="en-US" sz="1600" spc="-1" strike="noStrike">
                <a:solidFill>
                  <a:srgbClr val="bb8d4c"/>
                </a:solidFill>
                <a:latin typeface="NYCT PC Bullet"/>
              </a:rPr>
              <a:t>JZ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Q</a:t>
            </a:r>
            <a:r>
              <a:rPr b="0" lang="en-US" sz="1600" spc="-1" strike="noStrike">
                <a:solidFill>
                  <a:srgbClr val="285091"/>
                </a:solidFill>
                <a:latin typeface="NYCT PC Bullet"/>
              </a:rPr>
              <a:t>E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F</a:t>
            </a:r>
            <a:r>
              <a:rPr b="0" lang="en-US" sz="1600" spc="-1" strike="noStrike">
                <a:solidFill>
                  <a:srgbClr val="808183"/>
                </a:solidFill>
                <a:latin typeface="NYCT PC Bullet"/>
              </a:rPr>
              <a:t>L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field modifications and deliverabl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out Forecast for June 201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2080" y="4191120"/>
            <a:ext cx="1370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60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FC6-F96E-4CC6-9294-7535616B7F20}" type="slidenum">
              <a:t>7</a:t>
            </a:fld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89080" y="1095480"/>
          <a:ext cx="8291520" cy="4962240"/>
        </p:xfrm>
        <a:graphic>
          <a:graphicData uri="http://schemas.openxmlformats.org/drawingml/2006/table">
            <a:tbl>
              <a:tblPr/>
              <a:tblGrid>
                <a:gridCol w="1387440"/>
                <a:gridCol w="6904080"/>
              </a:tblGrid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R211 ‘B’ Division cars to replace 752 R46 c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fleet growth cars (current forecast – 84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ars for SIR fleet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design to address NYCT’s 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ster Plan approved in December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Award of Technical Consultant (Design Ph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P Negotiations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MTA Board Approval: Nov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 Contract: Dec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 Purchase Award Proposed for 2015 – 2019 Capital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211 Future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C89-F9B9-49D1-A0B8-96C2178D0F2F}" type="slidenum">
              <a:t>8</a:t>
            </a:fld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3:04:55Z</dcterms:created>
  <dc:creator/>
  <dc:description>Change from v8.2:
Use Sep 2012 R160 MDBF
R188 Base Cond Accept from Jun to May 2013</dc:description>
  <dc:language>en-US</dc:language>
  <cp:lastModifiedBy>NYCT</cp:lastModifiedBy>
  <cp:lastPrinted>2003-02-07T16:33:35Z</cp:lastPrinted>
  <dcterms:modified xsi:type="dcterms:W3CDTF">2012-11-26T22:33:07Z</dcterms:modified>
  <cp:revision>2247</cp:revision>
  <dc:subject/>
  <dc:title>Subway Car Program Update</dc:title>
</cp:coreProperties>
</file>