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0" y="8381880"/>
            <a:ext cx="1373040" cy="9144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lstStyle>
            <a:lvl1pPr indent="0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F2441506-CACC-40EA-B0A6-59A604962BC5}" type="datetime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D7181E99-872D-4153-960E-77CA02A67425}" type="datetime10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8:29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63000" y="0"/>
            <a:ext cx="6883560" cy="5162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-360" y="5162040"/>
            <a:ext cx="7010280" cy="41338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lstStyle>
            <a:lvl1pPr indent="0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332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4ACEC4EC-BCC0-4F00-A29F-5DBC18057BBA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397332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DF954632-6BBF-4688-A263-878230896611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0" y="8381880"/>
            <a:ext cx="1373040" cy="9144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9C9D4414-F244-46AA-8E27-E65AC5ADFDAF}" type="datetime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A3180254-EBF0-4C7F-871E-C24AC9753532}" type="datetime10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8:29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440" y="0"/>
            <a:ext cx="7010640" cy="52578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-360" y="5257800"/>
            <a:ext cx="7010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397332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CD5AC74A-10F4-4E7C-8513-F89FA54826C5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0" y="8381880"/>
            <a:ext cx="1373040" cy="9144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7A3AA8D6-C0BE-4C78-9569-7E971111B174}" type="datetime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615E6CA5-8D22-4872-A9AA-48F8CB21D733}" type="datetime10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8:29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440" y="0"/>
            <a:ext cx="7010640" cy="52578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-360" y="5257800"/>
            <a:ext cx="7010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397332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5E393E52-EE14-4DC8-9F80-EC41D9F50579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0" y="8381880"/>
            <a:ext cx="1373040" cy="9144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2FED8D33-5D57-476D-8261-9C9EA8D78F6B}" type="datetime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18FA4C52-54D5-485F-9E44-876EBAAC6010}" type="datetime10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8:29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440" y="0"/>
            <a:ext cx="7010640" cy="52578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-360" y="5257800"/>
            <a:ext cx="7010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397332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00499F99-A850-4F2E-940C-E2B5BE49FF47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0" y="8381880"/>
            <a:ext cx="1373040" cy="9144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158703FA-D642-4B87-8C7A-9B636CBE7595}" type="datetime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2759671C-4B5E-4C3A-99D9-BEFC1C34F7C4}" type="datetime10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8:29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440" y="0"/>
            <a:ext cx="7010640" cy="52578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-360" y="5257800"/>
            <a:ext cx="7010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397332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D3AFE0D4-9319-475B-94AE-7EED93E30B72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0" y="8381880"/>
            <a:ext cx="1373040" cy="9144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90BD7E35-DC7D-4E8D-8367-951B79D333A7}" type="datetime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2379B435-4A3E-4C37-A3A0-61A8CE7E56E7}" type="datetime10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8:29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440" y="0"/>
            <a:ext cx="7010640" cy="52578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-360" y="5257800"/>
            <a:ext cx="7010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397332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DD7EF075-8BD4-4F35-8357-CDB55C371374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0" y="8381880"/>
            <a:ext cx="1373040" cy="9144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0DF0B792-A862-4776-9D3A-C8B8848F0B22}" type="datetime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AB08D640-0FD1-4160-AC1E-6D5E14BA30A7}" type="datetime10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8:29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0" y="0"/>
            <a:ext cx="7010280" cy="52578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-360" y="5257800"/>
            <a:ext cx="7010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397332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F30E1DAB-BE9F-4093-B853-6535938799EF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0" y="8381880"/>
            <a:ext cx="1373040" cy="9144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676FCDE5-81A3-4547-ADB9-426DB4013B8A}" type="datetime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59453554-B42E-4C98-8645-74AD2F91734E}" type="datetime10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8:29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440" y="0"/>
            <a:ext cx="7010640" cy="52578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-360" y="5257800"/>
            <a:ext cx="7010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397332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BD2E1314-0DC7-450F-A565-DC2FEFF8BA5E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0" y="8381880"/>
            <a:ext cx="1373040" cy="9144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DEB7091C-3863-4C66-8DD9-A4447D3373AB}" type="datetime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A131C624-F0D9-41C8-9891-A99CCB28A826}" type="datetime10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8:29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440" y="0"/>
            <a:ext cx="7010640" cy="52578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-360" y="5257800"/>
            <a:ext cx="7010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19751-EBAA-4169-8DE6-D871381A8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26400"/>
            <a:ext cx="82296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D6E83-4125-498B-A29D-67C94A6F9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26400"/>
            <a:ext cx="40158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226400"/>
            <a:ext cx="40158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84A45-D944-472E-B85A-7D980A011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26400"/>
            <a:ext cx="26496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226400"/>
            <a:ext cx="26496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226400"/>
            <a:ext cx="26496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8EE6B-C8F7-4F11-BCCF-F62EB0DA3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502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2981E-5190-4C8F-9CF2-7F78C3BAB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A5763-A899-48B2-A9EC-753F175B3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F1288-3F95-4491-98F8-07C34320D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8EB6B-F205-41A0-8D55-CF0DD3917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6A309-EC74-4FDD-95D1-172F841A9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26400"/>
            <a:ext cx="40158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2EEA6-FF36-4F43-95D6-7F9716454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226400"/>
            <a:ext cx="40158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E0FDA-2ABC-4968-BA92-04DC49585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26400"/>
            <a:ext cx="82296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C1995-55F2-483D-AF9E-8D8203CF5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49"/>
              </a:spcBef>
              <a:buClr>
                <a:srgbClr val="66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lvl="1" marL="690480" indent="-233280">
              <a:spcBef>
                <a:spcPts val="1049"/>
              </a:spcBef>
              <a:buClr>
                <a:srgbClr val="66ff66"/>
              </a:buClr>
              <a:buFont typeface="Times New Roman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lvl="2" marL="1143000" indent="-228600">
              <a:spcBef>
                <a:spcPts val="1049"/>
              </a:spcBef>
              <a:buClr>
                <a:srgbClr val="66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lvl="3" marL="1600200" indent="-228600">
              <a:spcBef>
                <a:spcPts val="1049"/>
              </a:spcBef>
              <a:buClr>
                <a:srgbClr val="66ff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lvl="4" marL="2057400" indent="-228600">
              <a:spcBef>
                <a:spcPts val="1049"/>
              </a:spcBef>
              <a:buClr>
                <a:srgbClr val="66ff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lvl="5" marL="2057400" indent="-228600">
              <a:spcBef>
                <a:spcPts val="10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lvl="6" marL="2057400" indent="-228600">
              <a:spcBef>
                <a:spcPts val="10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1C8B6-4038-4BF7-9AE4-6CA5D74209F8}" type="slidenum">
              <a:rPr b="0" lang="en-US" sz="10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8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666880" y="1295280"/>
            <a:ext cx="3897360" cy="4230720"/>
          </a:xfrm>
          <a:custGeom>
            <a:avLst/>
            <a:gdLst/>
            <a:ahLst/>
            <a:rect l="l" t="t" r="r" b="b"/>
            <a:pathLst>
              <a:path w="549" h="595">
                <a:moveTo>
                  <a:pt x="354" y="250"/>
                </a:moveTo>
                <a:lnTo>
                  <a:pt x="322" y="247"/>
                </a:lnTo>
                <a:lnTo>
                  <a:pt x="322" y="416"/>
                </a:lnTo>
                <a:lnTo>
                  <a:pt x="273" y="426"/>
                </a:lnTo>
                <a:lnTo>
                  <a:pt x="273" y="244"/>
                </a:lnTo>
                <a:lnTo>
                  <a:pt x="234" y="237"/>
                </a:lnTo>
                <a:lnTo>
                  <a:pt x="234" y="172"/>
                </a:lnTo>
                <a:lnTo>
                  <a:pt x="354" y="192"/>
                </a:lnTo>
                <a:lnTo>
                  <a:pt x="354" y="250"/>
                </a:lnTo>
                <a:lnTo>
                  <a:pt x="354" y="250"/>
                </a:lnTo>
                <a:close/>
                <a:moveTo>
                  <a:pt x="448" y="396"/>
                </a:moveTo>
                <a:lnTo>
                  <a:pt x="419" y="400"/>
                </a:lnTo>
                <a:lnTo>
                  <a:pt x="416" y="377"/>
                </a:lnTo>
                <a:lnTo>
                  <a:pt x="387" y="380"/>
                </a:lnTo>
                <a:lnTo>
                  <a:pt x="383" y="406"/>
                </a:lnTo>
                <a:lnTo>
                  <a:pt x="348" y="413"/>
                </a:lnTo>
                <a:lnTo>
                  <a:pt x="383" y="198"/>
                </a:lnTo>
                <a:lnTo>
                  <a:pt x="419" y="205"/>
                </a:lnTo>
                <a:lnTo>
                  <a:pt x="448" y="396"/>
                </a:lnTo>
                <a:lnTo>
                  <a:pt x="448" y="396"/>
                </a:lnTo>
                <a:close/>
                <a:moveTo>
                  <a:pt x="409" y="335"/>
                </a:moveTo>
                <a:lnTo>
                  <a:pt x="403" y="266"/>
                </a:lnTo>
                <a:lnTo>
                  <a:pt x="400" y="266"/>
                </a:lnTo>
                <a:lnTo>
                  <a:pt x="393" y="335"/>
                </a:lnTo>
                <a:lnTo>
                  <a:pt x="409" y="335"/>
                </a:lnTo>
                <a:lnTo>
                  <a:pt x="409" y="335"/>
                </a:lnTo>
                <a:close/>
                <a:moveTo>
                  <a:pt x="250" y="595"/>
                </a:moveTo>
                <a:lnTo>
                  <a:pt x="279" y="592"/>
                </a:lnTo>
                <a:lnTo>
                  <a:pt x="309" y="588"/>
                </a:lnTo>
                <a:lnTo>
                  <a:pt x="338" y="582"/>
                </a:lnTo>
                <a:lnTo>
                  <a:pt x="367" y="572"/>
                </a:lnTo>
                <a:lnTo>
                  <a:pt x="393" y="559"/>
                </a:lnTo>
                <a:lnTo>
                  <a:pt x="416" y="543"/>
                </a:lnTo>
                <a:lnTo>
                  <a:pt x="439" y="527"/>
                </a:lnTo>
                <a:lnTo>
                  <a:pt x="461" y="507"/>
                </a:lnTo>
                <a:lnTo>
                  <a:pt x="481" y="488"/>
                </a:lnTo>
                <a:lnTo>
                  <a:pt x="497" y="465"/>
                </a:lnTo>
                <a:lnTo>
                  <a:pt x="513" y="439"/>
                </a:lnTo>
                <a:lnTo>
                  <a:pt x="526" y="413"/>
                </a:lnTo>
                <a:lnTo>
                  <a:pt x="536" y="387"/>
                </a:lnTo>
                <a:lnTo>
                  <a:pt x="543" y="357"/>
                </a:lnTo>
                <a:lnTo>
                  <a:pt x="549" y="328"/>
                </a:lnTo>
                <a:lnTo>
                  <a:pt x="549" y="296"/>
                </a:lnTo>
                <a:lnTo>
                  <a:pt x="549" y="266"/>
                </a:lnTo>
                <a:lnTo>
                  <a:pt x="543" y="237"/>
                </a:lnTo>
                <a:lnTo>
                  <a:pt x="536" y="208"/>
                </a:lnTo>
                <a:lnTo>
                  <a:pt x="526" y="182"/>
                </a:lnTo>
                <a:lnTo>
                  <a:pt x="513" y="156"/>
                </a:lnTo>
                <a:lnTo>
                  <a:pt x="497" y="130"/>
                </a:lnTo>
                <a:lnTo>
                  <a:pt x="481" y="107"/>
                </a:lnTo>
                <a:lnTo>
                  <a:pt x="461" y="87"/>
                </a:lnTo>
                <a:lnTo>
                  <a:pt x="439" y="68"/>
                </a:lnTo>
                <a:lnTo>
                  <a:pt x="416" y="52"/>
                </a:lnTo>
                <a:lnTo>
                  <a:pt x="393" y="35"/>
                </a:lnTo>
                <a:lnTo>
                  <a:pt x="367" y="22"/>
                </a:lnTo>
                <a:lnTo>
                  <a:pt x="338" y="13"/>
                </a:lnTo>
                <a:lnTo>
                  <a:pt x="309" y="6"/>
                </a:lnTo>
                <a:lnTo>
                  <a:pt x="279" y="3"/>
                </a:lnTo>
                <a:lnTo>
                  <a:pt x="250" y="0"/>
                </a:lnTo>
                <a:lnTo>
                  <a:pt x="231" y="0"/>
                </a:lnTo>
                <a:lnTo>
                  <a:pt x="211" y="3"/>
                </a:lnTo>
                <a:lnTo>
                  <a:pt x="192" y="6"/>
                </a:lnTo>
                <a:lnTo>
                  <a:pt x="175" y="9"/>
                </a:lnTo>
                <a:lnTo>
                  <a:pt x="156" y="13"/>
                </a:lnTo>
                <a:lnTo>
                  <a:pt x="140" y="19"/>
                </a:lnTo>
                <a:lnTo>
                  <a:pt x="123" y="29"/>
                </a:lnTo>
                <a:lnTo>
                  <a:pt x="107" y="35"/>
                </a:lnTo>
                <a:lnTo>
                  <a:pt x="91" y="45"/>
                </a:lnTo>
                <a:lnTo>
                  <a:pt x="74" y="55"/>
                </a:lnTo>
                <a:lnTo>
                  <a:pt x="61" y="65"/>
                </a:lnTo>
                <a:lnTo>
                  <a:pt x="45" y="78"/>
                </a:lnTo>
                <a:lnTo>
                  <a:pt x="35" y="91"/>
                </a:lnTo>
                <a:lnTo>
                  <a:pt x="22" y="104"/>
                </a:lnTo>
                <a:lnTo>
                  <a:pt x="9" y="117"/>
                </a:lnTo>
                <a:lnTo>
                  <a:pt x="0" y="133"/>
                </a:lnTo>
                <a:lnTo>
                  <a:pt x="84" y="146"/>
                </a:lnTo>
                <a:lnTo>
                  <a:pt x="107" y="318"/>
                </a:lnTo>
                <a:lnTo>
                  <a:pt x="107" y="318"/>
                </a:lnTo>
                <a:lnTo>
                  <a:pt x="107" y="318"/>
                </a:lnTo>
                <a:lnTo>
                  <a:pt x="107" y="318"/>
                </a:lnTo>
                <a:lnTo>
                  <a:pt x="107" y="318"/>
                </a:lnTo>
                <a:lnTo>
                  <a:pt x="133" y="156"/>
                </a:lnTo>
                <a:lnTo>
                  <a:pt x="218" y="169"/>
                </a:lnTo>
                <a:lnTo>
                  <a:pt x="218" y="435"/>
                </a:lnTo>
                <a:lnTo>
                  <a:pt x="162" y="445"/>
                </a:lnTo>
                <a:lnTo>
                  <a:pt x="162" y="328"/>
                </a:lnTo>
                <a:lnTo>
                  <a:pt x="162" y="328"/>
                </a:lnTo>
                <a:lnTo>
                  <a:pt x="162" y="322"/>
                </a:lnTo>
                <a:lnTo>
                  <a:pt x="166" y="315"/>
                </a:lnTo>
                <a:lnTo>
                  <a:pt x="166" y="305"/>
                </a:lnTo>
                <a:lnTo>
                  <a:pt x="166" y="296"/>
                </a:lnTo>
                <a:lnTo>
                  <a:pt x="166" y="286"/>
                </a:lnTo>
                <a:lnTo>
                  <a:pt x="166" y="276"/>
                </a:lnTo>
                <a:lnTo>
                  <a:pt x="166" y="273"/>
                </a:lnTo>
                <a:lnTo>
                  <a:pt x="166" y="273"/>
                </a:lnTo>
                <a:lnTo>
                  <a:pt x="162" y="273"/>
                </a:lnTo>
                <a:lnTo>
                  <a:pt x="162" y="273"/>
                </a:lnTo>
                <a:lnTo>
                  <a:pt x="162" y="273"/>
                </a:lnTo>
                <a:lnTo>
                  <a:pt x="130" y="449"/>
                </a:lnTo>
                <a:lnTo>
                  <a:pt x="78" y="458"/>
                </a:lnTo>
                <a:lnTo>
                  <a:pt x="39" y="266"/>
                </a:lnTo>
                <a:lnTo>
                  <a:pt x="39" y="266"/>
                </a:lnTo>
                <a:lnTo>
                  <a:pt x="39" y="273"/>
                </a:lnTo>
                <a:lnTo>
                  <a:pt x="39" y="283"/>
                </a:lnTo>
                <a:lnTo>
                  <a:pt x="39" y="292"/>
                </a:lnTo>
                <a:lnTo>
                  <a:pt x="39" y="305"/>
                </a:lnTo>
                <a:lnTo>
                  <a:pt x="39" y="315"/>
                </a:lnTo>
                <a:lnTo>
                  <a:pt x="39" y="325"/>
                </a:lnTo>
                <a:lnTo>
                  <a:pt x="42" y="331"/>
                </a:lnTo>
                <a:lnTo>
                  <a:pt x="42" y="335"/>
                </a:lnTo>
                <a:lnTo>
                  <a:pt x="42" y="465"/>
                </a:lnTo>
                <a:lnTo>
                  <a:pt x="6" y="471"/>
                </a:lnTo>
                <a:lnTo>
                  <a:pt x="16" y="484"/>
                </a:lnTo>
                <a:lnTo>
                  <a:pt x="29" y="497"/>
                </a:lnTo>
                <a:lnTo>
                  <a:pt x="42" y="510"/>
                </a:lnTo>
                <a:lnTo>
                  <a:pt x="52" y="523"/>
                </a:lnTo>
                <a:lnTo>
                  <a:pt x="68" y="533"/>
                </a:lnTo>
                <a:lnTo>
                  <a:pt x="81" y="543"/>
                </a:lnTo>
                <a:lnTo>
                  <a:pt x="97" y="553"/>
                </a:lnTo>
                <a:lnTo>
                  <a:pt x="110" y="559"/>
                </a:lnTo>
                <a:lnTo>
                  <a:pt x="127" y="569"/>
                </a:lnTo>
                <a:lnTo>
                  <a:pt x="143" y="575"/>
                </a:lnTo>
                <a:lnTo>
                  <a:pt x="159" y="582"/>
                </a:lnTo>
                <a:lnTo>
                  <a:pt x="179" y="585"/>
                </a:lnTo>
                <a:lnTo>
                  <a:pt x="195" y="588"/>
                </a:lnTo>
                <a:lnTo>
                  <a:pt x="211" y="592"/>
                </a:lnTo>
                <a:lnTo>
                  <a:pt x="231" y="595"/>
                </a:lnTo>
                <a:lnTo>
                  <a:pt x="250" y="595"/>
                </a:lnTo>
                <a:lnTo>
                  <a:pt x="250" y="595"/>
                </a:lnTo>
                <a:close/>
              </a:path>
            </a:pathLst>
          </a:custGeom>
          <a:solidFill>
            <a:srgbClr val="000099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46080" y="1998720"/>
            <a:ext cx="7283520" cy="29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Verdana"/>
              </a:rPr>
              <a:t>NYCT Subway Car Program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Verdana"/>
              </a:rPr>
              <a:t>Progress Update to CPOC</a:t>
            </a:r>
            <a:br>
              <a:rPr sz="3200"/>
            </a:br>
            <a:br>
              <a:rPr sz="2000"/>
            </a:b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Michael P. Wetherell, P.E.</a:t>
            </a:r>
            <a:br>
              <a:rPr sz="2000"/>
            </a:b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Vice President and Chief Mechanical Officer</a:t>
            </a:r>
            <a:br>
              <a:rPr sz="2000"/>
            </a:b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Department of Subways</a:t>
            </a:r>
            <a:br>
              <a:rPr sz="1600"/>
            </a:b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November 26, 2012</a:t>
            </a:r>
            <a:endParaRPr b="1" lang="en-US" sz="20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332400" y="6216480"/>
            <a:ext cx="281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NYCT PC Bullet"/>
              </a:rPr>
              <a:t>,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Ba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289080" y="874800"/>
          <a:ext cx="8291520" cy="3074400"/>
        </p:xfrm>
        <a:graphic>
          <a:graphicData uri="http://schemas.openxmlformats.org/drawingml/2006/table">
            <a:tbl>
              <a:tblPr/>
              <a:tblGrid>
                <a:gridCol w="1230120"/>
                <a:gridCol w="7061400"/>
              </a:tblGrid>
              <a:tr h="338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e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en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1014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op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dec" pos="860400"/>
                          <a:tab algn="dec" pos="1660680"/>
                          <a:tab algn="dec" pos="24033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6 new ‘A’ Division cars + 380 converted R142A ca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403200" indent="-174600">
                        <a:lnSpc>
                          <a:spcPct val="100000"/>
                        </a:lnSpc>
                        <a:spcBef>
                          <a:spcPts val="150"/>
                        </a:spcBef>
                        <a:buClr>
                          <a:srgbClr val="000000"/>
                        </a:buClr>
                        <a:buFont typeface="Times New Roman"/>
                        <a:buChar char="♦"/>
                        <a:tabLst>
                          <a:tab algn="dec" pos="860400"/>
                          <a:tab algn="dec" pos="1660680"/>
                          <a:tab algn="dec" pos="24033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se Order: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 new +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converted ca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403200" indent="-174600">
                        <a:lnSpc>
                          <a:spcPct val="100000"/>
                        </a:lnSpc>
                        <a:spcBef>
                          <a:spcPts val="150"/>
                        </a:spcBef>
                        <a:buClr>
                          <a:srgbClr val="000000"/>
                        </a:buClr>
                        <a:buFont typeface="Times New Roman"/>
                        <a:buChar char="♦"/>
                        <a:tabLst>
                          <a:tab algn="dec" pos="860400"/>
                          <a:tab algn="dec" pos="1660680"/>
                          <a:tab algn="dec" pos="24033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tion Order: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3 new +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0 converted ca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403200" indent="-174600">
                        <a:lnSpc>
                          <a:spcPct val="100000"/>
                        </a:lnSpc>
                        <a:spcBef>
                          <a:spcPts val="150"/>
                        </a:spcBef>
                        <a:buClr>
                          <a:srgbClr val="000000"/>
                        </a:buClr>
                        <a:buFont typeface="Times New Roman"/>
                        <a:buChar char="♦"/>
                        <a:tabLst>
                          <a:tab algn="dec" pos="860400"/>
                          <a:tab algn="dec" pos="1660680"/>
                          <a:tab algn="dec" pos="24033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vide (46) 11-car trains for Flushing CBTC / </a:t>
                      </a:r>
                      <a:r>
                        <a:rPr b="0" lang="en-US" sz="1200" spc="-1" strike="noStrike">
                          <a:solidFill>
                            <a:srgbClr val="990099"/>
                          </a:solidFill>
                          <a:latin typeface="NYCT PC Bullet"/>
                        </a:rPr>
                        <a:t>7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Line Extension servi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60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hedu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746280"/>
                          <a:tab algn="r" pos="22860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se Awarded: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/28/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746280"/>
                          <a:tab algn="r" pos="22860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tion Awarded: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12/30/20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746280"/>
                          <a:tab algn="r" pos="22860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livery and Conditional Acceptance Completion: 2/28/20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60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dge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dec" pos="12589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se: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16.5 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dec" pos="12589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tion: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$497.2 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dec" pos="12589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: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613.7 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52" name=""/>
          <p:cNvSpPr/>
          <p:nvPr/>
        </p:nvSpPr>
        <p:spPr>
          <a:xfrm>
            <a:off x="390960" y="563400"/>
            <a:ext cx="179784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Verdana"/>
                <a:ea typeface="Arial"/>
              </a:rPr>
              <a:t>Overall Stat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284040" y="4413240"/>
            <a:ext cx="8296560" cy="22924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ctr">
            <a:normAutofit/>
          </a:bodyPr>
          <a:p>
            <a:pPr marL="1144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gress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  <a:p>
            <a:pPr lvl="1" marL="343080" indent="-11448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SzPct val="80000"/>
              <a:buFont typeface="Times New Roman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w single C-car scheduled to be delivered early November 2012</a:t>
            </a:r>
            <a:endParaRPr b="0" lang="en-US" sz="1400" spc="-1" strike="noStrike">
              <a:solidFill>
                <a:srgbClr val="ffff66"/>
              </a:solidFill>
              <a:latin typeface="Times New Roman"/>
            </a:endParaRPr>
          </a:p>
          <a:p>
            <a:pPr lvl="1" marL="343080" indent="-11448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SzPct val="80000"/>
              <a:buFont typeface="Times New Roman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of October 18, 2012: 70 cars in production at Kawasaki’s US facilities </a:t>
            </a:r>
            <a:endParaRPr b="0" lang="en-US" sz="1400" spc="-1" strike="noStrike">
              <a:solidFill>
                <a:srgbClr val="ffff66"/>
              </a:solidFill>
              <a:latin typeface="Times New Roman"/>
            </a:endParaRPr>
          </a:p>
          <a:p>
            <a:pPr lvl="1" marL="343080" indent="-11448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SzPct val="80000"/>
              <a:buFont typeface="Times New Roman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r Qualification Tests on the Base Order are 90% complete</a:t>
            </a:r>
            <a:endParaRPr b="0" lang="en-US" sz="1400" spc="-1" strike="noStrike">
              <a:solidFill>
                <a:srgbClr val="ffff66"/>
              </a:solidFill>
              <a:latin typeface="Times New Roman"/>
            </a:endParaRPr>
          </a:p>
          <a:p>
            <a:pPr marL="1144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80 Day Look Ahead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  <a:p>
            <a:pPr lvl="1" marL="343080" indent="-11448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SzPct val="80000"/>
              <a:buFont typeface="Times New Roman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r Qualification Tests ongoing</a:t>
            </a:r>
            <a:endParaRPr b="0" lang="en-US" sz="1400" spc="-1" strike="noStrike">
              <a:solidFill>
                <a:srgbClr val="ffff66"/>
              </a:solidFill>
              <a:latin typeface="Times New Roman"/>
            </a:endParaRPr>
          </a:p>
          <a:p>
            <a:pPr lvl="1" marL="343080" indent="-11448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SzPct val="80000"/>
              <a:buFont typeface="Times New Roman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ivery of Base Contract trains by end of 2012</a:t>
            </a:r>
            <a:endParaRPr b="0" lang="en-US" sz="1400" spc="-1" strike="noStrike">
              <a:solidFill>
                <a:srgbClr val="ffff66"/>
              </a:solidFill>
              <a:latin typeface="Times New Roman"/>
            </a:endParaRPr>
          </a:p>
          <a:p>
            <a:pPr lvl="1" marL="343080" indent="-11448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SzPct val="80000"/>
              <a:buFont typeface="Times New Roman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ining of RTO personnel for Qualification Testing</a:t>
            </a:r>
            <a:endParaRPr b="0" lang="en-US" sz="1400" spc="-1" strike="noStrike">
              <a:solidFill>
                <a:srgbClr val="ffff66"/>
              </a:solidFill>
              <a:latin typeface="Times New Roman"/>
            </a:endParaRPr>
          </a:p>
          <a:p>
            <a:pPr lvl="1" marL="343080" indent="-11448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SzPct val="80000"/>
              <a:buFont typeface="Times New Roman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gin Unit Qualification Testing on NYCT property</a:t>
            </a:r>
            <a:endParaRPr b="0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89080" y="4102200"/>
            <a:ext cx="14968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Verdana"/>
                <a:ea typeface="Arial"/>
              </a:rPr>
              <a:t>Highligh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36"/>
          <p:cNvSpPr/>
          <p:nvPr/>
        </p:nvSpPr>
        <p:spPr>
          <a:xfrm>
            <a:off x="0" y="0"/>
            <a:ext cx="9144000" cy="52704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Verdana"/>
              </a:rPr>
              <a:t>R188 Project Over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-9360" y="487440"/>
            <a:ext cx="9153360" cy="759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99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AF2B5-D31B-4C14-8010-293BD9803DB4}" type="slidenum">
              <a:t>2</a:t>
            </a:fld>
          </a:p>
        </p:txBody>
      </p:sp>
    </p:spTree>
  </p:cSld>
  <p:transition spd="med">
    <p:randomBa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13720" y="717480"/>
            <a:ext cx="31647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Verdana"/>
                <a:ea typeface="Arial"/>
              </a:rPr>
              <a:t>R188 11-Car Configu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36"/>
          <p:cNvSpPr/>
          <p:nvPr/>
        </p:nvSpPr>
        <p:spPr>
          <a:xfrm>
            <a:off x="0" y="0"/>
            <a:ext cx="9144000" cy="52704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Verdana"/>
              </a:rPr>
              <a:t>R188 Train Cons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-9360" y="487440"/>
            <a:ext cx="9153360" cy="759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99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09480" y="4181400"/>
            <a:ext cx="800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6360" indent="-57636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te: The </a:t>
            </a:r>
            <a:r>
              <a:rPr b="0" lang="en-US" sz="1600" spc="-1" strike="noStrike">
                <a:solidFill>
                  <a:srgbClr val="990099"/>
                </a:solidFill>
                <a:latin typeface="NYCT PC Bullet"/>
              </a:rPr>
              <a:t>7</a:t>
            </a:r>
            <a:r>
              <a:rPr b="1" lang="en-US" sz="1600" spc="-1" strike="noStrike">
                <a:solidFill>
                  <a:srgbClr val="cc00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ine is the only NYCT subway line that runs 11-car trai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17440" y="1808280"/>
            <a:ext cx="8709120" cy="1849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B2A48-AB48-4263-8DF4-F0BB0815009C}" type="slidenum">
              <a:t>3</a:t>
            </a:fld>
          </a:p>
        </p:txBody>
      </p:sp>
    </p:spTree>
  </p:cSld>
  <p:transition spd="med"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76120" y="590400"/>
            <a:ext cx="8620200" cy="5353200"/>
          </a:xfrm>
          <a:prstGeom prst="rect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36"/>
          <p:cNvSpPr/>
          <p:nvPr/>
        </p:nvSpPr>
        <p:spPr>
          <a:xfrm>
            <a:off x="0" y="0"/>
            <a:ext cx="9144000" cy="52704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Verdana"/>
              </a:rPr>
              <a:t>R188 Delivery Sche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-9360" y="487440"/>
            <a:ext cx="9153360" cy="759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99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5267160"/>
            <a:ext cx="8439120" cy="105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 marL="144720" indent="-144720" algn="just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se Order deliveries complete by December 20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44720" indent="-144720" algn="just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rst new Option train scheduled to be delivered May 2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44720" indent="-144720" algn="just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ight new trains forecasted to be conditionally accepted in time for opening of </a:t>
            </a:r>
            <a:r>
              <a:rPr b="0" lang="en-US" sz="1400" spc="-1" strike="noStrike">
                <a:solidFill>
                  <a:srgbClr val="990099"/>
                </a:solidFill>
                <a:latin typeface="NYCT PC Bullet"/>
              </a:rPr>
              <a:t>7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Line Exten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44720" indent="-144720" algn="just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letion of delivery of all new and converted trains scheduled for January 2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44720" indent="-144720" algn="just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lushing Line CBTC forecasted completion is November 2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1600200" y="984240"/>
          <a:ext cx="5797440" cy="4051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984240"/>
                    <a:ext cx="5797440" cy="405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6C116-26FF-4378-B4FB-4C60A528E2FD}" type="slidenum">
              <a:t>4</a:t>
            </a:fld>
          </a:p>
        </p:txBody>
      </p:sp>
    </p:spTree>
  </p:cSld>
  <p:transition spd="med"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285840" y="1092240"/>
          <a:ext cx="8545320" cy="3143160"/>
        </p:xfrm>
        <a:graphic>
          <a:graphicData uri="http://schemas.openxmlformats.org/drawingml/2006/table">
            <a:tbl>
              <a:tblPr/>
              <a:tblGrid>
                <a:gridCol w="857160"/>
                <a:gridCol w="3657600"/>
                <a:gridCol w="2057400"/>
                <a:gridCol w="1973160"/>
              </a:tblGrid>
              <a:tr h="378720"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atu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ctiv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e Need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ssue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1906920"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cc33"/>
                          </a:solidFill>
                          <a:latin typeface="Webdings"/>
                          <a:ea typeface="Webdings"/>
                        </a:rPr>
                        <a:t>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e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45720" rIns="4572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livery of new single C-car for placement within the 10 R142A conversion cars</a:t>
                      </a:r>
                      <a:br>
                        <a:rPr sz="1400"/>
                      </a:b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livery of two new trains</a:t>
                      </a:r>
                      <a:br>
                        <a:rPr sz="1400"/>
                      </a:b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se Order Conditional Accepta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720" rIns="4572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v 2012</a:t>
                      </a:r>
                      <a:br>
                        <a:rPr sz="1400"/>
                      </a:b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c 2012</a:t>
                      </a:r>
                      <a:br>
                        <a:rPr sz="1400"/>
                      </a:b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y 20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ssues: N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57520"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cc33"/>
                          </a:solidFill>
                          <a:latin typeface="Webdings"/>
                          <a:ea typeface="Webdings"/>
                        </a:rPr>
                        <a:t>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e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 marL="173160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ption Order Car Delivery Comple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20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 marL="460440" indent="-460440"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ssues: N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69" name="Rectangle 36"/>
          <p:cNvSpPr/>
          <p:nvPr/>
        </p:nvSpPr>
        <p:spPr>
          <a:xfrm>
            <a:off x="0" y="0"/>
            <a:ext cx="9144000" cy="52704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Verdana"/>
              </a:rPr>
              <a:t>R188 Activity and Iss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-9360" y="487440"/>
            <a:ext cx="9153360" cy="759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99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63520" y="4800600"/>
            <a:ext cx="104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g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150920" y="5099040"/>
            <a:ext cx="6164280" cy="84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Webdings"/>
                <a:ea typeface="Webdings"/>
              </a:rPr>
              <a:t>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d -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gnificant impacts on Cost and/or Construction/Beneficial D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Webdings"/>
                <a:ea typeface="Webdings"/>
              </a:rPr>
              <a:t>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ellow -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pacts that can lead to cost increase or schedule delay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cc33"/>
                </a:solidFill>
                <a:latin typeface="Webdings"/>
                <a:ea typeface="Webdings"/>
              </a:rPr>
              <a:t>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een -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near-term impact on cost or schedule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798D0-FD15-4FB0-AA17-65CC8223B813}" type="slidenum">
              <a:t>5</a:t>
            </a:fld>
          </a:p>
        </p:txBody>
      </p:sp>
    </p:spTree>
  </p:cSld>
  <p:transition spd="med"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289080" y="1092240"/>
          <a:ext cx="8291520" cy="3198600"/>
        </p:xfrm>
        <a:graphic>
          <a:graphicData uri="http://schemas.openxmlformats.org/drawingml/2006/table">
            <a:tbl>
              <a:tblPr/>
              <a:tblGrid>
                <a:gridCol w="1230120"/>
                <a:gridCol w="7061400"/>
              </a:tblGrid>
              <a:tr h="342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e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en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1043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op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dec" pos="571680"/>
                          <a:tab algn="dec" pos="21733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 60-foot ‘B’ Division cars (design based on R160 car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398520" indent="-171360">
                        <a:lnSpc>
                          <a:spcPct val="100000"/>
                        </a:lnSpc>
                        <a:spcBef>
                          <a:spcPts val="176"/>
                        </a:spcBef>
                        <a:buClr>
                          <a:srgbClr val="000000"/>
                        </a:buClr>
                        <a:buFont typeface="Times New Roman"/>
                        <a:buChar char="♦"/>
                        <a:tabLst>
                          <a:tab algn="dec" pos="571680"/>
                          <a:tab algn="dec" pos="21733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ill provide 36½ trai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398520" indent="-171360">
                        <a:lnSpc>
                          <a:spcPct val="100000"/>
                        </a:lnSpc>
                        <a:spcBef>
                          <a:spcPts val="176"/>
                        </a:spcBef>
                        <a:buClr>
                          <a:srgbClr val="000000"/>
                        </a:buClr>
                        <a:buFont typeface="Times New Roman"/>
                        <a:buChar char="♦"/>
                        <a:tabLst>
                          <a:tab algn="dec" pos="571680"/>
                          <a:tab algn="dec" pos="21733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. of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-car units: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398520" indent="-171360">
                        <a:lnSpc>
                          <a:spcPct val="100000"/>
                        </a:lnSpc>
                        <a:spcBef>
                          <a:spcPts val="176"/>
                        </a:spcBef>
                        <a:buClr>
                          <a:srgbClr val="000000"/>
                        </a:buClr>
                        <a:buFont typeface="Times New Roman"/>
                        <a:buChar char="♦"/>
                        <a:tabLst>
                          <a:tab algn="dec" pos="571680"/>
                          <a:tab algn="dec" pos="21733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. of 5-car units: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44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hedu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r" pos="38908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warded:                       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/04/20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r" pos="38908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livery of test train: 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12/22/20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r" pos="38908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livery of 1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Production unit: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7/27/20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r" pos="38908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livery Completion: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30/20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6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dg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801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735.6 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74" name=""/>
          <p:cNvSpPr/>
          <p:nvPr/>
        </p:nvSpPr>
        <p:spPr>
          <a:xfrm>
            <a:off x="385920" y="717480"/>
            <a:ext cx="179784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Verdana"/>
                <a:ea typeface="Arial"/>
              </a:rPr>
              <a:t>Overall Stat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284040" y="4797000"/>
            <a:ext cx="8267760" cy="19083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ctr">
            <a:normAutofit/>
          </a:bodyPr>
          <a:p>
            <a:pPr marL="1144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dec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gress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  <a:p>
            <a:pPr lvl="1" marL="457200" indent="-22860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SzPct val="80000"/>
              <a:buFont typeface="Times New Roman"/>
              <a:buChar char="♦"/>
              <a:tabLst>
                <a:tab algn="dec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warded to Bombardier Transit Corporation on June 4, 2012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  <a:p>
            <a:pPr lvl="1" marL="457200" indent="-22860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SzPct val="80000"/>
              <a:buFont typeface="Times New Roman"/>
              <a:buChar char="♦"/>
              <a:tabLst>
                <a:tab algn="dec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roved Master Program Schedule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  <a:p>
            <a:pPr lvl="1" marL="457200" indent="-228600">
              <a:lnSpc>
                <a:spcPct val="90000"/>
              </a:lnSpc>
              <a:spcBef>
                <a:spcPts val="201"/>
              </a:spcBef>
              <a:spcAft>
                <a:spcPts val="601"/>
              </a:spcAft>
              <a:buClr>
                <a:srgbClr val="000000"/>
              </a:buClr>
              <a:buSzPct val="80000"/>
              <a:buFont typeface="Times New Roman"/>
              <a:buChar char="♦"/>
              <a:tabLst>
                <a:tab algn="dec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letion of Technical Specification Review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  <a:p>
            <a:pPr marL="1144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dec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80 Day Look Ahead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  <a:p>
            <a:pPr lvl="1" marL="457200" indent="-22860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SzPct val="80000"/>
              <a:buFont typeface="Times New Roman"/>
              <a:buChar char="♦"/>
              <a:tabLst>
                <a:tab algn="dec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liminary Design Reviews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  <a:p>
            <a:pPr lvl="1" marL="457200" indent="-22860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SzPct val="80000"/>
              <a:buFont typeface="Times New Roman"/>
              <a:buChar char="♦"/>
              <a:tabLst>
                <a:tab algn="dec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-Process Design Reviews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89080" y="4486320"/>
            <a:ext cx="14968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Verdana"/>
                <a:ea typeface="Arial"/>
              </a:rPr>
              <a:t>Highligh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Rectangle 36"/>
          <p:cNvSpPr/>
          <p:nvPr/>
        </p:nvSpPr>
        <p:spPr>
          <a:xfrm>
            <a:off x="0" y="0"/>
            <a:ext cx="9144000" cy="52704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Verdana"/>
              </a:rPr>
              <a:t>R179 Project Over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-9360" y="487440"/>
            <a:ext cx="9153360" cy="759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99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C9991-583C-4520-B989-50DA9AE24359}" type="slidenum">
              <a:t>6</a:t>
            </a:fld>
          </a:p>
        </p:txBody>
      </p:sp>
    </p:spTree>
  </p:cSld>
  <p:transition spd="med">
    <p:randomBa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289080" y="1092240"/>
          <a:ext cx="8291520" cy="2797200"/>
        </p:xfrm>
        <a:graphic>
          <a:graphicData uri="http://schemas.openxmlformats.org/drawingml/2006/table">
            <a:tbl>
              <a:tblPr/>
              <a:tblGrid>
                <a:gridCol w="1230120"/>
                <a:gridCol w="706140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e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en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1043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op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12680" indent="-112680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dec" pos="16002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662 60-foot ‘B’ Div cars built by ALSKAW replaces older 60-foot ca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457200" indent="-230040">
                        <a:lnSpc>
                          <a:spcPct val="100000"/>
                        </a:lnSpc>
                        <a:spcBef>
                          <a:spcPts val="176"/>
                        </a:spcBef>
                        <a:buClr>
                          <a:srgbClr val="000000"/>
                        </a:buClr>
                        <a:buFont typeface="Times New Roman"/>
                        <a:buChar char="♦"/>
                        <a:tabLst>
                          <a:tab algn="dec" pos="16002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se: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0 ca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457200" indent="-230040">
                        <a:lnSpc>
                          <a:spcPct val="100000"/>
                        </a:lnSpc>
                        <a:spcBef>
                          <a:spcPts val="176"/>
                        </a:spcBef>
                        <a:buClr>
                          <a:srgbClr val="000000"/>
                        </a:buClr>
                        <a:buFont typeface="Times New Roman"/>
                        <a:buChar char="♦"/>
                        <a:tabLst>
                          <a:tab algn="dec" pos="16002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tion I: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0 ca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457200" indent="-230040">
                        <a:lnSpc>
                          <a:spcPct val="100000"/>
                        </a:lnSpc>
                        <a:spcBef>
                          <a:spcPts val="176"/>
                        </a:spcBef>
                        <a:buClr>
                          <a:srgbClr val="000000"/>
                        </a:buClr>
                        <a:buFont typeface="Times New Roman"/>
                        <a:buChar char="♦"/>
                        <a:tabLst>
                          <a:tab algn="dec" pos="16002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tion II: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2 ca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0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hedu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801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al cars delivered May 6, 2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801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 Close-Out pha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dg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dec" pos="14907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se: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,163.0 M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tion I: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,249.2 M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tion II: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842.3 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80" name=""/>
          <p:cNvSpPr/>
          <p:nvPr/>
        </p:nvSpPr>
        <p:spPr>
          <a:xfrm>
            <a:off x="385920" y="717480"/>
            <a:ext cx="179784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Verdana"/>
                <a:ea typeface="Arial"/>
              </a:rPr>
              <a:t>Overall Stat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304920" y="4647960"/>
            <a:ext cx="8267760" cy="19810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ctr">
            <a:normAutofit/>
          </a:bodyPr>
          <a:p>
            <a:pPr marL="114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gress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  <a:p>
            <a:pPr lvl="1" marL="457200" indent="-22860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SzPct val="80000"/>
              <a:buFont typeface="Times New Roman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2-Month MDBF: 645,207 miles (September 2012)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  <a:p>
            <a:pPr lvl="1" marL="457200" indent="-22860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SzPct val="80000"/>
              <a:buFont typeface="Times New Roman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 cars off of warranty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  <a:p>
            <a:pPr lvl="1" marL="457200" indent="-22860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SzPct val="80000"/>
              <a:buFont typeface="Times New Roman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ignments: </a:t>
            </a:r>
            <a:r>
              <a:rPr b="0" lang="en-US" sz="1600" spc="-1" strike="noStrike">
                <a:solidFill>
                  <a:srgbClr val="fccc0a"/>
                </a:solidFill>
                <a:latin typeface="NYCT PC Bullet"/>
              </a:rPr>
              <a:t>N</a:t>
            </a:r>
            <a:r>
              <a:rPr b="0" lang="en-US" sz="1600" spc="-1" strike="noStrike">
                <a:solidFill>
                  <a:srgbClr val="f99f1c"/>
                </a:solidFill>
                <a:latin typeface="NYCT PC Bullet"/>
              </a:rPr>
              <a:t>M</a:t>
            </a:r>
            <a:r>
              <a:rPr b="0" lang="en-US" sz="1600" spc="-1" strike="noStrike">
                <a:solidFill>
                  <a:srgbClr val="bb8d4c"/>
                </a:solidFill>
                <a:latin typeface="NYCT PC Bullet"/>
              </a:rPr>
              <a:t>JZ</a:t>
            </a:r>
            <a:r>
              <a:rPr b="0" lang="en-US" sz="1600" spc="-1" strike="noStrike">
                <a:solidFill>
                  <a:srgbClr val="fccc0a"/>
                </a:solidFill>
                <a:latin typeface="NYCT PC Bullet"/>
              </a:rPr>
              <a:t>Q</a:t>
            </a:r>
            <a:r>
              <a:rPr b="0" lang="en-US" sz="1600" spc="-1" strike="noStrike">
                <a:solidFill>
                  <a:srgbClr val="285091"/>
                </a:solidFill>
                <a:latin typeface="NYCT PC Bullet"/>
              </a:rPr>
              <a:t>E</a:t>
            </a:r>
            <a:r>
              <a:rPr b="0" lang="en-US" sz="1600" spc="-1" strike="noStrike">
                <a:solidFill>
                  <a:srgbClr val="f99f1c"/>
                </a:solidFill>
                <a:latin typeface="NYCT PC Bullet"/>
              </a:rPr>
              <a:t>F</a:t>
            </a:r>
            <a:r>
              <a:rPr b="0" lang="en-US" sz="1600" spc="-1" strike="noStrike">
                <a:solidFill>
                  <a:srgbClr val="808183"/>
                </a:solidFill>
                <a:latin typeface="NYCT PC Bullet"/>
              </a:rPr>
              <a:t>L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  <a:p>
            <a:pPr marL="114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80 Day Look Ahead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  <a:p>
            <a:pPr lvl="1" marL="457200" indent="-22860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SzPct val="80000"/>
              <a:buFont typeface="Times New Roman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letion of field modifications and deliverables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  <a:p>
            <a:pPr lvl="1" marL="457200" indent="-22860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SzPct val="80000"/>
              <a:buFont typeface="Times New Roman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oseout Forecast for June 2013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52080" y="4191120"/>
            <a:ext cx="13708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Verdana"/>
                <a:ea typeface="Arial"/>
              </a:rPr>
              <a:t>Highligh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6"/>
          <p:cNvSpPr/>
          <p:nvPr/>
        </p:nvSpPr>
        <p:spPr>
          <a:xfrm>
            <a:off x="0" y="0"/>
            <a:ext cx="9144000" cy="52704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Verdana"/>
              </a:rPr>
              <a:t>R160 Project Over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-9360" y="487440"/>
            <a:ext cx="9153360" cy="759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99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B4106-1821-4B31-9267-BC020FB40309}" type="slidenum">
              <a:t>7</a:t>
            </a:fld>
          </a:p>
        </p:txBody>
      </p:sp>
    </p:spTree>
  </p:cSld>
  <p:transition spd="med">
    <p:randomBa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" name=""/>
          <p:cNvGraphicFramePr/>
          <p:nvPr/>
        </p:nvGraphicFramePr>
        <p:xfrm>
          <a:off x="289080" y="1095480"/>
          <a:ext cx="8291520" cy="4962240"/>
        </p:xfrm>
        <a:graphic>
          <a:graphicData uri="http://schemas.openxmlformats.org/drawingml/2006/table">
            <a:tbl>
              <a:tblPr/>
              <a:tblGrid>
                <a:gridCol w="1387440"/>
                <a:gridCol w="6904080"/>
              </a:tblGrid>
              <a:tr h="541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1441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o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w R211 ‘B’ Division cars to replace 752 R46 ca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457200" indent="-223920"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Times New Roman"/>
                        <a:buChar char="♦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ditional fleet growth cars (current forecast – 84 car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457200" indent="-223920"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Times New Roman"/>
                        <a:buChar char="♦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ditional cars for SIR fleet replace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42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57200" indent="-457200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801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xt Generation design to address NYCT’s go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37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hed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57200" indent="-457200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ign Master Plan approved in December 20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57200" indent="-457200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2 Award of Technical Consultant (Design Phas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684360" indent="-227160"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Times New Roman"/>
                        <a:buChar char="♦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FP Negotiations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684360" indent="-227160"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Times New Roman"/>
                        <a:buChar char="♦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quest MTA Board Approval: November 20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684360" indent="-227160"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Times New Roman"/>
                        <a:buChar char="♦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ward Contract: December 20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57200" indent="-457200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 Purchase Award Proposed for 2015 – 2019 Capital Progr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86" name=""/>
          <p:cNvSpPr/>
          <p:nvPr/>
        </p:nvSpPr>
        <p:spPr>
          <a:xfrm>
            <a:off x="385920" y="717480"/>
            <a:ext cx="179784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Verdana"/>
                <a:ea typeface="Arial"/>
              </a:rPr>
              <a:t>Overall Stat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36"/>
          <p:cNvSpPr/>
          <p:nvPr/>
        </p:nvSpPr>
        <p:spPr>
          <a:xfrm>
            <a:off x="0" y="0"/>
            <a:ext cx="9144000" cy="52704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Verdana"/>
              </a:rPr>
              <a:t>R211 Future Project Over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-9360" y="487440"/>
            <a:ext cx="9153360" cy="759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99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8ABC6-529C-45D1-95D6-ED3CAA6A8AAE}" type="slidenum">
              <a:t>8</a:t>
            </a:fld>
          </a:p>
        </p:txBody>
      </p:sp>
    </p:spTree>
  </p:cSld>
  <p:transition spd="med"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0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9T13:04:55Z</dcterms:created>
  <dc:creator/>
  <dc:description>Change from v8.2:
Use Sep 2012 R160 MDBF
R188 Base Cond Accept from Jun to May 2013</dc:description>
  <dc:language>en-US</dc:language>
  <cp:lastModifiedBy>NYCT</cp:lastModifiedBy>
  <cp:lastPrinted>2003-02-07T16:33:35Z</cp:lastPrinted>
  <dcterms:modified xsi:type="dcterms:W3CDTF">2012-11-26T22:33:07Z</dcterms:modified>
  <cp:revision>2247</cp:revision>
  <dc:subject/>
  <dc:title>Subway Car Program Update</dc:title>
</cp:coreProperties>
</file>