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3F4BA-14F5-4AFA-AC4A-F6DFCC2BE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8DFDE5-304D-42B6-9B51-E1F4C7AE9E68}" type="datetime">
              <a:rPr b="0" lang="en-US" sz="1200" spc="-1" strike="noStrike">
                <a:solidFill>
                  <a:srgbClr val="000000"/>
                </a:solidFill>
                <a:latin typeface="Arial"/>
              </a:rPr>
              <a:t>07/29/26</a:t>
            </a:fld>
            <a:r>
              <a:rPr b="0" lang="en-US" sz="1200" spc="-1" strike="noStrike">
                <a:solidFill>
                  <a:srgbClr val="000000"/>
                </a:solidFill>
                <a:latin typeface="Arial"/>
              </a:rPr>
              <a:t> </a:t>
            </a:r>
            <a:fld id="{808A66AF-DA00-4EB7-BF91-56D36800C132}"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6A54E76-F9A8-40C5-9DEE-119A2D93B5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B6D12AA-7D67-45EF-B75B-012F78A00211}" type="datetime">
              <a:rPr b="0" lang="en-US" sz="1200" spc="-1" strike="noStrike">
                <a:solidFill>
                  <a:srgbClr val="000000"/>
                </a:solidFill>
                <a:latin typeface="Arial"/>
              </a:rPr>
              <a:t>07/29/26</a:t>
            </a:fld>
            <a:r>
              <a:rPr b="0" lang="en-US" sz="1200" spc="-1" strike="noStrike">
                <a:solidFill>
                  <a:srgbClr val="000000"/>
                </a:solidFill>
                <a:latin typeface="Arial"/>
              </a:rPr>
              <a:t> </a:t>
            </a:r>
            <a:fld id="{5078100B-F0F3-43DA-BFBF-E3FFC7651016}"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F460211-9B33-41AC-91E8-72D5FAE366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88FFAFC-802D-40D1-B813-1D8CA620D35C}" type="datetime">
              <a:rPr b="0" lang="en-US" sz="1200" spc="-1" strike="noStrike">
                <a:solidFill>
                  <a:srgbClr val="000000"/>
                </a:solidFill>
                <a:latin typeface="Arial"/>
              </a:rPr>
              <a:t>07/29/26</a:t>
            </a:fld>
            <a:r>
              <a:rPr b="0" lang="en-US" sz="1200" spc="-1" strike="noStrike">
                <a:solidFill>
                  <a:srgbClr val="000000"/>
                </a:solidFill>
                <a:latin typeface="Arial"/>
              </a:rPr>
              <a:t> </a:t>
            </a:r>
            <a:fld id="{D95835E3-8ED7-4E82-8353-D436A9B05598}"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419FD6-13F5-4CA6-84F6-C29C07BE093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192B5C-A2DA-43F4-96A2-28F43965AC20}" type="datetime">
              <a:rPr b="0" lang="en-US" sz="1200" spc="-1" strike="noStrike">
                <a:solidFill>
                  <a:srgbClr val="000000"/>
                </a:solidFill>
                <a:latin typeface="Arial"/>
              </a:rPr>
              <a:t>07/29/26</a:t>
            </a:fld>
            <a:r>
              <a:rPr b="0" lang="en-US" sz="1200" spc="-1" strike="noStrike">
                <a:solidFill>
                  <a:srgbClr val="000000"/>
                </a:solidFill>
                <a:latin typeface="Arial"/>
              </a:rPr>
              <a:t> </a:t>
            </a:r>
            <a:fld id="{9187769B-BFEF-483A-B90E-94973DDCACC2}"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4EE4BB3-0BB0-4A84-B2B5-CB88EEE8B3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6FF5A7-2396-4EAE-9C29-DFE10EAB20F8}" type="datetime">
              <a:rPr b="0" lang="en-US" sz="1200" spc="-1" strike="noStrike">
                <a:solidFill>
                  <a:srgbClr val="000000"/>
                </a:solidFill>
                <a:latin typeface="Arial"/>
              </a:rPr>
              <a:t>07/29/26</a:t>
            </a:fld>
            <a:r>
              <a:rPr b="0" lang="en-US" sz="1200" spc="-1" strike="noStrike">
                <a:solidFill>
                  <a:srgbClr val="000000"/>
                </a:solidFill>
                <a:latin typeface="Arial"/>
              </a:rPr>
              <a:t> </a:t>
            </a:r>
            <a:fld id="{22EFEC36-142C-4C72-B8E5-D41D27A04200}"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D0FA667-A4E8-4C05-84A4-411D61D636E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456A57-D34D-4E5A-B0ED-0A69F14D72EE}" type="datetime">
              <a:rPr b="0" lang="en-US" sz="1200" spc="-1" strike="noStrike">
                <a:solidFill>
                  <a:srgbClr val="000000"/>
                </a:solidFill>
                <a:latin typeface="Arial"/>
              </a:rPr>
              <a:t>07/29/26</a:t>
            </a:fld>
            <a:r>
              <a:rPr b="0" lang="en-US" sz="1200" spc="-1" strike="noStrike">
                <a:solidFill>
                  <a:srgbClr val="000000"/>
                </a:solidFill>
                <a:latin typeface="Arial"/>
              </a:rPr>
              <a:t> </a:t>
            </a:r>
            <a:fld id="{D3098076-7C60-4146-AA5A-C6FCDDBE1094}"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A05BFE-0E3D-40D2-824C-AC1D896590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8798C2-DDE9-4844-A37D-AB987792C251}" type="datetime">
              <a:rPr b="0" lang="en-US" sz="1200" spc="-1" strike="noStrike">
                <a:solidFill>
                  <a:srgbClr val="000000"/>
                </a:solidFill>
                <a:latin typeface="Arial"/>
              </a:rPr>
              <a:t>07/29/26</a:t>
            </a:fld>
            <a:r>
              <a:rPr b="0" lang="en-US" sz="1200" spc="-1" strike="noStrike">
                <a:solidFill>
                  <a:srgbClr val="000000"/>
                </a:solidFill>
                <a:latin typeface="Arial"/>
              </a:rPr>
              <a:t> </a:t>
            </a:r>
            <a:fld id="{46094D54-BA4D-4274-B82C-8B9FA0F9A721}"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74534A2-2094-4FFF-8EDE-9968D3DACC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2BC12-4A01-4CF2-A7F4-C57CF8477F15}" type="datetime">
              <a:rPr b="0" lang="en-US" sz="1200" spc="-1" strike="noStrike">
                <a:solidFill>
                  <a:srgbClr val="000000"/>
                </a:solidFill>
                <a:latin typeface="Calibri"/>
              </a:rPr>
              <a:t>07/29/26</a:t>
            </a:fld>
            <a:r>
              <a:rPr b="0" lang="en-US" sz="1200" spc="-1" strike="noStrike">
                <a:solidFill>
                  <a:srgbClr val="000000"/>
                </a:solidFill>
                <a:latin typeface="Calibri"/>
              </a:rPr>
              <a:t> </a:t>
            </a:r>
            <a:fld id="{400A32EB-B499-498D-A09B-72AB603EC382}" type="datetime10">
              <a:rPr b="0" lang="en-US" sz="1200" spc="-1" strike="noStrike">
                <a:solidFill>
                  <a:srgbClr val="000000"/>
                </a:solidFill>
                <a:latin typeface="Calibri"/>
              </a:rPr>
              <a:t>08:28</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034DA-0F35-464A-83C3-FCEEB1510C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358061-225D-4D79-9E0B-86EB6D0F5BCE}" type="datetime">
              <a:rPr b="0" lang="en-US" sz="1200" spc="-1" strike="noStrike">
                <a:solidFill>
                  <a:srgbClr val="000000"/>
                </a:solidFill>
                <a:latin typeface="Arial"/>
              </a:rPr>
              <a:t>07/29/26</a:t>
            </a:fld>
            <a:r>
              <a:rPr b="0" lang="en-US" sz="1200" spc="-1" strike="noStrike">
                <a:solidFill>
                  <a:srgbClr val="000000"/>
                </a:solidFill>
                <a:latin typeface="Arial"/>
              </a:rPr>
              <a:t> </a:t>
            </a:r>
            <a:fld id="{9D7D43B0-6230-4F12-A80D-EFA98C99472F}"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E09241A-AD0A-4C01-9E0F-6FBA94D65A5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3A89D5-8AB9-4F4D-B542-CD1C372717DE}" type="datetime">
              <a:rPr b="0" lang="en-US" sz="1200" spc="-1" strike="noStrike">
                <a:solidFill>
                  <a:srgbClr val="000000"/>
                </a:solidFill>
                <a:latin typeface="Arial"/>
              </a:rPr>
              <a:t>07/29/26</a:t>
            </a:fld>
            <a:r>
              <a:rPr b="0" lang="en-US" sz="1200" spc="-1" strike="noStrike">
                <a:solidFill>
                  <a:srgbClr val="000000"/>
                </a:solidFill>
                <a:latin typeface="Arial"/>
              </a:rPr>
              <a:t> </a:t>
            </a:r>
            <a:fld id="{5EA0306B-6D95-44CC-B0E9-FA8E51EE29E4}"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E9183B-457F-4E82-A8AF-A4B580A2EA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D7361A6-AC21-497A-BB39-E4B73EBD309B}" type="datetime">
              <a:rPr b="0" lang="en-US" sz="1200" spc="-1" strike="noStrike">
                <a:solidFill>
                  <a:srgbClr val="000000"/>
                </a:solidFill>
                <a:latin typeface="Arial"/>
              </a:rPr>
              <a:t>07/29/26</a:t>
            </a:fld>
            <a:r>
              <a:rPr b="0" lang="en-US" sz="1200" spc="-1" strike="noStrike">
                <a:solidFill>
                  <a:srgbClr val="000000"/>
                </a:solidFill>
                <a:latin typeface="Arial"/>
              </a:rPr>
              <a:t> </a:t>
            </a:r>
            <a:fld id="{150140BE-224E-4F3C-8C80-F5638A22E3B1}" type="datetime10">
              <a:rPr b="0" lang="en-US" sz="1200" spc="-1" strike="noStrike">
                <a:solidFill>
                  <a:srgbClr val="000000"/>
                </a:solidFill>
                <a:latin typeface="Arial"/>
              </a:rPr>
              <a:t>08:28</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7FA4C5-E18D-4F71-8386-322691AC26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C387B-DA75-4688-BA60-202CF7D3A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0616-E7EF-47F9-AD81-E1771F81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618B5-4A32-43E2-896B-4EE4DC74A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636EB-60C5-42A4-B9DE-65FA07978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7E880-9F09-47D8-9FCB-B60DC4D09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B7E45-DF43-48BD-933C-A49B8B89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3A81A-65C5-4C43-A4CE-B2736769E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71AF5-22CB-4564-9BF5-39D2505B6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BF783-83ED-46E0-A2AF-5018A4DF7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6348A-5A18-44EB-BF7E-D8FDBEB1F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A59BD-0FFC-48CF-8F79-2E7F2E54A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6B44B-F530-4477-8554-2126F5D6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6AB34-E6C0-4BAC-89C2-EC6D3633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7D843-DD01-4837-8C8B-77D8DDDEE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7606B-DC70-4FFD-A874-79B9C21A1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3AF74-3329-4AAA-8D99-B767227D0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6CC19-51B1-4C03-8B1E-9BACE420B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1C6B9-57FC-460A-B94C-0BBA07DA0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E5A9B-CFF1-4F30-BBCD-4707E94E7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1E633-3643-4B7C-8986-D5ECFACE4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05C6C-082C-477B-A897-811236FE9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BD5E8-A152-4EAE-9239-95A6F7047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51E0-99BF-4FA9-B782-7F548E266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B7532-985B-4E67-9A1D-130A595DC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00ED1-D7A4-4424-8E1F-DE8A19B5B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E6C47-B9BC-4D2B-93AF-1201C8738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E0EA3-8B26-4B9C-AE50-D8EB563E3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2C02F-5946-4C1B-8639-E090F5A02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CB36F-16D1-4DBF-B336-BD9579F6A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5D787-8BAA-4FBD-9C9C-188DB172A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F02C55-02F5-4FA4-9274-0F3175187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2BA6C-AD2E-4478-AB0C-2C43E9443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D926A-9CC3-4C5D-950D-8CDBF70EB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C0BD4-844C-45C7-ADE5-16F5B049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CC41F-4FD8-4AD6-974C-1C73F7126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B6397-86B5-4C81-8FBE-3DFE62408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394B1-D0FF-4513-82BC-9EA795B80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2622A-6191-4F61-9ED5-91FB5DC10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DBA7D-6665-4D0B-ABCF-9414DCD34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E5727-E3E8-4E2F-9B12-2A261AA78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73C30-F72C-4D72-886B-653116E0B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769951-9842-41C2-B5E6-05C0A47BA9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6E59DA-529B-49B6-87D8-EE8960370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F7E425-FE75-42F7-B407-FE04DE7DE9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18164-863E-4B5B-A2E6-45B0BF1F4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FF222-41F5-4E4E-B673-141A61A64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2AA3C-9057-4637-AFAA-3391101384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0926F6-FF4D-4290-A0C6-8D33725FE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AF8CA-C42C-4D7B-83E5-F3613DD33A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FBF3A-86F7-43A2-9410-0680B9FAA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B2663-BF3B-4059-AB87-ED18CA535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4DCD1-DA6E-4532-8965-5588C3BF0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BFA5F-E085-4AE2-A79C-C8F20AC17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19458-4259-46E6-9B1C-3199EBCCC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B1CCC-0939-4379-ABCB-78C8515F07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79A09-DF21-4D71-88EA-211C1D2A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63742-CA2A-49D5-BDBF-8FC003239A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13FF9B-3943-4224-9F50-777385B8B6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6DA7CD-2170-4FC0-9AF3-8B488BB50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A65B86-4239-4289-A3C6-47A69D793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A66D4-02EE-4142-8E72-6DB366593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12CFE5-8D2E-4F9F-BDB1-AA29251C42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4A19B-7950-4292-82BD-0D536AED4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00BD1-EAAC-41E3-9A76-0EA0A2080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FD69D-A764-40B7-B49E-D18FB5230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D3AD6-2B72-42C8-B95D-14014F6EB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09A3-2861-4951-908C-B3C6C14D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07E2B-7FD7-4BA6-AC76-B4442CF61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AEAC46-2481-488C-A92B-25D62D33F0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8A0877-740E-46FC-B0B8-B844845ED2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230A4B-416C-4579-B613-E98E4008CA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51191-9D53-40E3-8D2F-3F421023F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29BA0-F419-4DB9-9F60-00500B4B1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B1639B-62AD-48DF-9684-1F27B4E72D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87150-8A76-4009-A821-99C4DA4C4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DBBA1D-A98D-40CE-82F1-33F65388D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69E16-A4BC-41FC-8908-DC175AF3C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CBB02-4B29-477D-B59C-0BE0BC779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460CE-7468-4EC2-9C3F-0FC75F3BD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5E62A-37F0-45F5-B81C-58BE1503D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96BA4-0237-4FB8-B091-6DF265706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E3027B-084B-4770-822E-33EDE7F007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1336BA-6634-4A41-889A-1431631947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583B-4E57-42D5-BB00-4DC6A1294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7D166-76B3-4DCA-90CE-FCBA9E9B0548}"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B6F95-CE45-49B1-8D5E-AF519EECE0AB}"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901B6-C3B3-4B88-9A14-D7D02BC028BE}"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6291C-8E04-453A-AA27-110CA0D2AD6B}"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E4D1D-BD27-4534-AC67-D5B975100CAB}"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A2978-607D-4BAF-998B-24B31D72BC44}"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9B7E5-2B7E-44E0-9570-E4FC56C591A3}"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AA435-4DC3-491B-96D1-070DED465E0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65ACA-B47D-41DF-9EF6-6BE7B530BFD5}"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1A2F9-50C8-4BBF-9B5F-1E36B7D385F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EC2B8-F93D-453B-9D55-AE4213D1FADE}"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6A74D-782A-48A6-81A2-DE6FCDDD5E15}"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F43C4-7FD1-4841-BAAD-988F19D5BBF3}"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5A185-BAB0-4236-872C-DBA664CAF862}"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AB9C8-761A-43D9-B23F-CB2FFBA868B4}"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711B2-16CB-4111-B654-9ACCC6EC353B}"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5BFF8-4B45-45F7-BB77-AAD12299C37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80FE1-E400-477B-AED4-C341FC654614}"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179AE-2ABC-4AC2-A0E6-DAC58250F6D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3E68D-E48F-4E4E-B224-B1FF4C452116}"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51E43-0449-4F65-B9F0-8D9A2D878DE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72B6D-01B0-44B1-B585-852FA6E4AEE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ECB66-1F70-4B63-A423-A2711015524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BA6E8-1569-495C-8155-C8FEF737110F}"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82394-8656-449C-AB71-75339116771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B6945-8809-41A7-BB25-1A53E588D50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7E018-CABB-428E-803C-1311550A0991}"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