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6772889-E66B-42B2-B8F9-8267B9893D6F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89AB7B9-82B3-4F23-8388-4389855E88BE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:31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3000" y="0"/>
            <a:ext cx="6883560" cy="51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-360" y="5162040"/>
            <a:ext cx="7010280" cy="413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B179878-6DA7-44EE-9CBC-167D1B2B541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5960822-1F38-47D0-B7E8-81D78983ECA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42B1CE2-B4CE-4423-9813-9DEABBEFFB26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782E418-669C-4D75-88BF-A65572BBA20F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:31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59BB7B4-8F87-4FE2-90D8-0098CF926D9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E43017B-EBB0-4B2B-8DDD-88D52E273B44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A61564B-9506-40EA-B3B4-0E7815B254D4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:31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D79B48C-92AB-45E2-AD28-ACF5F8E8610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6A00E40-59BA-4457-8513-53ADCDA57DC6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901F0D2-C2ED-4F43-BECC-1A065FDB7E11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:31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6F6A973-DDE0-4C6B-AC58-0A4E04C60D5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1F317A7-14FE-4AF9-B954-16C047AD7DA5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5CC5E87-4A92-4F47-974F-0C236449D599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:31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4D777D4-D761-4F89-AC2B-0AE85544290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649129E-1E43-4B43-B69C-E01D17B0A286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124A4FD-4395-4CEE-B485-DCAFA33C87D0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:31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63F7D88-4792-4375-BF99-E3C93823E71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C73A26E-D02D-42D9-AF31-1BD3F5463085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3BE2B72-71DA-421C-B251-276113321FC8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:31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7010280" cy="5257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8038048-F62F-416E-9E3C-74A592B4B2A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2FB3D3D-0AE6-4E5E-B91F-6553CDE203E2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2EBB9BD-D64F-496C-B584-0294E63834CB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:31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55BD60F-DF4F-4344-9A5E-FCE1636EA21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727BA06-C159-4532-8BB0-348A18938198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BFC253A-0B41-429E-A112-F4457D95433B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:31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C37-80E5-4AF6-87D0-6A03BC57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64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456-DF3B-4E06-ACB4-CFC09D0E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C6B-AE29-4560-BDF6-07259D78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C63C-15F6-4B0E-9CF2-FF0D8A8B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86F8-5B47-4217-8465-A15201DD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025E-906F-4EB0-8D7B-3F52F15F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7D8C-1800-4109-B674-05B936E6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A9B-BE4D-4D6A-A3D4-407B2BE5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E2E9-AC02-449A-8BBC-C2C2FFA4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83D-4D10-49F5-9C9E-04EBA408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B4D0-54C0-4DDF-9241-8CF89429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F15-92B3-4208-AA6A-2DD9670D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4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690480" indent="-233280">
              <a:spcBef>
                <a:spcPts val="1049"/>
              </a:spcBef>
              <a:buClr>
                <a:srgbClr val="66ff66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1049"/>
              </a:spcBef>
              <a:buClr>
                <a:srgbClr val="66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1049"/>
              </a:spcBef>
              <a:buClr>
                <a:srgbClr val="66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A88C-F9D0-4A2F-AB4F-DDDDF877A14D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6880" y="1295280"/>
            <a:ext cx="3897360" cy="4230720"/>
          </a:xfrm>
          <a:custGeom>
            <a:avLst/>
            <a:gdLst/>
            <a:ahLst/>
            <a:rect l="l" t="t" r="r" b="b"/>
            <a:pathLst>
              <a:path w="549" h="595">
                <a:moveTo>
                  <a:pt x="354" y="250"/>
                </a:moveTo>
                <a:lnTo>
                  <a:pt x="322" y="247"/>
                </a:lnTo>
                <a:lnTo>
                  <a:pt x="322" y="416"/>
                </a:lnTo>
                <a:lnTo>
                  <a:pt x="273" y="426"/>
                </a:lnTo>
                <a:lnTo>
                  <a:pt x="273" y="244"/>
                </a:lnTo>
                <a:lnTo>
                  <a:pt x="234" y="237"/>
                </a:lnTo>
                <a:lnTo>
                  <a:pt x="234" y="172"/>
                </a:lnTo>
                <a:lnTo>
                  <a:pt x="354" y="192"/>
                </a:lnTo>
                <a:lnTo>
                  <a:pt x="354" y="250"/>
                </a:lnTo>
                <a:lnTo>
                  <a:pt x="354" y="250"/>
                </a:lnTo>
                <a:close/>
                <a:moveTo>
                  <a:pt x="448" y="396"/>
                </a:moveTo>
                <a:lnTo>
                  <a:pt x="419" y="400"/>
                </a:lnTo>
                <a:lnTo>
                  <a:pt x="416" y="377"/>
                </a:lnTo>
                <a:lnTo>
                  <a:pt x="387" y="380"/>
                </a:lnTo>
                <a:lnTo>
                  <a:pt x="383" y="406"/>
                </a:lnTo>
                <a:lnTo>
                  <a:pt x="348" y="413"/>
                </a:lnTo>
                <a:lnTo>
                  <a:pt x="383" y="198"/>
                </a:lnTo>
                <a:lnTo>
                  <a:pt x="419" y="205"/>
                </a:lnTo>
                <a:lnTo>
                  <a:pt x="448" y="396"/>
                </a:lnTo>
                <a:lnTo>
                  <a:pt x="448" y="396"/>
                </a:lnTo>
                <a:close/>
                <a:moveTo>
                  <a:pt x="409" y="335"/>
                </a:moveTo>
                <a:lnTo>
                  <a:pt x="403" y="266"/>
                </a:lnTo>
                <a:lnTo>
                  <a:pt x="400" y="266"/>
                </a:lnTo>
                <a:lnTo>
                  <a:pt x="393" y="335"/>
                </a:lnTo>
                <a:lnTo>
                  <a:pt x="409" y="335"/>
                </a:lnTo>
                <a:lnTo>
                  <a:pt x="409" y="335"/>
                </a:lnTo>
                <a:close/>
                <a:moveTo>
                  <a:pt x="250" y="595"/>
                </a:moveTo>
                <a:lnTo>
                  <a:pt x="279" y="592"/>
                </a:lnTo>
                <a:lnTo>
                  <a:pt x="309" y="588"/>
                </a:lnTo>
                <a:lnTo>
                  <a:pt x="338" y="582"/>
                </a:lnTo>
                <a:lnTo>
                  <a:pt x="367" y="572"/>
                </a:lnTo>
                <a:lnTo>
                  <a:pt x="393" y="559"/>
                </a:lnTo>
                <a:lnTo>
                  <a:pt x="416" y="543"/>
                </a:lnTo>
                <a:lnTo>
                  <a:pt x="439" y="527"/>
                </a:lnTo>
                <a:lnTo>
                  <a:pt x="461" y="507"/>
                </a:lnTo>
                <a:lnTo>
                  <a:pt x="481" y="488"/>
                </a:lnTo>
                <a:lnTo>
                  <a:pt x="497" y="465"/>
                </a:lnTo>
                <a:lnTo>
                  <a:pt x="513" y="439"/>
                </a:lnTo>
                <a:lnTo>
                  <a:pt x="526" y="413"/>
                </a:lnTo>
                <a:lnTo>
                  <a:pt x="536" y="387"/>
                </a:lnTo>
                <a:lnTo>
                  <a:pt x="543" y="357"/>
                </a:lnTo>
                <a:lnTo>
                  <a:pt x="549" y="328"/>
                </a:lnTo>
                <a:lnTo>
                  <a:pt x="549" y="296"/>
                </a:lnTo>
                <a:lnTo>
                  <a:pt x="549" y="266"/>
                </a:lnTo>
                <a:lnTo>
                  <a:pt x="543" y="237"/>
                </a:lnTo>
                <a:lnTo>
                  <a:pt x="536" y="208"/>
                </a:lnTo>
                <a:lnTo>
                  <a:pt x="526" y="182"/>
                </a:lnTo>
                <a:lnTo>
                  <a:pt x="513" y="156"/>
                </a:lnTo>
                <a:lnTo>
                  <a:pt x="497" y="130"/>
                </a:lnTo>
                <a:lnTo>
                  <a:pt x="481" y="107"/>
                </a:lnTo>
                <a:lnTo>
                  <a:pt x="461" y="87"/>
                </a:lnTo>
                <a:lnTo>
                  <a:pt x="439" y="68"/>
                </a:lnTo>
                <a:lnTo>
                  <a:pt x="416" y="52"/>
                </a:lnTo>
                <a:lnTo>
                  <a:pt x="393" y="35"/>
                </a:lnTo>
                <a:lnTo>
                  <a:pt x="367" y="22"/>
                </a:lnTo>
                <a:lnTo>
                  <a:pt x="338" y="13"/>
                </a:lnTo>
                <a:lnTo>
                  <a:pt x="309" y="6"/>
                </a:lnTo>
                <a:lnTo>
                  <a:pt x="279" y="3"/>
                </a:lnTo>
                <a:lnTo>
                  <a:pt x="250" y="0"/>
                </a:lnTo>
                <a:lnTo>
                  <a:pt x="231" y="0"/>
                </a:lnTo>
                <a:lnTo>
                  <a:pt x="211" y="3"/>
                </a:lnTo>
                <a:lnTo>
                  <a:pt x="192" y="6"/>
                </a:lnTo>
                <a:lnTo>
                  <a:pt x="175" y="9"/>
                </a:lnTo>
                <a:lnTo>
                  <a:pt x="156" y="13"/>
                </a:lnTo>
                <a:lnTo>
                  <a:pt x="140" y="19"/>
                </a:lnTo>
                <a:lnTo>
                  <a:pt x="123" y="29"/>
                </a:lnTo>
                <a:lnTo>
                  <a:pt x="107" y="35"/>
                </a:lnTo>
                <a:lnTo>
                  <a:pt x="91" y="45"/>
                </a:lnTo>
                <a:lnTo>
                  <a:pt x="74" y="55"/>
                </a:lnTo>
                <a:lnTo>
                  <a:pt x="61" y="65"/>
                </a:lnTo>
                <a:lnTo>
                  <a:pt x="45" y="78"/>
                </a:lnTo>
                <a:lnTo>
                  <a:pt x="35" y="91"/>
                </a:lnTo>
                <a:lnTo>
                  <a:pt x="22" y="104"/>
                </a:lnTo>
                <a:lnTo>
                  <a:pt x="9" y="117"/>
                </a:lnTo>
                <a:lnTo>
                  <a:pt x="0" y="133"/>
                </a:lnTo>
                <a:lnTo>
                  <a:pt x="84" y="146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33" y="156"/>
                </a:lnTo>
                <a:lnTo>
                  <a:pt x="218" y="169"/>
                </a:lnTo>
                <a:lnTo>
                  <a:pt x="218" y="435"/>
                </a:lnTo>
                <a:lnTo>
                  <a:pt x="162" y="445"/>
                </a:lnTo>
                <a:lnTo>
                  <a:pt x="162" y="328"/>
                </a:lnTo>
                <a:lnTo>
                  <a:pt x="162" y="328"/>
                </a:lnTo>
                <a:lnTo>
                  <a:pt x="162" y="322"/>
                </a:lnTo>
                <a:lnTo>
                  <a:pt x="166" y="315"/>
                </a:lnTo>
                <a:lnTo>
                  <a:pt x="166" y="305"/>
                </a:lnTo>
                <a:lnTo>
                  <a:pt x="166" y="296"/>
                </a:lnTo>
                <a:lnTo>
                  <a:pt x="166" y="286"/>
                </a:lnTo>
                <a:lnTo>
                  <a:pt x="166" y="276"/>
                </a:lnTo>
                <a:lnTo>
                  <a:pt x="166" y="273"/>
                </a:lnTo>
                <a:lnTo>
                  <a:pt x="166" y="273"/>
                </a:lnTo>
                <a:lnTo>
                  <a:pt x="162" y="273"/>
                </a:lnTo>
                <a:lnTo>
                  <a:pt x="162" y="273"/>
                </a:lnTo>
                <a:lnTo>
                  <a:pt x="162" y="273"/>
                </a:lnTo>
                <a:lnTo>
                  <a:pt x="130" y="449"/>
                </a:lnTo>
                <a:lnTo>
                  <a:pt x="78" y="458"/>
                </a:lnTo>
                <a:lnTo>
                  <a:pt x="39" y="266"/>
                </a:lnTo>
                <a:lnTo>
                  <a:pt x="39" y="266"/>
                </a:lnTo>
                <a:lnTo>
                  <a:pt x="39" y="273"/>
                </a:lnTo>
                <a:lnTo>
                  <a:pt x="39" y="283"/>
                </a:lnTo>
                <a:lnTo>
                  <a:pt x="39" y="292"/>
                </a:lnTo>
                <a:lnTo>
                  <a:pt x="39" y="305"/>
                </a:lnTo>
                <a:lnTo>
                  <a:pt x="39" y="315"/>
                </a:lnTo>
                <a:lnTo>
                  <a:pt x="39" y="325"/>
                </a:lnTo>
                <a:lnTo>
                  <a:pt x="42" y="331"/>
                </a:lnTo>
                <a:lnTo>
                  <a:pt x="42" y="335"/>
                </a:lnTo>
                <a:lnTo>
                  <a:pt x="42" y="465"/>
                </a:lnTo>
                <a:lnTo>
                  <a:pt x="6" y="471"/>
                </a:lnTo>
                <a:lnTo>
                  <a:pt x="16" y="484"/>
                </a:lnTo>
                <a:lnTo>
                  <a:pt x="29" y="497"/>
                </a:lnTo>
                <a:lnTo>
                  <a:pt x="42" y="510"/>
                </a:lnTo>
                <a:lnTo>
                  <a:pt x="52" y="523"/>
                </a:lnTo>
                <a:lnTo>
                  <a:pt x="68" y="533"/>
                </a:lnTo>
                <a:lnTo>
                  <a:pt x="81" y="543"/>
                </a:lnTo>
                <a:lnTo>
                  <a:pt x="97" y="553"/>
                </a:lnTo>
                <a:lnTo>
                  <a:pt x="110" y="559"/>
                </a:lnTo>
                <a:lnTo>
                  <a:pt x="127" y="569"/>
                </a:lnTo>
                <a:lnTo>
                  <a:pt x="143" y="575"/>
                </a:lnTo>
                <a:lnTo>
                  <a:pt x="159" y="582"/>
                </a:lnTo>
                <a:lnTo>
                  <a:pt x="179" y="585"/>
                </a:lnTo>
                <a:lnTo>
                  <a:pt x="195" y="588"/>
                </a:lnTo>
                <a:lnTo>
                  <a:pt x="211" y="592"/>
                </a:lnTo>
                <a:lnTo>
                  <a:pt x="231" y="595"/>
                </a:lnTo>
                <a:lnTo>
                  <a:pt x="250" y="595"/>
                </a:lnTo>
                <a:lnTo>
                  <a:pt x="250" y="595"/>
                </a:lnTo>
                <a:close/>
              </a:path>
            </a:pathLst>
          </a:custGeom>
          <a:solidFill>
            <a:srgbClr val="0000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46080" y="1998720"/>
            <a:ext cx="728352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NYCT Subway Car Program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ogress Update to CPOC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ichael P. Wetherell, P.E.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Vice President and Chief Mechanical Officer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epartment of Subways</a:t>
            </a:r>
            <a:br>
              <a:rPr sz="16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vember 26, 2012</a:t>
            </a:r>
            <a:endParaRPr b="1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32400" y="6216480"/>
            <a:ext cx="28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NYCT PC Bullet"/>
              </a:rPr>
              <a:t>,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89080" y="874800"/>
          <a:ext cx="8291520" cy="30744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 new ‘A’ Division cars + 380 converted R142A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Order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new 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converted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Order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new 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 converted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(46) 11-car trains for Flushing CBTC / </a:t>
                      </a:r>
                      <a:r>
                        <a:rPr b="0" lang="en-US" sz="1200" spc="-1" strike="noStrike">
                          <a:solidFill>
                            <a:srgbClr val="990099"/>
                          </a:solidFill>
                          <a:latin typeface="NYCT PC Bullet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ine Extension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Awarded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8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Awarded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/30/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and Conditional Acceptance Completion: 2/28/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6.5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$497.2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13.7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90960" y="56340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84040" y="4413240"/>
            <a:ext cx="8296560" cy="229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single C-car scheduled to be delivered early November 201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of October 18, 2012: 70 cars in production at Kawasaki’s US facilities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Qualification Tests on the Base Order are 90% complete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Qualification Tests ongo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y of Base Contract trains by end of 201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of RTO personnel for Qualification Test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Unit Qualification Testing on NYCT property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080" y="4102200"/>
            <a:ext cx="14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B80-7F3C-4196-95DA-1885ECBA2A63}" type="slidenum">
              <a:t>2</a:t>
            </a:fld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3720" y="717480"/>
            <a:ext cx="3164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R188 11-Car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Train Cons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18140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The </a:t>
            </a:r>
            <a:r>
              <a:rPr b="0" lang="en-US" sz="1600" spc="-1" strike="noStrike">
                <a:solidFill>
                  <a:srgbClr val="990099"/>
                </a:solidFill>
                <a:latin typeface="NYCT PC Bullet"/>
              </a:rPr>
              <a:t>7</a:t>
            </a:r>
            <a:r>
              <a:rPr b="1" lang="en-US" sz="16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 is the only NYCT subway line that runs 11-car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7440" y="1808280"/>
            <a:ext cx="8709120" cy="184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656-1904-4327-B3EF-833C4F8D7DC4}" type="slidenum">
              <a:t>3</a:t>
            </a:fld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6120" y="590400"/>
            <a:ext cx="8620200" cy="53532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Delivery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5267160"/>
            <a:ext cx="8439120" cy="10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Order deliveries complete by December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new Option train scheduled to be delivered Ma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ght new trains forecasted to be conditionally accepted in time for opening of </a:t>
            </a:r>
            <a:r>
              <a:rPr b="0" lang="en-US" sz="1400" spc="-1" strike="noStrike">
                <a:solidFill>
                  <a:srgbClr val="990099"/>
                </a:solidFill>
                <a:latin typeface="NYCT PC Bullet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e 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ion of delivery of all new and converted trains scheduled for 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ushing Line CBTC forecasted completion is Novem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00200" y="984240"/>
          <a:ext cx="5797440" cy="40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84240"/>
                    <a:ext cx="57974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5B08-841C-4503-9DED-0B57D431C3EA}" type="slidenum">
              <a:t>4</a:t>
            </a:fld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85840" y="1092240"/>
          <a:ext cx="8545320" cy="3143160"/>
        </p:xfrm>
        <a:graphic>
          <a:graphicData uri="http://schemas.openxmlformats.org/drawingml/2006/table">
            <a:tbl>
              <a:tblPr/>
              <a:tblGrid>
                <a:gridCol w="857160"/>
                <a:gridCol w="3657600"/>
                <a:gridCol w="2057400"/>
                <a:gridCol w="1973160"/>
              </a:tblGrid>
              <a:tr h="3787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N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9069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Webdings"/>
                          <a:ea typeface="Webdings"/>
                        </a:rPr>
                        <a:t>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new single C-car for placement within the 10 R142A conversion car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two new train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 Order Conditional Accep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 201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201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5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Webdings"/>
                          <a:ea typeface="Webdings"/>
                        </a:rPr>
                        <a:t>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173160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 Order Car Delivery Comple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460440" indent="-460440"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Activity an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63520" y="4800600"/>
            <a:ext cx="10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50920" y="5099040"/>
            <a:ext cx="616428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ificant impacts on Cost and/or Construction/Beneficial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llow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s that can lead to cost increase or schedule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near-term impact on cost or schedu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DBE-05E5-4347-8022-6E71E085C56F}" type="slidenum">
              <a:t>5</a:t>
            </a:fld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89080" y="1092240"/>
          <a:ext cx="8291520" cy="31986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4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60-foot ‘B’ Division cars (design based on R160 c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provide 36½ tr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car unit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5-car unit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ed:   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04/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of test train: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12/22/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1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roduction unit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7/27/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Completion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0/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35.6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84040" y="4797000"/>
            <a:ext cx="8267760" cy="190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warded to Bombardier Transit Corporation on June 4, 201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d Master Program Schedule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Technical Specification Review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liminary Design Review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-Process Design Review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080" y="4486320"/>
            <a:ext cx="14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79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F8E5-929E-4E41-A662-593686028140}" type="slidenum">
              <a:t>6</a:t>
            </a:fld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89080" y="1092240"/>
          <a:ext cx="8291520" cy="27972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2680" indent="-1126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2 60-foot ‘B’ Div cars built by ALSKAW replaces older 60-foot c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I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cars delivered May 6,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lose-Out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490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3.0 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249.2 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I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42.3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4647960"/>
            <a:ext cx="826776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-Month MDBF: 645,207 miles (September 2012)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ars off of warranty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ments: </a:t>
            </a:r>
            <a:r>
              <a:rPr b="0" lang="en-US" sz="1600" spc="-1" strike="noStrike">
                <a:solidFill>
                  <a:srgbClr val="fccc0a"/>
                </a:solidFill>
                <a:latin typeface="NYCT PC Bullet"/>
              </a:rPr>
              <a:t>N</a:t>
            </a:r>
            <a:r>
              <a:rPr b="0" lang="en-US" sz="1600" spc="-1" strike="noStrike">
                <a:solidFill>
                  <a:srgbClr val="f99f1c"/>
                </a:solidFill>
                <a:latin typeface="NYCT PC Bullet"/>
              </a:rPr>
              <a:t>M</a:t>
            </a:r>
            <a:r>
              <a:rPr b="0" lang="en-US" sz="1600" spc="-1" strike="noStrike">
                <a:solidFill>
                  <a:srgbClr val="bb8d4c"/>
                </a:solidFill>
                <a:latin typeface="NYCT PC Bullet"/>
              </a:rPr>
              <a:t>JZ</a:t>
            </a:r>
            <a:r>
              <a:rPr b="0" lang="en-US" sz="1600" spc="-1" strike="noStrike">
                <a:solidFill>
                  <a:srgbClr val="fccc0a"/>
                </a:solidFill>
                <a:latin typeface="NYCT PC Bullet"/>
              </a:rPr>
              <a:t>Q</a:t>
            </a:r>
            <a:r>
              <a:rPr b="0" lang="en-US" sz="1600" spc="-1" strike="noStrike">
                <a:solidFill>
                  <a:srgbClr val="285091"/>
                </a:solidFill>
                <a:latin typeface="NYCT PC Bullet"/>
              </a:rPr>
              <a:t>E</a:t>
            </a:r>
            <a:r>
              <a:rPr b="0" lang="en-US" sz="1600" spc="-1" strike="noStrike">
                <a:solidFill>
                  <a:srgbClr val="f99f1c"/>
                </a:solidFill>
                <a:latin typeface="NYCT PC Bullet"/>
              </a:rPr>
              <a:t>F</a:t>
            </a:r>
            <a:r>
              <a:rPr b="0" lang="en-US" sz="1600" spc="-1" strike="noStrike">
                <a:solidFill>
                  <a:srgbClr val="808183"/>
                </a:solidFill>
                <a:latin typeface="NYCT PC Bullet"/>
              </a:rPr>
              <a:t>L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field modifications and deliverable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out Forecast for June 201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2080" y="4191120"/>
            <a:ext cx="1370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60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E1B2-A93D-43EA-8B48-A84237B8E309}" type="slidenum">
              <a:t>7</a:t>
            </a:fld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89080" y="1095480"/>
          <a:ext cx="8291520" cy="4962240"/>
        </p:xfrm>
        <a:graphic>
          <a:graphicData uri="http://schemas.openxmlformats.org/drawingml/2006/table">
            <a:tbl>
              <a:tblPr/>
              <a:tblGrid>
                <a:gridCol w="1387440"/>
                <a:gridCol w="6904080"/>
              </a:tblGrid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4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R211 ‘B’ Division cars to replace 752 R46 c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239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fleet growth cars (current forecast – 84 c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239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ars for SIR fleet re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design to address NYCT’s 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aster Plan approved in December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Award of Technical Consultant (Design Pha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P Negotiations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MTA Board Approval: Novem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 Contract: Decem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 Purchase Award Proposed for 2015 – 2019 Capital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211 Future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402-DF96-4714-BE6F-C009553C258D}" type="slidenum">
              <a:t>8</a:t>
            </a:fld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13:04:55Z</dcterms:created>
  <dc:creator/>
  <dc:description>Change from v8.2:
Use Sep 2012 R160 MDBF
R188 Base Cond Accept from Jun to May 2013</dc:description>
  <dc:language>en-US</dc:language>
  <cp:lastModifiedBy>NYCT</cp:lastModifiedBy>
  <cp:lastPrinted>2003-02-07T16:33:35Z</cp:lastPrinted>
  <dcterms:modified xsi:type="dcterms:W3CDTF">2012-11-26T22:33:07Z</dcterms:modified>
  <cp:revision>2247</cp:revision>
  <dc:subject/>
  <dc:title>Subway Car Program Update</dc:title>
</cp:coreProperties>
</file>