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791A8-6547-449D-B0F7-4D0261A8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823780-1BFA-49AF-8530-EBD0E8371D60}" type="datetime">
              <a:rPr b="0" lang="en-US" sz="1200" spc="-1" strike="noStrike">
                <a:solidFill>
                  <a:srgbClr val="000000"/>
                </a:solidFill>
                <a:latin typeface="Arial"/>
              </a:rPr>
              <a:t>07/30/26</a:t>
            </a:fld>
            <a:r>
              <a:rPr b="0" lang="en-US" sz="1200" spc="-1" strike="noStrike">
                <a:solidFill>
                  <a:srgbClr val="000000"/>
                </a:solidFill>
                <a:latin typeface="Arial"/>
              </a:rPr>
              <a:t> </a:t>
            </a:r>
            <a:fld id="{1C92BE8A-76CD-45B7-8D2B-877F350589BA}"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066DA9E-AF76-4953-97C0-0DBFBA1CB7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C48698-BCDE-4C43-B22D-9A69D4B6F9A9}" type="datetime">
              <a:rPr b="0" lang="en-US" sz="1200" spc="-1" strike="noStrike">
                <a:solidFill>
                  <a:srgbClr val="000000"/>
                </a:solidFill>
                <a:latin typeface="Arial"/>
              </a:rPr>
              <a:t>07/30/26</a:t>
            </a:fld>
            <a:r>
              <a:rPr b="0" lang="en-US" sz="1200" spc="-1" strike="noStrike">
                <a:solidFill>
                  <a:srgbClr val="000000"/>
                </a:solidFill>
                <a:latin typeface="Arial"/>
              </a:rPr>
              <a:t> </a:t>
            </a:r>
            <a:fld id="{EE49A64F-C504-4A3A-AD4D-2B5FF6FE41BF}"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A002448-1D19-4B42-895A-5897E0279E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708B65-7132-4989-8A43-02CA46B7660E}" type="datetime">
              <a:rPr b="0" lang="en-US" sz="1200" spc="-1" strike="noStrike">
                <a:solidFill>
                  <a:srgbClr val="000000"/>
                </a:solidFill>
                <a:latin typeface="Arial"/>
              </a:rPr>
              <a:t>07/30/26</a:t>
            </a:fld>
            <a:r>
              <a:rPr b="0" lang="en-US" sz="1200" spc="-1" strike="noStrike">
                <a:solidFill>
                  <a:srgbClr val="000000"/>
                </a:solidFill>
                <a:latin typeface="Arial"/>
              </a:rPr>
              <a:t> </a:t>
            </a:r>
            <a:fld id="{456B5C8B-56DE-4569-9D6C-7EE84DD2A928}"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229DA69-CE03-4C52-B40B-F60FFD6E999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1ACA9A-5FAC-49F1-9B25-EA2784BF3192}" type="datetime">
              <a:rPr b="0" lang="en-US" sz="1200" spc="-1" strike="noStrike">
                <a:solidFill>
                  <a:srgbClr val="000000"/>
                </a:solidFill>
                <a:latin typeface="Arial"/>
              </a:rPr>
              <a:t>07/30/26</a:t>
            </a:fld>
            <a:r>
              <a:rPr b="0" lang="en-US" sz="1200" spc="-1" strike="noStrike">
                <a:solidFill>
                  <a:srgbClr val="000000"/>
                </a:solidFill>
                <a:latin typeface="Arial"/>
              </a:rPr>
              <a:t> </a:t>
            </a:r>
            <a:fld id="{F68D330A-EABA-42DA-BDB1-F0C5DDD9ED24}"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2E368E-E687-4718-B51A-D5B6E0CDD9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035C9C-DA0B-41C9-BD19-C13E220BBF39}" type="datetime">
              <a:rPr b="0" lang="en-US" sz="1200" spc="-1" strike="noStrike">
                <a:solidFill>
                  <a:srgbClr val="000000"/>
                </a:solidFill>
                <a:latin typeface="Arial"/>
              </a:rPr>
              <a:t>07/30/26</a:t>
            </a:fld>
            <a:r>
              <a:rPr b="0" lang="en-US" sz="1200" spc="-1" strike="noStrike">
                <a:solidFill>
                  <a:srgbClr val="000000"/>
                </a:solidFill>
                <a:latin typeface="Arial"/>
              </a:rPr>
              <a:t> </a:t>
            </a:r>
            <a:fld id="{04F1BDB2-DA27-4F80-BAF3-513BA16A1268}"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F16350-2DC0-47A8-90B0-E210E3B3F9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79965E-C209-4664-B070-DC979A4466D8}" type="datetime">
              <a:rPr b="0" lang="en-US" sz="1200" spc="-1" strike="noStrike">
                <a:solidFill>
                  <a:srgbClr val="000000"/>
                </a:solidFill>
                <a:latin typeface="Arial"/>
              </a:rPr>
              <a:t>07/30/26</a:t>
            </a:fld>
            <a:r>
              <a:rPr b="0" lang="en-US" sz="1200" spc="-1" strike="noStrike">
                <a:solidFill>
                  <a:srgbClr val="000000"/>
                </a:solidFill>
                <a:latin typeface="Arial"/>
              </a:rPr>
              <a:t> </a:t>
            </a:r>
            <a:fld id="{93C5376D-4716-401E-827B-2944266D5502}"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B74147-4F60-41D6-8A1C-5B505D8A3E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3D008B-9A12-4554-895C-89DEAB1C0EF0}" type="datetime">
              <a:rPr b="0" lang="en-US" sz="1200" spc="-1" strike="noStrike">
                <a:solidFill>
                  <a:srgbClr val="000000"/>
                </a:solidFill>
                <a:latin typeface="Arial"/>
              </a:rPr>
              <a:t>07/30/26</a:t>
            </a:fld>
            <a:r>
              <a:rPr b="0" lang="en-US" sz="1200" spc="-1" strike="noStrike">
                <a:solidFill>
                  <a:srgbClr val="000000"/>
                </a:solidFill>
                <a:latin typeface="Arial"/>
              </a:rPr>
              <a:t> </a:t>
            </a:r>
            <a:fld id="{F52C6730-FAFD-49A0-86F2-731335586026}"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1113DD-2EC0-4CDE-B1CA-300A3CC70EC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C945D-6B61-44B6-BD73-1481FA4F4817}" type="datetime">
              <a:rPr b="0" lang="en-US" sz="1200" spc="-1" strike="noStrike">
                <a:solidFill>
                  <a:srgbClr val="000000"/>
                </a:solidFill>
                <a:latin typeface="Calibri"/>
              </a:rPr>
              <a:t>07/30/26</a:t>
            </a:fld>
            <a:r>
              <a:rPr b="0" lang="en-US" sz="1200" spc="-1" strike="noStrike">
                <a:solidFill>
                  <a:srgbClr val="000000"/>
                </a:solidFill>
                <a:latin typeface="Calibri"/>
              </a:rPr>
              <a:t> </a:t>
            </a:r>
            <a:fld id="{4F61E3E0-DC44-4AB8-9BC6-B2C94D488E72}" type="datetime10">
              <a:rPr b="0" lang="en-US" sz="1200" spc="-1" strike="noStrike">
                <a:solidFill>
                  <a:srgbClr val="000000"/>
                </a:solidFill>
                <a:latin typeface="Calibri"/>
              </a:rPr>
              <a:t>11:31</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F231B-26E4-4D0F-9366-6EAF13CA6A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901A72-83E8-4845-83A4-497FF0FD928D}" type="datetime">
              <a:rPr b="0" lang="en-US" sz="1200" spc="-1" strike="noStrike">
                <a:solidFill>
                  <a:srgbClr val="000000"/>
                </a:solidFill>
                <a:latin typeface="Arial"/>
              </a:rPr>
              <a:t>07/30/26</a:t>
            </a:fld>
            <a:r>
              <a:rPr b="0" lang="en-US" sz="1200" spc="-1" strike="noStrike">
                <a:solidFill>
                  <a:srgbClr val="000000"/>
                </a:solidFill>
                <a:latin typeface="Arial"/>
              </a:rPr>
              <a:t> </a:t>
            </a:r>
            <a:fld id="{1044D3C5-27AE-488C-9CA7-8ACB14C3BD9E}"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10B86C-0748-407F-8934-E4F94E92950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DA2411-6097-4A87-A415-0CB763E5F7BF}" type="datetime">
              <a:rPr b="0" lang="en-US" sz="1200" spc="-1" strike="noStrike">
                <a:solidFill>
                  <a:srgbClr val="000000"/>
                </a:solidFill>
                <a:latin typeface="Arial"/>
              </a:rPr>
              <a:t>07/30/26</a:t>
            </a:fld>
            <a:r>
              <a:rPr b="0" lang="en-US" sz="1200" spc="-1" strike="noStrike">
                <a:solidFill>
                  <a:srgbClr val="000000"/>
                </a:solidFill>
                <a:latin typeface="Arial"/>
              </a:rPr>
              <a:t> </a:t>
            </a:r>
            <a:fld id="{7CD9FF1D-EE80-4943-802A-8FDB0C4C49F9}"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6D9DBB-D13F-4A63-BE71-1A9D5B88F96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E0A4BA2-22C9-40FA-8E31-23B86E5B2EC9}" type="datetime">
              <a:rPr b="0" lang="en-US" sz="1200" spc="-1" strike="noStrike">
                <a:solidFill>
                  <a:srgbClr val="000000"/>
                </a:solidFill>
                <a:latin typeface="Arial"/>
              </a:rPr>
              <a:t>07/30/26</a:t>
            </a:fld>
            <a:r>
              <a:rPr b="0" lang="en-US" sz="1200" spc="-1" strike="noStrike">
                <a:solidFill>
                  <a:srgbClr val="000000"/>
                </a:solidFill>
                <a:latin typeface="Arial"/>
              </a:rPr>
              <a:t> </a:t>
            </a:r>
            <a:fld id="{3593A5A8-F0B7-48F0-BF1A-46B9A518B3D6}" type="datetime10">
              <a:rPr b="0" lang="en-US" sz="1200" spc="-1" strike="noStrike">
                <a:solidFill>
                  <a:srgbClr val="000000"/>
                </a:solidFill>
                <a:latin typeface="Arial"/>
              </a:rPr>
              <a:t>11:31</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13C2FE-B616-42D5-87AA-B856923E619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2E8A8-44C5-4919-BCE3-B0D4097F0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D35D-FCC3-4375-9074-3DE2E7E9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2619-E12A-4C10-9A28-7F721175F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D8F46-3F8E-4B5F-B1FF-39A2AE097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1D199-F2AE-4660-A49C-319AD85A6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C8E10-5ABC-4C37-A39D-2F5E90923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A989E-7282-4D55-8370-735F01067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21DB1-966F-461B-82A3-9C7978E8E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23F1-CE46-46A7-9EA7-8F6AE64D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2620-D6A6-4A2E-81A6-98C0E6A5F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B3F9-25D0-4A36-B862-32F8652C2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C0F6-F3D6-427F-8D62-CD8D76C62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FAC9-EA62-45BD-A641-9B72F806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5FAFA-4CF0-4BAE-ADA2-BFCAD92A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B29F4-2B44-4124-9EDD-5BB33496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B3C83-71E6-43A2-94B5-9BBBAAE1D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C4E61-B370-48D7-ABBF-839F46E03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AA8FA1-5350-45F9-8680-C9983D78B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303F6-107D-4A20-B0FF-C4DE806E3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8C357-ADF9-4CF5-958A-B80F3CBB9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763EC-DE7B-4106-ABA8-715BD6AAD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FFD55-9553-4710-9483-73AC63A85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708E-8564-4060-BB2B-4BC8CC2D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66D11-A194-4E66-9CB6-682216D46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2700C-114B-4B1B-A2E0-12532CF7B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19677-197F-4570-8282-DA3F5E0A6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F5ED0-7077-40CC-BE68-E53DF518A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E6B84-9C48-44BC-94C6-2A5BAA801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027F2-3411-47D0-8CD3-8E95574A4A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1F0EAA-0884-42ED-81AF-57F03BA35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2B0B4-305A-48E6-BCE0-574FA496F2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68741-1AE8-4340-84D1-451054E0C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06933-869D-4CB7-8EFC-2E29FCFB7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9AFF-704B-416A-9F92-02229578F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90057-1F5E-4622-9DBD-E39A01D9E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6BF6A-DCF5-4420-85E0-F334A82B0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603E4-F028-4453-B1F9-ADC2FDEE8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D2800-330E-4FD5-9EEE-97A8A1F98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31686-43CD-4BCB-8C14-93F884972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50ED9-377D-4AC7-B5B3-10ACB614C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ED0C3-D3FB-48AC-A950-5F9C484B8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1CDFC-4725-4801-905C-1B11FF7D43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19505B-13F5-487C-AB21-00CF988A20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B8DF0C-997B-42BE-B3F8-8B6B9BC9C2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BFD9-FA6E-4422-BE57-CFCF668CE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7C957-D327-4CDF-B5A0-127C9594E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BBB2D-3530-4905-9A60-83695B63B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197D7-B1D6-4FB9-9354-331298959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848ED-2135-4934-B3EC-235D4F759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B5405F-FB95-4061-80E6-288537912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B9C93-026D-40E3-B599-154D0B099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D95EA-C6A9-466D-B2E9-0D1E4A23D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DC3A0-EB60-4E45-A80A-977057B19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212DB-9CFC-4781-B080-5A8651E0F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773CB0-AD8B-4430-BB6A-2C8BCD441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27919-D2BD-43F1-9F3D-197E6C0C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7A6D9-99CD-4F90-B084-A11B3AB1E7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30345E-C5FE-487A-9EB7-1B9273A4D4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DC53A-F609-4901-86A5-FCC09B8CB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0613A3-190F-4A9B-A693-9DA436AB5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CCA30-8BEE-4750-B14A-02CB3A4A1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3C47C-8FD9-471A-A434-8BA65584F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EC1DC-832C-4E03-8F1D-24286E340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11B54-E80B-465C-8E49-E6FD37452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15585-56B9-456D-AA58-9C8C60602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B398C-57A4-4754-9066-789A681D0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5022-B9C0-41B6-9F41-6DD28A1F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EBDB4-6DE3-43E6-92C5-9EF0DA39A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8CF58-3F4D-4034-9701-8289C9C08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3CFA1-5D8D-4A4D-A885-E034B3F37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019647-50B3-4C07-AE83-6A80FEA665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A7FF0-8C44-469B-86AA-3595C26A9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86CAD3-037C-40A7-8CCA-AF6C1D351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09D56-C6F0-4E59-B7CB-D7E395E3A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79F48B-3DCB-442D-91C9-23E79BA84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092F24-381B-4DD4-A3B4-1CDF95B26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2FD91-AA67-4FD9-994D-86612268D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52BB-D2DB-4E7F-A310-C64761EF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52347-54C5-4F92-9EEB-747515F91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A13E1-C3AE-4955-8607-5464B9992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A27F9-1DE9-4114-8061-356EB9B7B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2C836D-35BD-4E5B-945F-6AF84E5E8F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440EF8-3CAE-4E0E-84C5-AFBAC538D4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E2B5-9BFD-42E3-B898-86E6CC5AB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50D4B-E44B-4395-AB8C-C9EF9065C599}"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51EE7-638E-4212-878E-E19898A37834}"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84EC1-6823-4990-8200-11A2F136912D}"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7752F-53D1-4A2B-85FD-84D9C8EF9214}"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4F301-C9C4-435B-8B68-5C89DC24CE5A}"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EB2FD-4CEF-40F1-9B9C-A832F508F163}"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8CD8F-02AD-4DD4-9D33-645DB30159B5}"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EEF90-208B-4F83-89D3-51132D702E10}"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A4136-7421-40A3-9098-846338DFAD38}"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13593-7BA5-4DE2-AA26-3799BD0476C0}"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B081A-97E9-4EF5-B85B-CD0A1A356726}"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6A965-A5F9-4FC4-9709-4531A12A2A1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049BE-8495-432E-AFDB-F48EAF007F7F}" type="datetime">
              <a:rPr b="0" lang="en-US" sz="1000" spc="-1" strike="noStrike">
                <a:solidFill>
                  <a:srgbClr val="898989"/>
                </a:solidFill>
                <a:latin typeface="Arial"/>
              </a:rPr>
              <a:t>07/30/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E737F-17CC-4DC7-A9B9-8EED7276510C}"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2940A-11FB-42B0-897D-58B3878EC87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1DF1A-E29D-47D2-BD46-40C7275B04E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BBC8E-B844-4C71-91A0-1729E1C99DF6}"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F9B3D-6DD9-4643-9958-F3548A717EEE}"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7E096-82B8-4C03-8624-17440A09D937}"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9B11E-B8A5-4E01-9C77-37EB16180B64}"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96B51-A0B7-4788-AECE-C2B11BB2A9EB}"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DEDE6-E9EA-464E-92A0-777A73E54EE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00793-D504-490B-A890-36E278FDCCB0}"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F8553-1AFA-4998-8290-A323C643DB3A}"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AB7C4-F61E-475A-9572-F61B7D4FF38F}"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705B9-6832-411D-8088-21524A2E7A3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552A6-2BA3-4801-9517-80B558556D7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