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BBC3A-3374-4869-B729-F65494641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79759B9-3016-46E3-A735-65C873484C53}" type="datetime">
              <a:rPr b="0" lang="en-US" sz="1200" spc="-1" strike="noStrike">
                <a:solidFill>
                  <a:srgbClr val="000000"/>
                </a:solidFill>
                <a:latin typeface="Arial"/>
              </a:rPr>
              <a:t>07/31/26</a:t>
            </a:fld>
            <a:r>
              <a:rPr b="0" lang="en-US" sz="1200" spc="-1" strike="noStrike">
                <a:solidFill>
                  <a:srgbClr val="000000"/>
                </a:solidFill>
                <a:latin typeface="Arial"/>
              </a:rPr>
              <a:t> </a:t>
            </a:r>
            <a:fld id="{7E5EAF94-22A3-490C-B1FE-E2637C5EFF5F}"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0068AA-2188-40B9-8CE3-9DFA3F8E8F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5A907C-9B41-4F43-9D39-B276E741CF45}" type="datetime">
              <a:rPr b="0" lang="en-US" sz="1200" spc="-1" strike="noStrike">
                <a:solidFill>
                  <a:srgbClr val="000000"/>
                </a:solidFill>
                <a:latin typeface="Arial"/>
              </a:rPr>
              <a:t>07/31/26</a:t>
            </a:fld>
            <a:r>
              <a:rPr b="0" lang="en-US" sz="1200" spc="-1" strike="noStrike">
                <a:solidFill>
                  <a:srgbClr val="000000"/>
                </a:solidFill>
                <a:latin typeface="Arial"/>
              </a:rPr>
              <a:t> </a:t>
            </a:r>
            <a:fld id="{B3F44D5E-BECF-4BAE-B12D-6A711119F5B8}"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65DABBE-9601-461F-BD5A-714979E4773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1FEF79-375B-4C66-8716-2BBCA2958E13}" type="datetime">
              <a:rPr b="0" lang="en-US" sz="1200" spc="-1" strike="noStrike">
                <a:solidFill>
                  <a:srgbClr val="000000"/>
                </a:solidFill>
                <a:latin typeface="Arial"/>
              </a:rPr>
              <a:t>07/31/26</a:t>
            </a:fld>
            <a:r>
              <a:rPr b="0" lang="en-US" sz="1200" spc="-1" strike="noStrike">
                <a:solidFill>
                  <a:srgbClr val="000000"/>
                </a:solidFill>
                <a:latin typeface="Arial"/>
              </a:rPr>
              <a:t> </a:t>
            </a:r>
            <a:fld id="{3BA5F7B0-E409-4DAD-B5EA-E570DE0BC232}"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A4BB08-9683-462E-99A9-ACE778E9A4A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47D81FF-015F-4C9C-BEAE-B1758496858A}" type="datetime">
              <a:rPr b="0" lang="en-US" sz="1200" spc="-1" strike="noStrike">
                <a:solidFill>
                  <a:srgbClr val="000000"/>
                </a:solidFill>
                <a:latin typeface="Arial"/>
              </a:rPr>
              <a:t>07/31/26</a:t>
            </a:fld>
            <a:r>
              <a:rPr b="0" lang="en-US" sz="1200" spc="-1" strike="noStrike">
                <a:solidFill>
                  <a:srgbClr val="000000"/>
                </a:solidFill>
                <a:latin typeface="Arial"/>
              </a:rPr>
              <a:t> </a:t>
            </a:r>
            <a:fld id="{09E522D1-A725-4C2F-B92E-DA9EC598A341}"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EAC203-160D-4A90-AA69-CDA8504AF48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E0AC73B-54E9-45CC-AD06-7A94BF7A8323}" type="datetime">
              <a:rPr b="0" lang="en-US" sz="1200" spc="-1" strike="noStrike">
                <a:solidFill>
                  <a:srgbClr val="000000"/>
                </a:solidFill>
                <a:latin typeface="Arial"/>
              </a:rPr>
              <a:t>07/31/26</a:t>
            </a:fld>
            <a:r>
              <a:rPr b="0" lang="en-US" sz="1200" spc="-1" strike="noStrike">
                <a:solidFill>
                  <a:srgbClr val="000000"/>
                </a:solidFill>
                <a:latin typeface="Arial"/>
              </a:rPr>
              <a:t> </a:t>
            </a:r>
            <a:fld id="{51F1A048-C599-4EF3-B2AE-53C61E566377}"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A25A728-5C98-4479-9222-DC5187CA1A6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DA2BFC-C70C-4871-B495-4152D89235E0}" type="datetime">
              <a:rPr b="0" lang="en-US" sz="1200" spc="-1" strike="noStrike">
                <a:solidFill>
                  <a:srgbClr val="000000"/>
                </a:solidFill>
                <a:latin typeface="Arial"/>
              </a:rPr>
              <a:t>07/31/26</a:t>
            </a:fld>
            <a:r>
              <a:rPr b="0" lang="en-US" sz="1200" spc="-1" strike="noStrike">
                <a:solidFill>
                  <a:srgbClr val="000000"/>
                </a:solidFill>
                <a:latin typeface="Arial"/>
              </a:rPr>
              <a:t> </a:t>
            </a:r>
            <a:fld id="{61FBFCA4-276C-4268-AEE0-0EBAA3D5CEE3}"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3AF48C-E919-46B0-9A96-1A3EE2FFBFE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6EC6DE-C52F-41AD-85C5-E417C4435CBE}" type="datetime">
              <a:rPr b="0" lang="en-US" sz="1200" spc="-1" strike="noStrike">
                <a:solidFill>
                  <a:srgbClr val="000000"/>
                </a:solidFill>
                <a:latin typeface="Arial"/>
              </a:rPr>
              <a:t>07/31/26</a:t>
            </a:fld>
            <a:r>
              <a:rPr b="0" lang="en-US" sz="1200" spc="-1" strike="noStrike">
                <a:solidFill>
                  <a:srgbClr val="000000"/>
                </a:solidFill>
                <a:latin typeface="Arial"/>
              </a:rPr>
              <a:t> </a:t>
            </a:r>
            <a:fld id="{54678DB5-7952-4EB1-88E3-A5450BF972ED}"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F100815-FB44-429F-824C-798E49A2AB6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C2EBB-8341-4F28-843E-4478B9A8F819}" type="datetime">
              <a:rPr b="0" lang="en-US" sz="1200" spc="-1" strike="noStrike">
                <a:solidFill>
                  <a:srgbClr val="000000"/>
                </a:solidFill>
                <a:latin typeface="Calibri"/>
              </a:rPr>
              <a:t>07/31/26</a:t>
            </a:fld>
            <a:r>
              <a:rPr b="0" lang="en-US" sz="1200" spc="-1" strike="noStrike">
                <a:solidFill>
                  <a:srgbClr val="000000"/>
                </a:solidFill>
                <a:latin typeface="Calibri"/>
              </a:rPr>
              <a:t> </a:t>
            </a:r>
            <a:fld id="{AFAECB57-0F9A-46DE-9078-966F93AABC44}" type="datetime10">
              <a:rPr b="0" lang="en-US" sz="1200" spc="-1" strike="noStrike">
                <a:solidFill>
                  <a:srgbClr val="000000"/>
                </a:solidFill>
                <a:latin typeface="Calibri"/>
              </a:rPr>
              <a:t>02:41</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701C0-D726-4514-AE18-1A68424329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1DA2031-0EAA-49D7-876E-D047B9D8505F}" type="datetime">
              <a:rPr b="0" lang="en-US" sz="1200" spc="-1" strike="noStrike">
                <a:solidFill>
                  <a:srgbClr val="000000"/>
                </a:solidFill>
                <a:latin typeface="Arial"/>
              </a:rPr>
              <a:t>07/31/26</a:t>
            </a:fld>
            <a:r>
              <a:rPr b="0" lang="en-US" sz="1200" spc="-1" strike="noStrike">
                <a:solidFill>
                  <a:srgbClr val="000000"/>
                </a:solidFill>
                <a:latin typeface="Arial"/>
              </a:rPr>
              <a:t> </a:t>
            </a:r>
            <a:fld id="{CCB3DF7C-5BC4-49E1-9CD9-F9D07FDB37D4}"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F771417-5659-4760-8507-DFB9E29F8E3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722B17-72AF-4A14-B788-7EF49617FAA5}" type="datetime">
              <a:rPr b="0" lang="en-US" sz="1200" spc="-1" strike="noStrike">
                <a:solidFill>
                  <a:srgbClr val="000000"/>
                </a:solidFill>
                <a:latin typeface="Arial"/>
              </a:rPr>
              <a:t>07/31/26</a:t>
            </a:fld>
            <a:r>
              <a:rPr b="0" lang="en-US" sz="1200" spc="-1" strike="noStrike">
                <a:solidFill>
                  <a:srgbClr val="000000"/>
                </a:solidFill>
                <a:latin typeface="Arial"/>
              </a:rPr>
              <a:t> </a:t>
            </a:r>
            <a:fld id="{A18EA8B7-3C29-46E3-A2B2-3D96AB452B40}"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57FBCD2-6D36-4223-9DF4-9981710C70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202A6AD-49FA-4C38-AC72-30C21743B6F9}" type="datetime">
              <a:rPr b="0" lang="en-US" sz="1200" spc="-1" strike="noStrike">
                <a:solidFill>
                  <a:srgbClr val="000000"/>
                </a:solidFill>
                <a:latin typeface="Arial"/>
              </a:rPr>
              <a:t>07/31/26</a:t>
            </a:fld>
            <a:r>
              <a:rPr b="0" lang="en-US" sz="1200" spc="-1" strike="noStrike">
                <a:solidFill>
                  <a:srgbClr val="000000"/>
                </a:solidFill>
                <a:latin typeface="Arial"/>
              </a:rPr>
              <a:t> </a:t>
            </a:r>
            <a:fld id="{BDE01F73-BB2B-482A-88AA-2C34D93703D3}" type="datetime10">
              <a:rPr b="0" lang="en-US" sz="1200" spc="-1" strike="noStrike">
                <a:solidFill>
                  <a:srgbClr val="000000"/>
                </a:solidFill>
                <a:latin typeface="Arial"/>
              </a:rPr>
              <a:t>02:41</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66A54AD-A284-4E45-BB65-18CC2507F47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1A207-E9BD-46D3-A0AF-D57B65936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79656-5D53-47DA-8101-A6FB4F37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80C78-668F-456B-B9D5-395C86036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92EF3-2442-442E-834B-23BB8EE19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16893-C25D-466B-A7C4-91C885255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1CCB3-3CC5-4B56-92C4-EA443896E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216A5-C684-48D7-A3CC-0A77DDF09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21B0A-1736-41B3-8E23-CB30E91DD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59EDD-CF1A-4AC7-A0A3-3435F1F04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158E2-7CB8-4821-9A8A-75CD4AB3B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D85FB-D7F4-43CF-B794-AF59877D5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97C09-02D8-4D9C-B28F-6091BA7CE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D8AAA-B559-4252-8EEF-9CF306CAA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D4BE6-1288-4438-A6C9-A53A343D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41D1A-F6AE-44C9-8E8A-A2863A4C2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101FE-1C30-459C-B511-CC125CD80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DA517-2423-4285-8C6B-24A305F73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65992C-B5C3-4414-8DFD-87886EE39E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DF9F1-4426-4D3A-8F7D-FF17E3665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F88D6-EDA0-4752-88E0-D03590018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AF492-8B6C-4020-900D-FF52C51CF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CBAED-CEE1-48F9-9F9C-895A8FA12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1FEF7-1EC6-466E-959A-E01011B8C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34C46-5F36-4055-AB00-01D170CCA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62FCC-58C6-4C50-9F17-14ED6AB25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1497E-AA4F-4A6B-B0C1-DB2F8654E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89DB6-6BE8-430E-BDC9-7E8E03D3F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11464-E9CC-48EF-9B60-57A9282A9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79EB12-1077-41B7-939A-E2A3F1E624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597787-7323-4100-ABFF-7A2159F463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1C4116-FB55-4B97-A497-827B79D09D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0B9369-1C0A-47EB-9C19-E5D528809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5E229-9415-48F1-BB13-129595F0D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D8EBB-98A3-4C19-8606-1855B702C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6C03D-C2E4-4FBD-9C4F-CC6641A53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A4C69-3A54-4294-8309-8578F0B81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9D64E-74D1-4C03-86FB-ACC064CEE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57A98-7282-4C95-A567-205214037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CE7B6-33C6-412B-AD62-35E3ADDBE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5464A-DE41-4965-9DC8-20C139792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D5AECB-2EC7-43CD-AA0B-D5E860AB5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0740BF-1220-430D-A5FF-48D794B7D5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6D8168-9417-4B19-9452-3307F1EFFA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D3B356-9C4B-42EF-9FD5-14A9E6830D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6D7E6-879F-4B42-8B29-8C5EFE9D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34C5B-CC1D-4324-8910-FEC84CECC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0E0EF-6E85-4411-8629-01F2685C22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CFCFBE-EBF8-4916-8C53-69C2FF2B7C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CF18E-F533-4FBB-8C0B-4DE2D9F01F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FCA96-7EF2-4068-B90C-A0E3D52AB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74332-2DC7-43BB-8993-9770CA706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95A75-A1D6-4BF0-8ACB-B8BB9ADAF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CCB7A-DC31-43EC-A7B8-594475AA2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13B6C-0E2B-4F3B-84D1-005B6AE45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91F541-A278-4F88-9668-05CF4694D4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56223-B94E-4964-96E8-2B3130154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032D0-C523-4048-A213-171A9A90C7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524D33-3177-4C75-8FB4-4901DA84A5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B47B7-BB46-465E-B724-46C92E7696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67DCD7-53B3-418E-BC55-29C9D7FB2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61636-F1C5-4909-B071-19F05E6DFE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8012D-1977-474F-A3E7-63DEDC0D8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93EDD-88DA-4CAA-B3A0-25A773CBD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30317-5914-4CB1-9845-5D7350C0A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215FC-1D47-4887-A414-CD302D053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E084D-BF46-4E17-9740-F8E9C0284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1EC5F-E87D-4689-86C9-AD6D736C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112F01-DFB8-4F85-A67C-0CD770EF31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1EC15C-E0EA-4DFA-BE6A-EFD47F572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AE1975-55E5-42CD-9D27-078BCD59D8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C08F08-FD30-4EB6-AA98-42B37DC426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A1D6B-BD86-4C26-935D-7C3E96488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17B2C-8A6F-42E7-A400-438E548BC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AFE1C-D53A-424E-BCB7-9B83C59BC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97F3B-C51B-4631-8FCC-183133CBFF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C0D2E2-E1E2-49A9-8AB9-334D1CC88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9471D-1B6C-490E-91BA-06B49E928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9889-262D-4F05-B670-DCE5318F3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E059A-42DC-4492-AFB5-C108839F3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0318D-B990-4A02-A526-0B6A1368A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41134-A843-49B7-ACEA-3102C12402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05D6AC-F8DE-4944-8FD3-5C34BE1698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59E5E-4A42-465C-AF69-60B34A010C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EEB3-45AB-42D6-9702-0E46E2AD7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7DE56-4626-4C47-A815-D9F8CBDD2C6F}"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6EECC-03FF-4AC6-B92C-B3E7245673DC}"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39EAE-1CCA-4A79-9B0A-FF3A3EE7760C}"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32B5A-6BAD-4921-9A04-0C091743B098}"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52589-34AE-49BE-9A4A-363435EBBB82}"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D0CF6-A7D5-46A0-9127-D43DA2BF44F5}"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2CEC3-9FAD-4394-A005-A7A424BB7429}"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3B5A3-ED8D-4EF1-BDD1-4A49A7A73EF2}"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9953B-DB31-43E5-A89A-C95CF2FB544C}"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5EEBA-B318-42B0-8B07-99ECA1B63DBB}"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5B933-EB46-43DB-950B-B3AC17345D3D}"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90BA3-C5BC-48B5-A3D1-DD4B45DC297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8A2E3-BE48-48BC-A287-409B2F1557B8}"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7C35B-C7AD-4F7A-9454-26444C9131B5}"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97248-22C1-42DD-BCD8-29FC51CB6998}"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1D87F-9BEE-4BB4-83D0-2465BD4491AB}"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147F6-3283-4661-9479-238143FEB01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B813D-3F97-4F11-A200-C19DEC1BDD8D}"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24F47-FD1B-4A2A-90A9-A08753CE227B}"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D55BD-4A37-4821-B091-134DBC00BD7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B5067-3DE8-4267-B482-5AA4C8F9D3AF}"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95658-0885-492B-B402-BCB4ECF094D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3F3BC-C685-4B33-BB8B-386BF29E776B}"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E223A-A346-486C-A1D3-ADEF45F2C001}"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0AC5E-983D-4873-8303-C20C26DFB55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63579-9E41-4301-A0CC-CA6862383F8F}"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B1395-DF51-48F9-B700-3514765845DF}"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