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0" y="8381880"/>
            <a:ext cx="137304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D675C0A9-D628-48F4-8F4B-2284E3ED45B9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FC39D747-05A9-4A41-BE5E-0B840B34358C}" type="datetime10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2:55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3000" y="0"/>
            <a:ext cx="6883560" cy="516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-360" y="5162040"/>
            <a:ext cx="7010280" cy="413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447F6232-4909-4EF1-B1A1-4A2A31C0D258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9E11396B-1650-4799-8F42-83231F794229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0" y="8381880"/>
            <a:ext cx="137304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7922DC8B-C70C-458B-8569-09388162C8F8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20DB47DF-6C35-435C-846E-9E789B7DADD1}" type="datetime10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2:55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7010640" cy="52578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-360" y="5257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F770AF5F-740B-4D75-AD16-6D5ED5F0B6D7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0" y="8381880"/>
            <a:ext cx="137304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D17D1F6E-4E9D-4F8F-8816-F8152CE1C495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1AC94159-6AF3-4B8E-A54F-54FDB27C2DEE}" type="datetime10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2:55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7010640" cy="52578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-360" y="5257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4B14C2EC-861B-4507-B897-D4A0D9D17474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0" y="8381880"/>
            <a:ext cx="137304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2E6DBC46-D021-4E00-BF8A-61D1B06CA7CD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F7E8D348-1A9C-4EC5-A6EC-2B745003F196}" type="datetime10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2:55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7010640" cy="52578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-360" y="5257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79231E66-D456-4557-8C95-E884BCFD2DA3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0" y="8381880"/>
            <a:ext cx="137304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AFD9F24E-26AF-41EA-A09A-177CDEE5D084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9C9DF639-4748-4DEC-B008-1732D441354B}" type="datetime10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2:55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7010640" cy="52578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-360" y="5257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7BB91544-8587-4801-BE13-60BFD85CFA47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0" y="8381880"/>
            <a:ext cx="137304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A2890566-B84B-4BD4-B157-587C06D652D2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BEADCE49-350F-4CCE-9D5B-0E6F4D6403C9}" type="datetime10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2:55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7010640" cy="52578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-360" y="5257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E0974958-2110-4DA2-8CEB-5D3DA4F254CE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0" y="8381880"/>
            <a:ext cx="137304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181B5B8B-7769-4D73-97DC-0FB1F42980A1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4FC9AFD7-4C0C-4AF6-9031-2F1BD2918F38}" type="datetime10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2:55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7010280" cy="52578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-360" y="5257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E043B1FE-9723-459A-8A40-8567E94AFD9D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0" y="8381880"/>
            <a:ext cx="137304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9F1A3DC9-D4C9-498B-BC3A-3132DFA81940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52BB5426-9D36-4C82-B28C-99F33203EA00}" type="datetime10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2:55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7010640" cy="52578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-360" y="5257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B47E8855-CA9C-46B9-A9DD-CAD8521A5E47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0" y="8381880"/>
            <a:ext cx="137304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F1E7A409-8A10-4BD4-8FE0-AF7CC77A5AF4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9449F335-6EA4-432C-9644-281F83649B42}" type="datetime10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2:55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7010640" cy="52578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-360" y="5257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8309-5153-47A5-B911-4C318BF2C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6400"/>
            <a:ext cx="8229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A898-C294-4C6A-B088-96A790D91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64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64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0CCE-0F09-4534-AF78-77A8BC651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6400"/>
            <a:ext cx="2649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6400"/>
            <a:ext cx="2649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6400"/>
            <a:ext cx="2649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414A-8495-44AB-9FD7-B0B923CC2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F385-03B0-4965-B652-D127E7314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FF2C-FBE6-4312-9610-CA283AECF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3DE3-B126-4356-9584-7A3AEFBA2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4B75-6663-4A33-80AC-4F8ED75C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A73A-9A88-4EDF-AA2B-B4E354B02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64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5821-7258-4EA9-8F06-CAF7E948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64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9B5F-CCE0-495C-B9DB-A613E513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6400"/>
            <a:ext cx="822960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EADC-86FA-47AD-915A-4F14C40E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49"/>
              </a:spcBef>
              <a:buClr>
                <a:srgbClr val="66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1" marL="690480" indent="-233280">
              <a:spcBef>
                <a:spcPts val="1049"/>
              </a:spcBef>
              <a:buClr>
                <a:srgbClr val="66ff66"/>
              </a:buClr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2" marL="1143000" indent="-228600">
              <a:spcBef>
                <a:spcPts val="1049"/>
              </a:spcBef>
              <a:buClr>
                <a:srgbClr val="66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3" marL="1600200" indent="-228600">
              <a:spcBef>
                <a:spcPts val="1049"/>
              </a:spcBef>
              <a:buClr>
                <a:srgbClr val="66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4" marL="2057400" indent="-228600">
              <a:spcBef>
                <a:spcPts val="1049"/>
              </a:spcBef>
              <a:buClr>
                <a:srgbClr val="66ff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453C4-BE3D-43A1-8673-4A8C41D8A130}" type="slidenum">
              <a:rPr b="0" lang="en-US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66880" y="1295280"/>
            <a:ext cx="3897360" cy="4230720"/>
          </a:xfrm>
          <a:custGeom>
            <a:avLst/>
            <a:gdLst/>
            <a:ahLst/>
            <a:rect l="l" t="t" r="r" b="b"/>
            <a:pathLst>
              <a:path w="549" h="595">
                <a:moveTo>
                  <a:pt x="354" y="250"/>
                </a:moveTo>
                <a:lnTo>
                  <a:pt x="322" y="247"/>
                </a:lnTo>
                <a:lnTo>
                  <a:pt x="322" y="416"/>
                </a:lnTo>
                <a:lnTo>
                  <a:pt x="273" y="426"/>
                </a:lnTo>
                <a:lnTo>
                  <a:pt x="273" y="244"/>
                </a:lnTo>
                <a:lnTo>
                  <a:pt x="234" y="237"/>
                </a:lnTo>
                <a:lnTo>
                  <a:pt x="234" y="172"/>
                </a:lnTo>
                <a:lnTo>
                  <a:pt x="354" y="192"/>
                </a:lnTo>
                <a:lnTo>
                  <a:pt x="354" y="250"/>
                </a:lnTo>
                <a:lnTo>
                  <a:pt x="354" y="250"/>
                </a:lnTo>
                <a:close/>
                <a:moveTo>
                  <a:pt x="448" y="396"/>
                </a:moveTo>
                <a:lnTo>
                  <a:pt x="419" y="400"/>
                </a:lnTo>
                <a:lnTo>
                  <a:pt x="416" y="377"/>
                </a:lnTo>
                <a:lnTo>
                  <a:pt x="387" y="380"/>
                </a:lnTo>
                <a:lnTo>
                  <a:pt x="383" y="406"/>
                </a:lnTo>
                <a:lnTo>
                  <a:pt x="348" y="413"/>
                </a:lnTo>
                <a:lnTo>
                  <a:pt x="383" y="198"/>
                </a:lnTo>
                <a:lnTo>
                  <a:pt x="419" y="205"/>
                </a:lnTo>
                <a:lnTo>
                  <a:pt x="448" y="396"/>
                </a:lnTo>
                <a:lnTo>
                  <a:pt x="448" y="396"/>
                </a:lnTo>
                <a:close/>
                <a:moveTo>
                  <a:pt x="409" y="335"/>
                </a:moveTo>
                <a:lnTo>
                  <a:pt x="403" y="266"/>
                </a:lnTo>
                <a:lnTo>
                  <a:pt x="400" y="266"/>
                </a:lnTo>
                <a:lnTo>
                  <a:pt x="393" y="335"/>
                </a:lnTo>
                <a:lnTo>
                  <a:pt x="409" y="335"/>
                </a:lnTo>
                <a:lnTo>
                  <a:pt x="409" y="335"/>
                </a:lnTo>
                <a:close/>
                <a:moveTo>
                  <a:pt x="250" y="595"/>
                </a:moveTo>
                <a:lnTo>
                  <a:pt x="279" y="592"/>
                </a:lnTo>
                <a:lnTo>
                  <a:pt x="309" y="588"/>
                </a:lnTo>
                <a:lnTo>
                  <a:pt x="338" y="582"/>
                </a:lnTo>
                <a:lnTo>
                  <a:pt x="367" y="572"/>
                </a:lnTo>
                <a:lnTo>
                  <a:pt x="393" y="559"/>
                </a:lnTo>
                <a:lnTo>
                  <a:pt x="416" y="543"/>
                </a:lnTo>
                <a:lnTo>
                  <a:pt x="439" y="527"/>
                </a:lnTo>
                <a:lnTo>
                  <a:pt x="461" y="507"/>
                </a:lnTo>
                <a:lnTo>
                  <a:pt x="481" y="488"/>
                </a:lnTo>
                <a:lnTo>
                  <a:pt x="497" y="465"/>
                </a:lnTo>
                <a:lnTo>
                  <a:pt x="513" y="439"/>
                </a:lnTo>
                <a:lnTo>
                  <a:pt x="526" y="413"/>
                </a:lnTo>
                <a:lnTo>
                  <a:pt x="536" y="387"/>
                </a:lnTo>
                <a:lnTo>
                  <a:pt x="543" y="357"/>
                </a:lnTo>
                <a:lnTo>
                  <a:pt x="549" y="328"/>
                </a:lnTo>
                <a:lnTo>
                  <a:pt x="549" y="296"/>
                </a:lnTo>
                <a:lnTo>
                  <a:pt x="549" y="266"/>
                </a:lnTo>
                <a:lnTo>
                  <a:pt x="543" y="237"/>
                </a:lnTo>
                <a:lnTo>
                  <a:pt x="536" y="208"/>
                </a:lnTo>
                <a:lnTo>
                  <a:pt x="526" y="182"/>
                </a:lnTo>
                <a:lnTo>
                  <a:pt x="513" y="156"/>
                </a:lnTo>
                <a:lnTo>
                  <a:pt x="497" y="130"/>
                </a:lnTo>
                <a:lnTo>
                  <a:pt x="481" y="107"/>
                </a:lnTo>
                <a:lnTo>
                  <a:pt x="461" y="87"/>
                </a:lnTo>
                <a:lnTo>
                  <a:pt x="439" y="68"/>
                </a:lnTo>
                <a:lnTo>
                  <a:pt x="416" y="52"/>
                </a:lnTo>
                <a:lnTo>
                  <a:pt x="393" y="35"/>
                </a:lnTo>
                <a:lnTo>
                  <a:pt x="367" y="22"/>
                </a:lnTo>
                <a:lnTo>
                  <a:pt x="338" y="13"/>
                </a:lnTo>
                <a:lnTo>
                  <a:pt x="309" y="6"/>
                </a:lnTo>
                <a:lnTo>
                  <a:pt x="279" y="3"/>
                </a:lnTo>
                <a:lnTo>
                  <a:pt x="250" y="0"/>
                </a:lnTo>
                <a:lnTo>
                  <a:pt x="231" y="0"/>
                </a:lnTo>
                <a:lnTo>
                  <a:pt x="211" y="3"/>
                </a:lnTo>
                <a:lnTo>
                  <a:pt x="192" y="6"/>
                </a:lnTo>
                <a:lnTo>
                  <a:pt x="175" y="9"/>
                </a:lnTo>
                <a:lnTo>
                  <a:pt x="156" y="13"/>
                </a:lnTo>
                <a:lnTo>
                  <a:pt x="140" y="19"/>
                </a:lnTo>
                <a:lnTo>
                  <a:pt x="123" y="29"/>
                </a:lnTo>
                <a:lnTo>
                  <a:pt x="107" y="35"/>
                </a:lnTo>
                <a:lnTo>
                  <a:pt x="91" y="45"/>
                </a:lnTo>
                <a:lnTo>
                  <a:pt x="74" y="55"/>
                </a:lnTo>
                <a:lnTo>
                  <a:pt x="61" y="65"/>
                </a:lnTo>
                <a:lnTo>
                  <a:pt x="45" y="78"/>
                </a:lnTo>
                <a:lnTo>
                  <a:pt x="35" y="91"/>
                </a:lnTo>
                <a:lnTo>
                  <a:pt x="22" y="104"/>
                </a:lnTo>
                <a:lnTo>
                  <a:pt x="9" y="117"/>
                </a:lnTo>
                <a:lnTo>
                  <a:pt x="0" y="133"/>
                </a:lnTo>
                <a:lnTo>
                  <a:pt x="84" y="146"/>
                </a:lnTo>
                <a:lnTo>
                  <a:pt x="107" y="318"/>
                </a:lnTo>
                <a:lnTo>
                  <a:pt x="107" y="318"/>
                </a:lnTo>
                <a:lnTo>
                  <a:pt x="107" y="318"/>
                </a:lnTo>
                <a:lnTo>
                  <a:pt x="107" y="318"/>
                </a:lnTo>
                <a:lnTo>
                  <a:pt x="107" y="318"/>
                </a:lnTo>
                <a:lnTo>
                  <a:pt x="133" y="156"/>
                </a:lnTo>
                <a:lnTo>
                  <a:pt x="218" y="169"/>
                </a:lnTo>
                <a:lnTo>
                  <a:pt x="218" y="435"/>
                </a:lnTo>
                <a:lnTo>
                  <a:pt x="162" y="445"/>
                </a:lnTo>
                <a:lnTo>
                  <a:pt x="162" y="328"/>
                </a:lnTo>
                <a:lnTo>
                  <a:pt x="162" y="328"/>
                </a:lnTo>
                <a:lnTo>
                  <a:pt x="162" y="322"/>
                </a:lnTo>
                <a:lnTo>
                  <a:pt x="166" y="315"/>
                </a:lnTo>
                <a:lnTo>
                  <a:pt x="166" y="305"/>
                </a:lnTo>
                <a:lnTo>
                  <a:pt x="166" y="296"/>
                </a:lnTo>
                <a:lnTo>
                  <a:pt x="166" y="286"/>
                </a:lnTo>
                <a:lnTo>
                  <a:pt x="166" y="276"/>
                </a:lnTo>
                <a:lnTo>
                  <a:pt x="166" y="273"/>
                </a:lnTo>
                <a:lnTo>
                  <a:pt x="166" y="273"/>
                </a:lnTo>
                <a:lnTo>
                  <a:pt x="162" y="273"/>
                </a:lnTo>
                <a:lnTo>
                  <a:pt x="162" y="273"/>
                </a:lnTo>
                <a:lnTo>
                  <a:pt x="162" y="273"/>
                </a:lnTo>
                <a:lnTo>
                  <a:pt x="130" y="449"/>
                </a:lnTo>
                <a:lnTo>
                  <a:pt x="78" y="458"/>
                </a:lnTo>
                <a:lnTo>
                  <a:pt x="39" y="266"/>
                </a:lnTo>
                <a:lnTo>
                  <a:pt x="39" y="266"/>
                </a:lnTo>
                <a:lnTo>
                  <a:pt x="39" y="273"/>
                </a:lnTo>
                <a:lnTo>
                  <a:pt x="39" y="283"/>
                </a:lnTo>
                <a:lnTo>
                  <a:pt x="39" y="292"/>
                </a:lnTo>
                <a:lnTo>
                  <a:pt x="39" y="305"/>
                </a:lnTo>
                <a:lnTo>
                  <a:pt x="39" y="315"/>
                </a:lnTo>
                <a:lnTo>
                  <a:pt x="39" y="325"/>
                </a:lnTo>
                <a:lnTo>
                  <a:pt x="42" y="331"/>
                </a:lnTo>
                <a:lnTo>
                  <a:pt x="42" y="335"/>
                </a:lnTo>
                <a:lnTo>
                  <a:pt x="42" y="465"/>
                </a:lnTo>
                <a:lnTo>
                  <a:pt x="6" y="471"/>
                </a:lnTo>
                <a:lnTo>
                  <a:pt x="16" y="484"/>
                </a:lnTo>
                <a:lnTo>
                  <a:pt x="29" y="497"/>
                </a:lnTo>
                <a:lnTo>
                  <a:pt x="42" y="510"/>
                </a:lnTo>
                <a:lnTo>
                  <a:pt x="52" y="523"/>
                </a:lnTo>
                <a:lnTo>
                  <a:pt x="68" y="533"/>
                </a:lnTo>
                <a:lnTo>
                  <a:pt x="81" y="543"/>
                </a:lnTo>
                <a:lnTo>
                  <a:pt x="97" y="553"/>
                </a:lnTo>
                <a:lnTo>
                  <a:pt x="110" y="559"/>
                </a:lnTo>
                <a:lnTo>
                  <a:pt x="127" y="569"/>
                </a:lnTo>
                <a:lnTo>
                  <a:pt x="143" y="575"/>
                </a:lnTo>
                <a:lnTo>
                  <a:pt x="159" y="582"/>
                </a:lnTo>
                <a:lnTo>
                  <a:pt x="179" y="585"/>
                </a:lnTo>
                <a:lnTo>
                  <a:pt x="195" y="588"/>
                </a:lnTo>
                <a:lnTo>
                  <a:pt x="211" y="592"/>
                </a:lnTo>
                <a:lnTo>
                  <a:pt x="231" y="595"/>
                </a:lnTo>
                <a:lnTo>
                  <a:pt x="250" y="595"/>
                </a:lnTo>
                <a:lnTo>
                  <a:pt x="250" y="595"/>
                </a:lnTo>
                <a:close/>
              </a:path>
            </a:pathLst>
          </a:custGeom>
          <a:solidFill>
            <a:srgbClr val="000099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46080" y="1998720"/>
            <a:ext cx="7283520" cy="29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NYCT Subway Car Program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Progress Update to CPOC</a:t>
            </a:r>
            <a:br>
              <a:rPr sz="3200"/>
            </a:b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Michael P. Wetherell, P.E.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Vice President and Chief Mechanical Officer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epartment of Subways</a:t>
            </a:r>
            <a:br>
              <a:rPr sz="16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vember 26, 2012</a:t>
            </a:r>
            <a:endParaRPr b="1" lang="en-US" sz="2000" spc="-1" strike="noStrike">
              <a:solidFill>
                <a:srgbClr val="66ff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332400" y="6216480"/>
            <a:ext cx="281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NYCT PC Bullet"/>
              </a:rPr>
              <a:t>,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289080" y="874800"/>
          <a:ext cx="8291520" cy="3074400"/>
        </p:xfrm>
        <a:graphic>
          <a:graphicData uri="http://schemas.openxmlformats.org/drawingml/2006/table">
            <a:tbl>
              <a:tblPr/>
              <a:tblGrid>
                <a:gridCol w="1230120"/>
                <a:gridCol w="7061400"/>
              </a:tblGrid>
              <a:tr h="33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014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dec" pos="860400"/>
                          <a:tab algn="dec" pos="1660680"/>
                          <a:tab algn="dec" pos="2403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6 new ‘A’ Division cars + 380 converted R142A c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03200" indent="-174600">
                        <a:lnSpc>
                          <a:spcPct val="100000"/>
                        </a:lnSpc>
                        <a:spcBef>
                          <a:spcPts val="150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dec" pos="860400"/>
                          <a:tab algn="dec" pos="1660680"/>
                          <a:tab algn="dec" pos="2403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 Order: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 new +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converted c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03200" indent="-174600">
                        <a:lnSpc>
                          <a:spcPct val="100000"/>
                        </a:lnSpc>
                        <a:spcBef>
                          <a:spcPts val="150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dec" pos="860400"/>
                          <a:tab algn="dec" pos="1660680"/>
                          <a:tab algn="dec" pos="2403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Order: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 new +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0 converted c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03200" indent="-174600">
                        <a:lnSpc>
                          <a:spcPct val="100000"/>
                        </a:lnSpc>
                        <a:spcBef>
                          <a:spcPts val="150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dec" pos="860400"/>
                          <a:tab algn="dec" pos="1660680"/>
                          <a:tab algn="dec" pos="2403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 (46) 11-car trains for Flushing CBTC / </a:t>
                      </a:r>
                      <a:r>
                        <a:rPr b="0" lang="en-US" sz="1200" spc="-1" strike="noStrike">
                          <a:solidFill>
                            <a:srgbClr val="990099"/>
                          </a:solidFill>
                          <a:latin typeface="NYCT PC Bullet"/>
                        </a:rPr>
                        <a:t>7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Line Extension serv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edu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746280"/>
                          <a:tab algn="r" pos="2286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 Awarded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28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746280"/>
                          <a:tab algn="r" pos="2286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Awarded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2/30/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746280"/>
                          <a:tab algn="r" pos="2286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y and Conditional Acceptance Completion: 2/28/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dec" pos="12589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16.5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dec" pos="12589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$497.2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dec" pos="12589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13.7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390960" y="563400"/>
            <a:ext cx="17978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Arial"/>
              </a:rPr>
              <a:t>Overall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84040" y="4413240"/>
            <a:ext cx="8296560" cy="229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1144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ess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343080" indent="-114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single C-car scheduled to be delivered early November 2012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 lvl="1" marL="343080" indent="-114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of October 18, 2012: 70 cars in production at Kawasaki’s US facilities 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 lvl="1" marL="343080" indent="-114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r Qualification Tests on the Base Order are 90% complete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 marL="1144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0 Day Look Ahead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343080" indent="-114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r Qualification Tests ongoing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 lvl="1" marL="343080" indent="-114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ivery of Base Contract trains by end of 2012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 lvl="1" marL="343080" indent="-114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ining of RTO personnel for Qualification Testing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 lvl="1" marL="343080" indent="-114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 Unit Qualification Testing on NYCT property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9080" y="4102200"/>
            <a:ext cx="14968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Arial"/>
              </a:rPr>
              <a:t>Highligh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36"/>
          <p:cNvSpPr/>
          <p:nvPr/>
        </p:nvSpPr>
        <p:spPr>
          <a:xfrm>
            <a:off x="0" y="0"/>
            <a:ext cx="9144000" cy="5270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R188 Project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-9360" y="487440"/>
            <a:ext cx="9153360" cy="759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BA94-1EB1-4710-9639-293E36BD7299}" type="slidenum">
              <a:t>2</a:t>
            </a:fld>
          </a:p>
        </p:txBody>
      </p:sp>
    </p:spTree>
  </p:cSld>
  <p:transition spd="med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3720" y="717480"/>
            <a:ext cx="31647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Arial"/>
              </a:rPr>
              <a:t>R188 11-Car Configu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6"/>
          <p:cNvSpPr/>
          <p:nvPr/>
        </p:nvSpPr>
        <p:spPr>
          <a:xfrm>
            <a:off x="0" y="0"/>
            <a:ext cx="9144000" cy="5270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R188 Train Cons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-9360" y="487440"/>
            <a:ext cx="9153360" cy="759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4181400"/>
            <a:ext cx="80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6360" indent="-576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: The </a:t>
            </a:r>
            <a:r>
              <a:rPr b="0" lang="en-US" sz="1600" spc="-1" strike="noStrike">
                <a:solidFill>
                  <a:srgbClr val="990099"/>
                </a:solidFill>
                <a:latin typeface="NYCT PC Bullet"/>
              </a:rPr>
              <a:t>7</a:t>
            </a:r>
            <a:r>
              <a:rPr b="1" lang="en-US" sz="1600" spc="-1" strike="noStrike">
                <a:solidFill>
                  <a:srgbClr val="cc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e is the only NYCT subway line that runs 11-car tra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17440" y="1808280"/>
            <a:ext cx="8709120" cy="1849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95B9-B336-4F4A-925B-60E640BB0ECF}" type="slidenum">
              <a:t>3</a:t>
            </a:fld>
          </a:p>
        </p:txBody>
      </p:sp>
    </p:spTree>
  </p:cSld>
  <p:transition spd="med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76120" y="590400"/>
            <a:ext cx="8620200" cy="535320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36"/>
          <p:cNvSpPr/>
          <p:nvPr/>
        </p:nvSpPr>
        <p:spPr>
          <a:xfrm>
            <a:off x="0" y="0"/>
            <a:ext cx="9144000" cy="5270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R188 Delivery 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-9360" y="487440"/>
            <a:ext cx="9153360" cy="759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5267160"/>
            <a:ext cx="8439120" cy="105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144720" indent="-144720" algn="just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e Order deliveries complete by December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44720" indent="-144720" algn="just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rst new Option train scheduled to be delivered May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44720" indent="-144720" algn="just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ight new trains forecasted to be conditionally accepted in time for opening of </a:t>
            </a:r>
            <a:r>
              <a:rPr b="0" lang="en-US" sz="1400" spc="-1" strike="noStrike">
                <a:solidFill>
                  <a:srgbClr val="990099"/>
                </a:solidFill>
                <a:latin typeface="NYCT PC Bullet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Line Exten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44720" indent="-144720" algn="just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letion of delivery of all new and converted trains scheduled for January 2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44720" indent="-144720" algn="just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ushing Line CBTC forecasted completion is November 2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600200" y="984240"/>
          <a:ext cx="5797440" cy="405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984240"/>
                    <a:ext cx="5797440" cy="40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6E2D-D4FB-450D-9C1C-FE2BDA06F029}" type="slidenum">
              <a:t>4</a:t>
            </a:fld>
          </a:p>
        </p:txBody>
      </p:sp>
    </p:spTree>
  </p:cSld>
  <p:transition spd="med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285840" y="1092240"/>
          <a:ext cx="8545320" cy="3143160"/>
        </p:xfrm>
        <a:graphic>
          <a:graphicData uri="http://schemas.openxmlformats.org/drawingml/2006/table">
            <a:tbl>
              <a:tblPr/>
              <a:tblGrid>
                <a:gridCol w="857160"/>
                <a:gridCol w="3657600"/>
                <a:gridCol w="2057400"/>
                <a:gridCol w="1973160"/>
              </a:tblGrid>
              <a:tr h="378720"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t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e Need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su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906920"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cc33"/>
                          </a:solidFill>
                          <a:latin typeface="Webdings"/>
                          <a:ea typeface="Webdings"/>
                        </a:rPr>
                        <a:t>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45720" rIns="4572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livery of new single C-car for placement within the 10 R142A conversion cars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livery of two new trains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se Order Conditional Accep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v 2012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c 2012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y 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sues: N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7520"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cc33"/>
                          </a:solidFill>
                          <a:latin typeface="Webdings"/>
                          <a:ea typeface="Webdings"/>
                        </a:rPr>
                        <a:t>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marL="173160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tion Order Car Delivery Comple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marL="460440" indent="-460440"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sues: N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9" name="Rectangle 36"/>
          <p:cNvSpPr/>
          <p:nvPr/>
        </p:nvSpPr>
        <p:spPr>
          <a:xfrm>
            <a:off x="0" y="0"/>
            <a:ext cx="9144000" cy="5270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R188 Activity and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-9360" y="487440"/>
            <a:ext cx="9153360" cy="759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63520" y="4800600"/>
            <a:ext cx="104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50920" y="5099040"/>
            <a:ext cx="6164280" cy="84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Webdings"/>
                <a:ea typeface="Webdings"/>
              </a:rPr>
              <a:t>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d -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gnificant impacts on Cost and/or Construction/Beneficial 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Webdings"/>
                <a:ea typeface="Webdings"/>
              </a:rPr>
              <a:t>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ellow 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acts that can lead to cost increase or schedule del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33"/>
                </a:solidFill>
                <a:latin typeface="Webdings"/>
                <a:ea typeface="Webdings"/>
              </a:rPr>
              <a:t>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een 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near-term impact on cost or schedul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163C-5F41-45D0-82C4-F6C391EE7C92}" type="slidenum">
              <a:t>5</a:t>
            </a:fld>
          </a:p>
        </p:txBody>
      </p:sp>
    </p:spTree>
  </p:cSld>
  <p:transition spd="med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289080" y="1092240"/>
          <a:ext cx="8291520" cy="3198600"/>
        </p:xfrm>
        <a:graphic>
          <a:graphicData uri="http://schemas.openxmlformats.org/drawingml/2006/table">
            <a:tbl>
              <a:tblPr/>
              <a:tblGrid>
                <a:gridCol w="1230120"/>
                <a:gridCol w="7061400"/>
              </a:tblGrid>
              <a:tr h="34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04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dec" pos="571680"/>
                          <a:tab algn="dec" pos="2173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 60-foot ‘B’ Division cars (design based on R160 ca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398520" indent="-17136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dec" pos="571680"/>
                          <a:tab algn="dec" pos="2173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ll provide 36½ tra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398520" indent="-17136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dec" pos="571680"/>
                          <a:tab algn="dec" pos="2173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f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-car units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398520" indent="-17136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dec" pos="571680"/>
                          <a:tab algn="dec" pos="2173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f 5-car units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4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edu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r" pos="38908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warded:                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04/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r" pos="38908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y of test train: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12/22/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r" pos="38908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livery of 1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Production unit: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7/27/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r" pos="38908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y Completion: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30/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801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35.6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385920" y="717480"/>
            <a:ext cx="17978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Arial"/>
              </a:rPr>
              <a:t>Overall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84040" y="4797000"/>
            <a:ext cx="8267760" cy="1908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114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dec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ess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dec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warded to Bombardier Transit Corporation on June 4, 2012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dec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roved Master Program Schedule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90000"/>
              </a:lnSpc>
              <a:spcBef>
                <a:spcPts val="2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Times New Roman"/>
              <a:buChar char="♦"/>
              <a:tabLst>
                <a:tab algn="dec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tion of Technical Specification Review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marL="114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dec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0 Day Look Ahead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dec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liminary Design Reviews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dec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-Process Design Reviews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9080" y="4486320"/>
            <a:ext cx="14968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Arial"/>
              </a:rPr>
              <a:t>Highligh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36"/>
          <p:cNvSpPr/>
          <p:nvPr/>
        </p:nvSpPr>
        <p:spPr>
          <a:xfrm>
            <a:off x="0" y="0"/>
            <a:ext cx="9144000" cy="5270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R179 Project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-9360" y="487440"/>
            <a:ext cx="9153360" cy="759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3201-5CE9-4EDB-8C9D-1BA76E922322}" type="slidenum">
              <a:t>6</a:t>
            </a:fld>
          </a:p>
        </p:txBody>
      </p:sp>
    </p:spTree>
  </p:cSld>
  <p:transition spd="med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289080" y="1092240"/>
          <a:ext cx="8291520" cy="2797200"/>
        </p:xfrm>
        <a:graphic>
          <a:graphicData uri="http://schemas.openxmlformats.org/drawingml/2006/table">
            <a:tbl>
              <a:tblPr/>
              <a:tblGrid>
                <a:gridCol w="1230120"/>
                <a:gridCol w="706140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04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2680" indent="-112680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dec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62 60-foot ‘B’ Div cars built by ALSKAW replaces older 60-foot c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23004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dec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0 c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23004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dec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I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0 c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230040">
                        <a:lnSpc>
                          <a:spcPct val="100000"/>
                        </a:lnSpc>
                        <a:spcBef>
                          <a:spcPts val="176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dec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II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2 c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edu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801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 cars delivered May 6,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801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Close-Out ph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dec" pos="1490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: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163.0 M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I: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249.2 M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II: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842.3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385920" y="717480"/>
            <a:ext cx="17978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Arial"/>
              </a:rPr>
              <a:t>Overall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04920" y="4647960"/>
            <a:ext cx="8267760" cy="1981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114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ess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-Month MDBF: 645,207 miles (September 2012)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cars off of warranty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ignments: </a:t>
            </a:r>
            <a:r>
              <a:rPr b="0" lang="en-US" sz="1600" spc="-1" strike="noStrike">
                <a:solidFill>
                  <a:srgbClr val="fccc0a"/>
                </a:solidFill>
                <a:latin typeface="NYCT PC Bullet"/>
              </a:rPr>
              <a:t>N</a:t>
            </a:r>
            <a:r>
              <a:rPr b="0" lang="en-US" sz="1600" spc="-1" strike="noStrike">
                <a:solidFill>
                  <a:srgbClr val="f99f1c"/>
                </a:solidFill>
                <a:latin typeface="NYCT PC Bullet"/>
              </a:rPr>
              <a:t>M</a:t>
            </a:r>
            <a:r>
              <a:rPr b="0" lang="en-US" sz="1600" spc="-1" strike="noStrike">
                <a:solidFill>
                  <a:srgbClr val="bb8d4c"/>
                </a:solidFill>
                <a:latin typeface="NYCT PC Bullet"/>
              </a:rPr>
              <a:t>JZ</a:t>
            </a:r>
            <a:r>
              <a:rPr b="0" lang="en-US" sz="1600" spc="-1" strike="noStrike">
                <a:solidFill>
                  <a:srgbClr val="fccc0a"/>
                </a:solidFill>
                <a:latin typeface="NYCT PC Bullet"/>
              </a:rPr>
              <a:t>Q</a:t>
            </a:r>
            <a:r>
              <a:rPr b="0" lang="en-US" sz="1600" spc="-1" strike="noStrike">
                <a:solidFill>
                  <a:srgbClr val="285091"/>
                </a:solidFill>
                <a:latin typeface="NYCT PC Bullet"/>
              </a:rPr>
              <a:t>E</a:t>
            </a:r>
            <a:r>
              <a:rPr b="0" lang="en-US" sz="1600" spc="-1" strike="noStrike">
                <a:solidFill>
                  <a:srgbClr val="f99f1c"/>
                </a:solidFill>
                <a:latin typeface="NYCT PC Bullet"/>
              </a:rPr>
              <a:t>F</a:t>
            </a:r>
            <a:r>
              <a:rPr b="0" lang="en-US" sz="1600" spc="-1" strike="noStrike">
                <a:solidFill>
                  <a:srgbClr val="808183"/>
                </a:solidFill>
                <a:latin typeface="NYCT PC Bullet"/>
              </a:rPr>
              <a:t>L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marL="114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0 Day Look Ahead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tion of field modifications and deliverables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-22860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SzPct val="80000"/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seout Forecast for June 2013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2080" y="4191120"/>
            <a:ext cx="13708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Arial"/>
              </a:rPr>
              <a:t>Highligh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6"/>
          <p:cNvSpPr/>
          <p:nvPr/>
        </p:nvSpPr>
        <p:spPr>
          <a:xfrm>
            <a:off x="0" y="0"/>
            <a:ext cx="9144000" cy="5270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R160 Project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-9360" y="487440"/>
            <a:ext cx="9153360" cy="759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DB29-C500-4901-977C-AB0CE3085403}" type="slidenum">
              <a:t>7</a:t>
            </a:fld>
          </a:p>
        </p:txBody>
      </p:sp>
    </p:spTree>
  </p:cSld>
  <p:transition spd="med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289080" y="1095480"/>
          <a:ext cx="8291520" cy="4962240"/>
        </p:xfrm>
        <a:graphic>
          <a:graphicData uri="http://schemas.openxmlformats.org/drawingml/2006/table">
            <a:tbl>
              <a:tblPr/>
              <a:tblGrid>
                <a:gridCol w="1387440"/>
                <a:gridCol w="6904080"/>
              </a:tblGrid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441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R211 ‘B’ Division cars to replace 752 R46 c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22392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tional fleet growth cars (current forecast – 84 ca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indent="-22392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tional cars for SIR fleet replac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42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801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xt Generation design to address NYCT’s go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3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ed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 Master Plan approved in December 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 Award of Technical Consultant (Design Phas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684360" indent="-22716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FP Negotiations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684360" indent="-22716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est MTA Board Approval: November 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684360" indent="-22716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Times New Roman"/>
                        <a:buChar char="♦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ward Contract: December 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 Purchase Award Proposed for 2015 – 2019 Capital Prog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385920" y="717480"/>
            <a:ext cx="17978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  <a:ea typeface="Arial"/>
              </a:rPr>
              <a:t>Overall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36"/>
          <p:cNvSpPr/>
          <p:nvPr/>
        </p:nvSpPr>
        <p:spPr>
          <a:xfrm>
            <a:off x="0" y="0"/>
            <a:ext cx="9144000" cy="5270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R211 Future Project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-9360" y="487440"/>
            <a:ext cx="9153360" cy="759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AF03-BBDB-4A62-8AC7-477598E93B87}" type="slidenum">
              <a:t>8</a:t>
            </a:fld>
          </a:p>
        </p:txBody>
      </p:sp>
    </p:spTree>
  </p:cSld>
  <p:transition spd="med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9T13:04:55Z</dcterms:created>
  <dc:creator/>
  <dc:description>Change from v8.2:
Use Sep 2012 R160 MDBF
R188 Base Cond Accept from Jun to May 2013</dc:description>
  <dc:language>en-US</dc:language>
  <cp:lastModifiedBy>NYCT</cp:lastModifiedBy>
  <cp:lastPrinted>2003-02-07T16:33:35Z</cp:lastPrinted>
  <dcterms:modified xsi:type="dcterms:W3CDTF">2012-11-26T22:33:07Z</dcterms:modified>
  <cp:revision>2247</cp:revision>
  <dc:subject/>
  <dc:title>Subway Car Program Update</dc:title>
</cp:coreProperties>
</file>