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79300" cy="9132888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860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7280" y="525240"/>
            <a:ext cx="3511440" cy="263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860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1855232-4C83-4276-A567-F8AE66B80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A01A900-F487-47E6-B875-5E361609E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A113AED-231F-4E44-9F02-AD0C5362F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7280" y="525600"/>
            <a:ext cx="3511440" cy="2633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2040" y="3335040"/>
            <a:ext cx="74419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RR to adopt Favorite Trips in release 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ASK: 9/27/13 – MNR to validate accurate screenshots. – Completed – 09/27/13 - Modified slide to show the three landing pa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268960" y="6669000"/>
            <a:ext cx="4033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ED9F3D0-ADFC-4524-81DE-723F6278C4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CF8-E315-4C6E-BFEE-887858B6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D68-1920-4BC5-834D-073943D6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DC6-77B2-48BB-B4FB-80A590D9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496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0800" y="5280480"/>
            <a:ext cx="352908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DD43-3D5A-4966-ABE2-6F44F7CE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228-9957-4636-AFAF-205C4588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E6C-D897-44E3-81B5-E6F6715C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FA0-EC88-4EA5-A55F-6D87CA66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77C-E9FF-410E-8ED3-B2455589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6468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8AF-320C-4C23-B091-9BEECD8F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A58-78FA-4966-83DA-7BCF0856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480" y="528048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274-84A7-43FD-8513-53660C49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5280480"/>
            <a:ext cx="10960200" cy="28749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1C5-D90C-49C4-830C-1C7EC67E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379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034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2130480" indent="-303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739960" indent="-30312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20440" y="8465760"/>
            <a:ext cx="173052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8D4A923-86B3-41CC-BDD9-5064FD64FFCE}" type="datetime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0880" y="8465760"/>
            <a:ext cx="385776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27840" y="8465760"/>
            <a:ext cx="2841480" cy="4856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  <a:defRPr b="0" lang="en-US" sz="13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F4026C4-33A9-4A2B-A705-80487AB59179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pptbkgrds-title1.jpg"/>
          <p:cNvPicPr/>
          <p:nvPr/>
        </p:nvPicPr>
        <p:blipFill>
          <a:blip r:embed="rId1"/>
          <a:stretch/>
        </p:blipFill>
        <p:spPr>
          <a:xfrm>
            <a:off x="0" y="0"/>
            <a:ext cx="12179160" cy="9167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646200"/>
            <a:ext cx="10023480" cy="4667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RR TrainTime  </a:t>
            </a:r>
            <a:br>
              <a:rPr sz="8000"/>
            </a:b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LI Committee Presentation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7360" y="5176800"/>
            <a:ext cx="8524800" cy="23335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b9cde5"/>
                </a:solidFill>
                <a:latin typeface="Arial"/>
              </a:rPr>
              <a:t>1/24/201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pecial Service Notic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7356C97-FEE7-4EA5-9621-54FD7040C0D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2" descr="C:\Users\dbrulha\Desktop\untitled folder\iOS Simulator Screen shot Nov 20, 2013 2.04.27 PM.png"/>
          <p:cNvPicPr/>
          <p:nvPr/>
        </p:nvPicPr>
        <p:blipFill>
          <a:blip r:embed="rId1"/>
          <a:stretch/>
        </p:blipFill>
        <p:spPr>
          <a:xfrm>
            <a:off x="447840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ocial Med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FFA8DFE-BE0A-43E4-8B97-569CD1008EF3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9" descr="C:\Users\dbrulha\Desktop\untitled folder\iOS Simulator Screen shot Nov 20, 2013 2.04.31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re Op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C34E6DB-39F7-4AE3-B4EF-229D49D9162D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Users\dbrulha\Desktop\untitled folder\iOS Simulator Screen shot Nov 20, 2013 2.14.47 PM.png"/>
          <p:cNvPicPr/>
          <p:nvPr/>
        </p:nvPicPr>
        <p:blipFill>
          <a:blip r:embed="rId1"/>
          <a:stretch/>
        </p:blipFill>
        <p:spPr>
          <a:xfrm>
            <a:off x="448452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2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6468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2131920"/>
            <a:ext cx="10960200" cy="60278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5760" indent="-455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uture enhancements based on feedbac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CFC5E84-FC6A-43EA-84C4-0964F72B7942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oading Scree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0147A68-9B7D-47C5-AEFA-AEEE7256D7EB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1" descr="C:\Users\dbrulha\Desktop\untitled folder\iOS Simulator Screen shot Nov 20, 2013 2.00.53 PM.png"/>
          <p:cNvPicPr/>
          <p:nvPr/>
        </p:nvPicPr>
        <p:blipFill>
          <a:blip r:embed="rId1"/>
          <a:stretch/>
        </p:blipFill>
        <p:spPr>
          <a:xfrm>
            <a:off x="4484520" y="128592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vigation Main Men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C220540-F2FA-4A33-8397-8E4E8618221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2" descr="C:\Users\dbrulha\Desktop\untitled folder\iOS Simulator Screen shot Nov 20, 2013 2.00.04 PM.png"/>
          <p:cNvPicPr/>
          <p:nvPr/>
        </p:nvPicPr>
        <p:blipFill>
          <a:blip r:embed="rId1"/>
          <a:stretch/>
        </p:blipFill>
        <p:spPr>
          <a:xfrm>
            <a:off x="665496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9" name="Picture 13" descr="C:\Users\dbrulha\Desktop\untitled folder\iOS Simulator Screen shot Nov 20, 2013 2.00.01 PM.png"/>
          <p:cNvPicPr/>
          <p:nvPr/>
        </p:nvPicPr>
        <p:blipFill>
          <a:blip r:embed="rId2"/>
          <a:stretch/>
        </p:blipFill>
        <p:spPr>
          <a:xfrm>
            <a:off x="1792440" y="1305000"/>
            <a:ext cx="3200400" cy="5681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60" name="TextBox 1"/>
          <p:cNvSpPr/>
          <p:nvPr/>
        </p:nvSpPr>
        <p:spPr>
          <a:xfrm>
            <a:off x="2805480" y="6994440"/>
            <a:ext cx="1173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Tahoma"/>
              </a:rPr>
              <a:t>Collap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7657920" y="6989760"/>
            <a:ext cx="119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and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Search &amp; Fa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49D37B3-08BB-4BE2-A3D8-A1E75BEA9D43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2278080" y="6989760"/>
            <a:ext cx="2228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rip Result 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7231320" y="6989760"/>
            <a:ext cx="2046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ate &amp; Time Pick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3" descr="C:\Users\dbrulha\Desktop\untitled folder\iOS Simulator Screen shot Nov 20, 2013 2.02.29 PM.png"/>
          <p:cNvPicPr/>
          <p:nvPr/>
        </p:nvPicPr>
        <p:blipFill>
          <a:blip r:embed="rId1"/>
          <a:stretch/>
        </p:blipFill>
        <p:spPr>
          <a:xfrm>
            <a:off x="1792440" y="130320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68" name="Picture 15" descr="C:\Users\dbrulha\Desktop\untitled folder\iOS Simulator Screen shot Nov 20, 2013 2.02.35 PM.png"/>
          <p:cNvPicPr/>
          <p:nvPr/>
        </p:nvPicPr>
        <p:blipFill>
          <a:blip r:embed="rId2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rip Result Detail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60E63D42-811D-4358-9713-F87BF0D5975C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17720" y="1287360"/>
            <a:ext cx="2787480" cy="7086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3" name="Right Arrow 13"/>
          <p:cNvSpPr/>
          <p:nvPr/>
        </p:nvSpPr>
        <p:spPr>
          <a:xfrm rot="9766800">
            <a:off x="4493520" y="7520040"/>
            <a:ext cx="152244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643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357240" y="7283520"/>
            <a:ext cx="217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Explanation of F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G:\iOS Simulator Screen shot Nov 20, 2013 2.50.22 PM.png"/>
          <p:cNvPicPr/>
          <p:nvPr/>
        </p:nvPicPr>
        <p:blipFill>
          <a:blip r:embed="rId2"/>
          <a:stretch/>
        </p:blipFill>
        <p:spPr>
          <a:xfrm>
            <a:off x="5846760" y="1596960"/>
            <a:ext cx="3200400" cy="5681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28520"/>
            <a:ext cx="10960200" cy="10987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avorite St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C:\Users\dbrulha\Desktop\untitled folder\iOS Simulator Screen shot Nov 20, 2013 2.03.24 PM.png"/>
          <p:cNvPicPr/>
          <p:nvPr/>
        </p:nvPicPr>
        <p:blipFill>
          <a:blip r:embed="rId1"/>
          <a:stretch/>
        </p:blipFill>
        <p:spPr>
          <a:xfrm>
            <a:off x="4651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8" name="Picture 14" descr="C:\Users\dbrulha\Desktop\untitled folder\iOS Simulator Screen shot Nov 20, 2013 2.14.33 PM.png"/>
          <p:cNvPicPr/>
          <p:nvPr/>
        </p:nvPicPr>
        <p:blipFill>
          <a:blip r:embed="rId2"/>
          <a:stretch/>
        </p:blipFill>
        <p:spPr>
          <a:xfrm>
            <a:off x="840420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79" name="Picture 15" descr="C:\Users\dbrulha\Desktop\untitled folder\iOS Simulator Screen shot Nov 20, 2013 2.31.50 PM.png"/>
          <p:cNvPicPr/>
          <p:nvPr/>
        </p:nvPicPr>
        <p:blipFill>
          <a:blip r:embed="rId3"/>
          <a:stretch/>
        </p:blipFill>
        <p:spPr>
          <a:xfrm>
            <a:off x="957240" y="14508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0" name="TextBox 1"/>
          <p:cNvSpPr/>
          <p:nvPr/>
        </p:nvSpPr>
        <p:spPr>
          <a:xfrm>
            <a:off x="1331280" y="7130880"/>
            <a:ext cx="24523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The ‘Favorites’ tab in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Pick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069520" y="7130880"/>
            <a:ext cx="23641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rs allow ability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add/remove a favor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8696520" y="7130880"/>
            <a:ext cx="26139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Favorite a station fro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tation informa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ight Arrow 1"/>
          <p:cNvSpPr/>
          <p:nvPr/>
        </p:nvSpPr>
        <p:spPr>
          <a:xfrm rot="1884600">
            <a:off x="336240" y="2039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ight Arrow 19"/>
          <p:cNvSpPr/>
          <p:nvPr/>
        </p:nvSpPr>
        <p:spPr>
          <a:xfrm rot="1884600">
            <a:off x="6570360" y="44625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ight Arrow 20"/>
          <p:cNvSpPr/>
          <p:nvPr/>
        </p:nvSpPr>
        <p:spPr>
          <a:xfrm rot="1884600">
            <a:off x="10231200" y="1247400"/>
            <a:ext cx="987480" cy="579600"/>
          </a:xfrm>
          <a:prstGeom prst="rightArrow">
            <a:avLst>
              <a:gd name="adj1" fmla="val 36824"/>
              <a:gd name="adj2" fmla="val 61578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Arrow 21"/>
          <p:cNvSpPr/>
          <p:nvPr/>
        </p:nvSpPr>
        <p:spPr>
          <a:xfrm rot="1884600">
            <a:off x="6570360" y="3170160"/>
            <a:ext cx="987480" cy="581040"/>
          </a:xfrm>
          <a:prstGeom prst="rightArrow">
            <a:avLst>
              <a:gd name="adj1" fmla="val 36824"/>
              <a:gd name="adj2" fmla="val 615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4316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1BE3558-6F8B-4F6F-AF2B-D1BC277C3CD0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tion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177C648-8062-4457-B75E-8C1AF64A7C2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47800" y="1374840"/>
            <a:ext cx="3200400" cy="60548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610320" y="2022480"/>
            <a:ext cx="3200400" cy="5824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93" name="Curved Connector 2"/>
          <p:cNvCxnSpPr>
            <a:stCxn id="91" idx="2"/>
            <a:endCxn id="92" idx="0"/>
          </p:cNvCxnSpPr>
          <p:nvPr/>
        </p:nvCxnSpPr>
        <p:spPr>
          <a:xfrm flipH="1" flipV="1" rot="5400000">
            <a:off x="3074400" y="2294280"/>
            <a:ext cx="5407920" cy="4863240"/>
          </a:xfrm>
          <a:prstGeom prst="curvedConnector5">
            <a:avLst>
              <a:gd name="adj1" fmla="val -13028"/>
              <a:gd name="adj2" fmla="val 25000"/>
              <a:gd name="adj3" fmla="val -13028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4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rvice Statu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6CB91E53-DC12-4BBC-8B95-D3FD88635778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C:\Users\dbrulha\Desktop\untitled folder\iOS Simulator Screen shot Nov 20, 2013 2.04.14 PM.png"/>
          <p:cNvPicPr/>
          <p:nvPr/>
        </p:nvPicPr>
        <p:blipFill>
          <a:blip r:embed="rId1"/>
          <a:stretch/>
        </p:blipFill>
        <p:spPr>
          <a:xfrm>
            <a:off x="665496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8" name="Picture 13" descr="C:\Users\dbrulha\Desktop\untitled folder\iOS Simulator Screen shot Nov 20, 2013 2.04.12 PM.png"/>
          <p:cNvPicPr/>
          <p:nvPr/>
        </p:nvPicPr>
        <p:blipFill>
          <a:blip r:embed="rId2"/>
          <a:stretch/>
        </p:blipFill>
        <p:spPr>
          <a:xfrm>
            <a:off x="1792440" y="130320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99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58680"/>
            <a:ext cx="10960200" cy="124776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ustomer Aler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8728200" y="8466120"/>
            <a:ext cx="284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6627E5DB-F2F0-44AE-8CAD-C8F65A1A754E}" type="slidenum"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C:\Users\dbrulha\Desktop\untitled folder\iOS Simulator Screen shot Nov 20, 2013 2.04.20 PM.png"/>
          <p:cNvPicPr/>
          <p:nvPr/>
        </p:nvPicPr>
        <p:blipFill>
          <a:blip r:embed="rId1"/>
          <a:stretch/>
        </p:blipFill>
        <p:spPr>
          <a:xfrm>
            <a:off x="179244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05" name="Picture 10" descr="C:\Users\dbrulha\Desktop\untitled folder\iOS Simulator Screen shot Nov 20, 2013 2.04.22 PM.png"/>
          <p:cNvPicPr/>
          <p:nvPr/>
        </p:nvPicPr>
        <p:blipFill>
          <a:blip r:embed="rId2"/>
          <a:stretch/>
        </p:blipFill>
        <p:spPr>
          <a:xfrm>
            <a:off x="6654960" y="1306440"/>
            <a:ext cx="3200400" cy="5680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06" name="TextBox 1"/>
          <p:cNvSpPr/>
          <p:nvPr/>
        </p:nvSpPr>
        <p:spPr>
          <a:xfrm>
            <a:off x="2812320" y="6989760"/>
            <a:ext cx="1159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856280" y="6989760"/>
            <a:ext cx="79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4160880" y="8466120"/>
            <a:ext cx="3857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Arial"/>
                <a:ea typeface="Arial"/>
              </a:rPr>
              <a:t>LIR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1:28:48Z</dcterms:created>
  <dc:creator>dbrulha@lirr.org</dc:creator>
  <dc:description/>
  <dc:language>en-US</dc:language>
  <cp:lastModifiedBy>lirr</cp:lastModifiedBy>
  <cp:lastPrinted>2013-09-27T19:11:38Z</cp:lastPrinted>
  <dcterms:modified xsi:type="dcterms:W3CDTF">2014-01-24T21:07:28Z</dcterms:modified>
  <cp:revision>161</cp:revision>
  <dc:subject/>
  <dc:title>PowerPoint Presentation</dc:title>
</cp:coreProperties>
</file>