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2179300" cy="9132888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268600" y="-36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97280" y="525240"/>
            <a:ext cx="3511440" cy="2633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2040" y="3335040"/>
            <a:ext cx="74419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669000"/>
            <a:ext cx="4033800" cy="349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268600" y="6669000"/>
            <a:ext cx="4033800" cy="349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C6FD300B-A910-421A-955C-F23D460FC5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2897280" y="525600"/>
            <a:ext cx="3511440" cy="26334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32040" y="3335040"/>
            <a:ext cx="744192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5268960" y="6669000"/>
            <a:ext cx="4033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B86BDCC5-887B-48B8-B392-9288D3CD44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897280" y="525600"/>
            <a:ext cx="3511440" cy="26334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32040" y="3335040"/>
            <a:ext cx="744192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5268960" y="6669000"/>
            <a:ext cx="4033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57098F99-5647-400D-9256-1BFF58DED0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897280" y="525600"/>
            <a:ext cx="3511440" cy="26334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32040" y="3335040"/>
            <a:ext cx="74419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IRR to adopt Favorite Trips in release 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ASK: 9/27/13 – MNR to validate accurate screenshots. – Completed – 09/27/13 - Modified slide to show the three landing pag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5268960" y="6669000"/>
            <a:ext cx="4033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C26CB42B-12CF-45B0-8F6F-DB6D365D4F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FB18-C5CC-419C-9B3F-41A31A5FA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528048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2E4B-C152-49DA-A3E6-26F792D9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548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CFF7-DA25-4E0C-9D46-76E50FA42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496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080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496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080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0F6C-FC90-4251-8915-6801DE28C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9944-C6A8-4F5F-A228-053E9CA8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2A0E-D620-460D-8EB0-90AF1227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FF94-48DC-40C9-9428-E3B1262E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0070-4AB5-4A39-9BFD-8A58AFBC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364680"/>
            <a:ext cx="1096020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8EEB-1630-4E94-BDB6-55F1A3A4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8E0B-4D84-42E4-B1A6-33C158E4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548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1857-61D9-457D-80EE-D8071432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F260-EC9C-41DE-99ED-4CB5B112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5760" indent="-4557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79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1521000" indent="-3034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3" marL="2130480" indent="-30312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4" marL="2739960" indent="-30312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5" marL="2739960" indent="-30312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6" marL="2739960" indent="-30312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20440" y="8465760"/>
            <a:ext cx="1730520" cy="4856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  <a:defRPr b="0" lang="en-US" sz="13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0C432DD4-72DC-4A1F-8513-3E4045883218}" type="datetime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0880" y="8465760"/>
            <a:ext cx="3857760" cy="4856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  <a:defRPr b="0" lang="en-US" sz="13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27840" y="8465760"/>
            <a:ext cx="2841480" cy="4856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  <a:defRPr b="0" lang="en-US" sz="13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D1BD77D6-E678-47D5-A768-980EA67349D5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pptbkgrds-title1.jpg"/>
          <p:cNvPicPr/>
          <p:nvPr/>
        </p:nvPicPr>
        <p:blipFill>
          <a:blip r:embed="rId1"/>
          <a:stretch/>
        </p:blipFill>
        <p:spPr>
          <a:xfrm>
            <a:off x="0" y="0"/>
            <a:ext cx="12179160" cy="91677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37840" y="646200"/>
            <a:ext cx="10023480" cy="4667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LIRR TrainTime  </a:t>
            </a:r>
            <a:br>
              <a:rPr sz="8000"/>
            </a:b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LI Committee Presentation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7360" y="5176800"/>
            <a:ext cx="8524800" cy="23335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24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b9cde5"/>
                </a:solidFill>
                <a:latin typeface="Arial"/>
              </a:rPr>
              <a:t>1/24/2014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pecial Service Notice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3107F2A4-C992-4CE4-B239-E9225FAB4376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12" descr="C:\Users\dbrulha\Desktop\untitled folder\iOS Simulator Screen shot Nov 20, 2013 2.04.27 PM.png"/>
          <p:cNvPicPr/>
          <p:nvPr/>
        </p:nvPicPr>
        <p:blipFill>
          <a:blip r:embed="rId1"/>
          <a:stretch/>
        </p:blipFill>
        <p:spPr>
          <a:xfrm>
            <a:off x="4478400" y="130644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12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ocial Media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99B85C64-EC51-4718-B723-411B8A1F8DF0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9" descr="C:\Users\dbrulha\Desktop\untitled folder\iOS Simulator Screen shot Nov 20, 2013 2.04.31 PM.png"/>
          <p:cNvPicPr/>
          <p:nvPr/>
        </p:nvPicPr>
        <p:blipFill>
          <a:blip r:embed="rId1"/>
          <a:stretch/>
        </p:blipFill>
        <p:spPr>
          <a:xfrm>
            <a:off x="4484520" y="130644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16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ore Option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79469803-4DAB-4539-A2E3-506E58B10F7D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C:\Users\dbrulha\Desktop\untitled folder\iOS Simulator Screen shot Nov 20, 2013 2.14.47 PM.png"/>
          <p:cNvPicPr/>
          <p:nvPr/>
        </p:nvPicPr>
        <p:blipFill>
          <a:blip r:embed="rId1"/>
          <a:stretch/>
        </p:blipFill>
        <p:spPr>
          <a:xfrm>
            <a:off x="4484520" y="130644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20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5760" indent="-4557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uture enhancements based on feedback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C19A5111-79E9-46A8-8CEC-6208528F75B9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oading Screen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709EE4BF-5ECC-420F-B8B7-3CBFC74221E9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1" descr="C:\Users\dbrulha\Desktop\untitled folder\iOS Simulator Screen shot Nov 20, 2013 2.00.53 PM.png"/>
          <p:cNvPicPr/>
          <p:nvPr/>
        </p:nvPicPr>
        <p:blipFill>
          <a:blip r:embed="rId1"/>
          <a:stretch/>
        </p:blipFill>
        <p:spPr>
          <a:xfrm>
            <a:off x="4484520" y="1285920"/>
            <a:ext cx="3200400" cy="56815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avigation Main Menu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110E70C7-A95F-48CF-8AE8-8955D5FB242F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2" descr="C:\Users\dbrulha\Desktop\untitled folder\iOS Simulator Screen shot Nov 20, 2013 2.00.04 PM.png"/>
          <p:cNvPicPr/>
          <p:nvPr/>
        </p:nvPicPr>
        <p:blipFill>
          <a:blip r:embed="rId1"/>
          <a:stretch/>
        </p:blipFill>
        <p:spPr>
          <a:xfrm>
            <a:off x="6654960" y="1305000"/>
            <a:ext cx="3200400" cy="56815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59" name="Picture 13" descr="C:\Users\dbrulha\Desktop\untitled folder\iOS Simulator Screen shot Nov 20, 2013 2.00.01 PM.png"/>
          <p:cNvPicPr/>
          <p:nvPr/>
        </p:nvPicPr>
        <p:blipFill>
          <a:blip r:embed="rId2"/>
          <a:stretch/>
        </p:blipFill>
        <p:spPr>
          <a:xfrm>
            <a:off x="1792440" y="1305000"/>
            <a:ext cx="3200400" cy="56815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60" name="TextBox 1"/>
          <p:cNvSpPr/>
          <p:nvPr/>
        </p:nvSpPr>
        <p:spPr>
          <a:xfrm>
            <a:off x="2805480" y="6994440"/>
            <a:ext cx="1173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ahoma"/>
              </a:rPr>
              <a:t>Collaps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7657920" y="6989760"/>
            <a:ext cx="119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Expand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rip Search &amp; Fare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DB1D282B-DA5C-4F2F-B36A-1B28FEA43BBD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"/>
          <p:cNvSpPr/>
          <p:nvPr/>
        </p:nvSpPr>
        <p:spPr>
          <a:xfrm>
            <a:off x="2278080" y="6989760"/>
            <a:ext cx="2228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Trip Result Summa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7231320" y="6989760"/>
            <a:ext cx="2046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Date &amp; Time Pick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13" descr="C:\Users\dbrulha\Desktop\untitled folder\iOS Simulator Screen shot Nov 20, 2013 2.02.29 PM.png"/>
          <p:cNvPicPr/>
          <p:nvPr/>
        </p:nvPicPr>
        <p:blipFill>
          <a:blip r:embed="rId1"/>
          <a:stretch/>
        </p:blipFill>
        <p:spPr>
          <a:xfrm>
            <a:off x="1792440" y="1303200"/>
            <a:ext cx="3200400" cy="56818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68" name="Picture 15" descr="C:\Users\dbrulha\Desktop\untitled folder\iOS Simulator Screen shot Nov 20, 2013 2.02.35 PM.png"/>
          <p:cNvPicPr/>
          <p:nvPr/>
        </p:nvPicPr>
        <p:blipFill>
          <a:blip r:embed="rId2"/>
          <a:stretch/>
        </p:blipFill>
        <p:spPr>
          <a:xfrm>
            <a:off x="6654960" y="13032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rip Result Detail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FAF5AEBA-7FCC-469F-A78C-69D41195FECB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917720" y="1287360"/>
            <a:ext cx="2787480" cy="70866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73" name="Right Arrow 13"/>
          <p:cNvSpPr/>
          <p:nvPr/>
        </p:nvSpPr>
        <p:spPr>
          <a:xfrm rot="9766800">
            <a:off x="4493520" y="7520040"/>
            <a:ext cx="1522440" cy="581040"/>
          </a:xfrm>
          <a:prstGeom prst="rightArrow">
            <a:avLst>
              <a:gd name="adj1" fmla="val 36824"/>
              <a:gd name="adj2" fmla="val 61599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6432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6357240" y="7283520"/>
            <a:ext cx="2179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Explanation of Fa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G:\iOS Simulator Screen shot Nov 20, 2013 2.50.22 PM.png"/>
          <p:cNvPicPr/>
          <p:nvPr/>
        </p:nvPicPr>
        <p:blipFill>
          <a:blip r:embed="rId2"/>
          <a:stretch/>
        </p:blipFill>
        <p:spPr>
          <a:xfrm>
            <a:off x="5846760" y="1596960"/>
            <a:ext cx="3200400" cy="56818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128520"/>
            <a:ext cx="10960200" cy="10987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Favorite Station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2" descr="C:\Users\dbrulha\Desktop\untitled folder\iOS Simulator Screen shot Nov 20, 2013 2.03.24 PM.png"/>
          <p:cNvPicPr/>
          <p:nvPr/>
        </p:nvPicPr>
        <p:blipFill>
          <a:blip r:embed="rId1"/>
          <a:stretch/>
        </p:blipFill>
        <p:spPr>
          <a:xfrm>
            <a:off x="4651200" y="14508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8" name="Picture 14" descr="C:\Users\dbrulha\Desktop\untitled folder\iOS Simulator Screen shot Nov 20, 2013 2.14.33 PM.png"/>
          <p:cNvPicPr/>
          <p:nvPr/>
        </p:nvPicPr>
        <p:blipFill>
          <a:blip r:embed="rId2"/>
          <a:stretch/>
        </p:blipFill>
        <p:spPr>
          <a:xfrm>
            <a:off x="8404200" y="14508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9" name="Picture 15" descr="C:\Users\dbrulha\Desktop\untitled folder\iOS Simulator Screen shot Nov 20, 2013 2.31.50 PM.png"/>
          <p:cNvPicPr/>
          <p:nvPr/>
        </p:nvPicPr>
        <p:blipFill>
          <a:blip r:embed="rId3"/>
          <a:stretch/>
        </p:blipFill>
        <p:spPr>
          <a:xfrm>
            <a:off x="957240" y="14508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80" name="TextBox 1"/>
          <p:cNvSpPr/>
          <p:nvPr/>
        </p:nvSpPr>
        <p:spPr>
          <a:xfrm>
            <a:off x="1331280" y="7130880"/>
            <a:ext cx="24523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The ‘Favorites’ tab in al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Station Pick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"/>
          <p:cNvSpPr/>
          <p:nvPr/>
        </p:nvSpPr>
        <p:spPr>
          <a:xfrm>
            <a:off x="5069520" y="7130880"/>
            <a:ext cx="23641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Stars allow ability t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add/remove a favori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"/>
          <p:cNvSpPr/>
          <p:nvPr/>
        </p:nvSpPr>
        <p:spPr>
          <a:xfrm>
            <a:off x="8696520" y="7130880"/>
            <a:ext cx="261396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Favorite a station fro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station information p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ight Arrow 1"/>
          <p:cNvSpPr/>
          <p:nvPr/>
        </p:nvSpPr>
        <p:spPr>
          <a:xfrm rot="1884600">
            <a:off x="336240" y="2039400"/>
            <a:ext cx="987480" cy="579600"/>
          </a:xfrm>
          <a:prstGeom prst="rightArrow">
            <a:avLst>
              <a:gd name="adj1" fmla="val 36824"/>
              <a:gd name="adj2" fmla="val 61578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431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ight Arrow 19"/>
          <p:cNvSpPr/>
          <p:nvPr/>
        </p:nvSpPr>
        <p:spPr>
          <a:xfrm rot="1884600">
            <a:off x="6570360" y="4462560"/>
            <a:ext cx="987480" cy="581040"/>
          </a:xfrm>
          <a:prstGeom prst="rightArrow">
            <a:avLst>
              <a:gd name="adj1" fmla="val 36824"/>
              <a:gd name="adj2" fmla="val 61599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431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ight Arrow 20"/>
          <p:cNvSpPr/>
          <p:nvPr/>
        </p:nvSpPr>
        <p:spPr>
          <a:xfrm rot="1884600">
            <a:off x="10231200" y="1247400"/>
            <a:ext cx="987480" cy="579600"/>
          </a:xfrm>
          <a:prstGeom prst="rightArrow">
            <a:avLst>
              <a:gd name="adj1" fmla="val 36824"/>
              <a:gd name="adj2" fmla="val 61578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431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ight Arrow 21"/>
          <p:cNvSpPr/>
          <p:nvPr/>
        </p:nvSpPr>
        <p:spPr>
          <a:xfrm rot="1884600">
            <a:off x="6570360" y="3170160"/>
            <a:ext cx="987480" cy="581040"/>
          </a:xfrm>
          <a:prstGeom prst="rightArrow">
            <a:avLst>
              <a:gd name="adj1" fmla="val 36824"/>
              <a:gd name="adj2" fmla="val 61599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431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A759C38D-C072-4AFD-871D-A6928B35528C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tation Information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C2CAA556-750E-446A-B090-469F6A16222A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747800" y="1374840"/>
            <a:ext cx="3200400" cy="6054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6610320" y="2022480"/>
            <a:ext cx="3200400" cy="58244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cxnSp>
        <p:nvCxnSpPr>
          <p:cNvPr id="93" name="Curved Connector 2"/>
          <p:cNvCxnSpPr>
            <a:stCxn id="91" idx="2"/>
            <a:endCxn id="92" idx="0"/>
          </p:cNvCxnSpPr>
          <p:nvPr/>
        </p:nvCxnSpPr>
        <p:spPr>
          <a:xfrm flipH="1" flipV="1" rot="5400000">
            <a:off x="3074400" y="2294280"/>
            <a:ext cx="5407920" cy="4863240"/>
          </a:xfrm>
          <a:prstGeom prst="curvedConnector5">
            <a:avLst>
              <a:gd name="adj1" fmla="val -13028"/>
              <a:gd name="adj2" fmla="val 25000"/>
              <a:gd name="adj3" fmla="val -13028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4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ervice Statu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1989D886-4416-4E93-9CBE-B9D5CCD92B59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2" descr="C:\Users\dbrulha\Desktop\untitled folder\iOS Simulator Screen shot Nov 20, 2013 2.04.14 PM.png"/>
          <p:cNvPicPr/>
          <p:nvPr/>
        </p:nvPicPr>
        <p:blipFill>
          <a:blip r:embed="rId1"/>
          <a:stretch/>
        </p:blipFill>
        <p:spPr>
          <a:xfrm>
            <a:off x="6654960" y="13032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98" name="Picture 13" descr="C:\Users\dbrulha\Desktop\untitled folder\iOS Simulator Screen shot Nov 20, 2013 2.04.12 PM.png"/>
          <p:cNvPicPr/>
          <p:nvPr/>
        </p:nvPicPr>
        <p:blipFill>
          <a:blip r:embed="rId2"/>
          <a:stretch/>
        </p:blipFill>
        <p:spPr>
          <a:xfrm>
            <a:off x="1792440" y="13032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99" name="TextBox 1"/>
          <p:cNvSpPr/>
          <p:nvPr/>
        </p:nvSpPr>
        <p:spPr>
          <a:xfrm>
            <a:off x="2812320" y="6989760"/>
            <a:ext cx="1159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Summa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7856280" y="6989760"/>
            <a:ext cx="79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Detai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stomer Alert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C74E362D-5228-4FB2-A624-2204BB249BBD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9" descr="C:\Users\dbrulha\Desktop\untitled folder\iOS Simulator Screen shot Nov 20, 2013 2.04.20 PM.png"/>
          <p:cNvPicPr/>
          <p:nvPr/>
        </p:nvPicPr>
        <p:blipFill>
          <a:blip r:embed="rId1"/>
          <a:stretch/>
        </p:blipFill>
        <p:spPr>
          <a:xfrm>
            <a:off x="1792440" y="130644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5" name="Picture 10" descr="C:\Users\dbrulha\Desktop\untitled folder\iOS Simulator Screen shot Nov 20, 2013 2.04.22 PM.png"/>
          <p:cNvPicPr/>
          <p:nvPr/>
        </p:nvPicPr>
        <p:blipFill>
          <a:blip r:embed="rId2"/>
          <a:stretch/>
        </p:blipFill>
        <p:spPr>
          <a:xfrm>
            <a:off x="6654960" y="130644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06" name="TextBox 1"/>
          <p:cNvSpPr/>
          <p:nvPr/>
        </p:nvSpPr>
        <p:spPr>
          <a:xfrm>
            <a:off x="2812320" y="6989760"/>
            <a:ext cx="1159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Summa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7856280" y="6989760"/>
            <a:ext cx="79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Detai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21:28:48Z</dcterms:created>
  <dc:creator>dbrulha@lirr.org</dc:creator>
  <dc:description/>
  <dc:language>en-US</dc:language>
  <cp:lastModifiedBy>lirr</cp:lastModifiedBy>
  <cp:lastPrinted>2013-09-27T19:11:38Z</cp:lastPrinted>
  <dcterms:modified xsi:type="dcterms:W3CDTF">2014-01-24T21:07:28Z</dcterms:modified>
  <cp:revision>161</cp:revision>
  <dc:subject/>
  <dc:title>PowerPoint Presentation</dc:title>
</cp:coreProperties>
</file>