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4"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7"/>
          </p:nvPr>
        </p:nvSpPr>
        <p:spPr>
          <a:xfrm>
            <a:off x="3970440" y="0"/>
            <a:ext cx="3038400" cy="465120"/>
          </a:xfrm>
          <a:prstGeom prst="rect">
            <a:avLst/>
          </a:prstGeom>
          <a:noFill/>
          <a:ln w="0">
            <a:noFill/>
          </a:ln>
        </p:spPr>
        <p:txBody>
          <a:bodyPr lIns="92880" rIns="9288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7DAAEF-DB19-4436-8DB3-990491190420}"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2880" rIns="9288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97"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8"/>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9"/>
          </p:nvPr>
        </p:nvSpPr>
        <p:spPr>
          <a:xfrm>
            <a:off x="3970440" y="8829720"/>
            <a:ext cx="3038400" cy="465120"/>
          </a:xfrm>
          <a:prstGeom prst="rect">
            <a:avLst/>
          </a:prstGeom>
          <a:noFill/>
          <a:ln w="0">
            <a:noFill/>
          </a:ln>
        </p:spPr>
        <p:txBody>
          <a:bodyPr lIns="92880" rIns="9288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849BF1-8F45-40FA-BC71-0C3004A22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a typeface="Calibri"/>
            </a:endParaRPr>
          </a:p>
        </p:txBody>
      </p:sp>
      <p:sp>
        <p:nvSpPr>
          <p:cNvPr id="5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743CC6-0438-42D7-9A00-605654A84F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81160" y="696960"/>
            <a:ext cx="4648320" cy="3486240"/>
          </a:xfrm>
          <a:prstGeom prst="rect">
            <a:avLst/>
          </a:prstGeom>
          <a:ln w="0">
            <a:noFill/>
          </a:ln>
        </p:spPr>
      </p:sp>
      <p:sp>
        <p:nvSpPr>
          <p:cNvPr id="5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26FE4-A766-4D76-9C82-1F0144FE39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5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6CA34-48CD-466F-A74B-457D0B89CE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A74B9-855C-484D-82EB-D1ABD5807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2DA5A-D9BE-44DB-9D83-E84ED91E7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DD0857-579B-4080-B68E-A6759C83F4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B0C625-9B16-45D5-A62E-7C4B05F91F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805AC8-CD26-491C-B248-BC979586F3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4167D2-E6E6-4854-BF85-1A25774A23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3760E4-5F36-4A8A-BADB-9CC4F75034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37CD73-8204-4DA7-A510-F338467A35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6CF70D-C3A2-4077-9391-5B19B68921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239FCC-B71F-415C-A6D1-45306A0693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1517F2-7E94-420E-B165-2ACA74150A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C28AAF5-AE42-4261-AF41-30E17B6498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6F588-0185-4474-AE42-685A3F55C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01B64C-2D47-44D4-A6E1-A1B431F867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56A039-1CD3-4944-AE8D-CA3CE51AF1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8512C3-448C-4AA8-80CD-D92A6FC109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342D69-6B33-4F74-A76B-06449E993AE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B15B24-0AAB-4A5C-A713-8FAA91CB2D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9CE966-A826-4A98-9820-C44C07068D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FACCB6-E56E-485C-B83B-727A606B5D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85D856-9C2D-4F2D-AD8D-8B8CAE97B7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91F83B-FB58-4518-801E-AF5A70869D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A8FF2FB-2C5D-40F1-A26F-60B58AC0659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0D779-1C28-47F0-828B-04446700C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13F0727-199A-4658-8277-5B8FE8E109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ABBDE80-38DA-4187-AB7D-F1E325981F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840F96-BECF-4107-8EDF-70E3704346C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821464-E705-41CB-86E2-D721B05F59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5FF62F-5758-4E15-8629-E7ECF5539C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EE525E-0CC1-46E4-82A4-6B46C438E3C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443975-1FFC-4AF7-9E25-689827E27B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8C2465-F217-468F-852A-7AC5D442B4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C0B333-B112-48A5-82CA-BC29BF5220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80B9C9-2112-4DE2-9505-4AD986B6D9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64587-3E97-4791-89B2-F9697393D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84F905F-DE3D-4258-A673-4F93B679B5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72CDA1C-CA68-40D7-934A-1F497CDFEC5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A1BAE1-5AE5-496F-BD6B-532A2DBAEE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89B1A2-613C-4D09-AF06-91D4A043DE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3CE71F-C72C-452E-8D6D-9ED15A21BD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C1F874-1CE5-4571-B010-CD7D62D210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DF231D-54F9-45C1-86C1-B5FE7B6E53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A1DA090-5608-47D3-BAB9-EAE1AEB30B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9D0F3F7-0849-4A4D-9F63-F109F687C0A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5A17D3-3E45-48CF-8291-D5AD742CA2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6BF44-33D3-43DC-8107-42CC53C07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95708F-9C95-478A-A81C-D8E746826F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B6AE36-8186-4D8B-8720-C2B4E65CCB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14B7AF2-3BFD-4860-8E3B-4B2ACF8E38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82A14C2-6F0E-4E06-A546-FC91E4C667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BB4C5C7-D525-463B-9917-B9534E4A20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1C0F0D-63C4-4AD8-9416-E6A57010A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75493-9D71-4128-AA9F-200C4CEB9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116D6-4D6E-4B09-99BA-3D608C3F1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53734-935F-4A3E-A186-0294D2A2B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86B0A-0256-4C8F-9893-5FACCDE7B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30B20-830E-41F3-9453-969147794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B8283-49E2-48B6-A5E1-940BE5CDC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D5490-792B-418F-BEF7-DE6EBA7A8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F9EC7-5C3E-470C-B185-57E84AE85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58E96-04C4-4745-B363-A24DC9523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46B750-01E1-4B45-B865-2FA7FB863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C6830F-545E-4193-9904-0482B79232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2B2662-2D91-4B57-8F4F-FB8CC94272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B8092C-F5C9-4AFA-B692-99B0F2E390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22C025-6CDF-4A9D-A9B6-6358C0B206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A88F60-07D6-4DEB-98F0-2969B805D8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5060F-AC33-44C4-A825-2664373EF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CBC015-290A-4B56-9F02-056776EBC6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7EEE3E-50E7-4425-ACE1-152EE4D11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E27C49-5AFD-4A86-8F19-92634C74C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563732-2BCE-4AEA-924E-62EDB6DAF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DA18E9-4562-4B76-AA9E-43D81855BB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488E4A-2E34-4BCB-9A78-790BEA8D67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0CA0B6-33F0-47D6-97F1-1EFE213687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6E17C7-B143-4662-9740-80188F1AE1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5E1D96-84BD-4418-AE63-E4CF3CBD1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54BA03-942D-4313-942C-ACE5070497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DF262-CC08-4B6B-ABEC-7CF3E3A0A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7CE659-D225-4E80-8ACC-2E33D04D85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97F586-D4BE-4A21-880C-8B214AD18B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7736CD-85D0-4260-8E6F-5E71016F51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2D26C7-B949-4C4E-902C-698A4B90C3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5B62FD-EC15-47B7-BA22-2A3477003B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9FEAA3-D420-4893-B3C5-52A7CCAB79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32FB40-B3F2-4EC3-943C-6B7379BE93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E895E8-267C-4637-9621-CB100B4F15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44DE92-D0FD-43AF-BAD5-B339EE0C09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1CE109-B497-4140-93DE-C2C328DE3E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B2515-D396-4611-9E48-C683A09F3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7F4872-5CFF-475B-940E-FFE42AEF92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7871B7-E06D-4AF6-B3AA-58A74BADEC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5F420D-098B-4FF1-BB58-EE8B865ACA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B94A1E-2CE0-4465-B84B-B3DE16C832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E8D012-3925-4F78-93E6-1BA26712EC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1025A9-2125-455C-9D86-6CAD8D59AD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4AC805-FCB1-4F32-A384-4F84B27734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D58EC5-1885-4A2E-8603-2C996BD106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E8E356-BE2C-4E1A-9B36-4C57CFE9B9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D9FC3C-3631-4D84-BD46-4519D5B42C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7304E-594D-4DAA-9191-1053A764A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5F7779-887D-4BF0-AC76-C7AC29DD8D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EF2A76-2402-4819-B9C0-A60C94D902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B3B8D4-A5D9-4D8C-9A57-0933BC25B4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85A228-C0CC-43A4-9304-976CFB08E5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13135-CDA9-4EDE-924E-235CBE0922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F487ED-60BF-459E-A426-6F5E631685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33974B-35F7-4CB4-8C41-3076C373D0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66BAFB-0B1A-4393-9BC4-08D59B7B18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CB1C09-1ADA-4BD0-944B-4F5C5111D2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0854AE-C2D6-4B66-BA79-CEC80B3822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CD111-B39D-4234-AFC9-630D11D3E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845A97-5C72-4572-BBD2-AB56B91D95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7D3A1E-9413-4FFA-8B2E-A2D8BB4C63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E767F1-4F72-4EBC-800C-3BA1ABE0B1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EEFDD7-A68D-438C-BC29-5BA811F512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70E51A-19C2-4EB4-B14A-D3419C33A7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D6C524-BD53-433C-8FD6-BACD5834D6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ECC087-C961-4929-A416-6A45C7F6BC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763E99-D762-437D-A7C4-0BAA6493FA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811076-94C4-4953-8948-DBEAD449C3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0EF4F2-141B-4717-AC4C-463D42C196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158CB-8F47-4BC2-8C23-4C672904A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0D6B7-F3C7-45B1-B35F-687EA5BE1A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60F8A9-DFEA-43CB-A6CE-A6A204990D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1D2785-0895-4B65-A4D3-D2FA037060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34A67B-F4E7-4DD7-8625-3A278428B5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6D99A4-8B42-4E22-B087-0D9E18769C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497542-8B8B-430F-A480-726D823263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E1540C-B878-41B5-9C67-6691B31681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0ADD35-6662-4BC2-AC63-F9A95EFDF6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22144F-34E2-4106-90F0-4A35CCD92F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22BA28-7FB4-4CB7-80E8-5E7E775A76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B791D-CDDF-4917-AA1C-68609BA0C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5C069B-6A33-455B-AFFD-E4CBF5621D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879E00-5F38-43F3-BA92-6E7D03F24A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F06576-DE2B-4823-8242-715A080E3F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E043CB-FA24-4BE5-AE15-51BAAA4210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B7D0C7-FD58-4A90-A735-229C718D3D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C9F9BA-FE14-4B76-B41B-2274B55898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E90A7F-18B3-405A-88BB-5E80028A37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AA6614-031E-4F5A-9DC9-EA83230DDC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4EDC56-D8E0-48CA-861D-FB7BE94839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AFDAC5-4A3F-4394-A64A-D3D40DC770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0F0A4-0017-4A12-9867-1B0D1CF2FB12}" type="datetime">
              <a:rPr b="0" lang="en-US" sz="1000" spc="-1" strike="noStrike">
                <a:solidFill>
                  <a:srgbClr val="898989"/>
                </a:solidFill>
                <a:latin typeface="Arial"/>
                <a:ea typeface="Arial"/>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HQ- IEC</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BF1BE-B69F-4200-9A6F-CDEE335E3596}"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2" name="PlaceHolder 3"/>
          <p:cNvSpPr>
            <a:spLocks noGrp="1"/>
          </p:cNvSpPr>
          <p:nvPr>
            <p:ph type="dt" idx="28"/>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2F6A0-AEE8-4584-AB16-F60844659C61}" type="datetime">
              <a:rPr b="0" lang="en-US" sz="1000" spc="-1" strike="noStrike">
                <a:solidFill>
                  <a:srgbClr val="898989"/>
                </a:solidFill>
                <a:latin typeface="Arial"/>
                <a:ea typeface="Arial"/>
              </a:rPr>
              <a:t>07/28/26</a:t>
            </a:fld>
            <a:endParaRPr b="0" lang="en-US" sz="1000" spc="-1" strike="noStrike">
              <a:solidFill>
                <a:srgbClr val="000000"/>
              </a:solidFill>
              <a:latin typeface="Times New Roman"/>
            </a:endParaRPr>
          </a:p>
        </p:txBody>
      </p:sp>
      <p:sp>
        <p:nvSpPr>
          <p:cNvPr id="373"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74"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613A20-ABCA-4FA0-B5E9-0ACC70AA8F0B}"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13" name="PlaceHolder 3"/>
          <p:cNvSpPr>
            <a:spLocks noGrp="1"/>
          </p:cNvSpPr>
          <p:nvPr>
            <p:ph type="dt" idx="31"/>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3580DC-91B9-443F-93E4-CCAE5B7AFBFE}" type="datetime">
              <a:rPr b="0" lang="en-US" sz="1000" spc="-1" strike="noStrike">
                <a:solidFill>
                  <a:srgbClr val="898989"/>
                </a:solidFill>
                <a:latin typeface="Arial"/>
                <a:ea typeface="Arial"/>
              </a:rPr>
              <a:t>07/28/26</a:t>
            </a:fld>
            <a:endParaRPr b="0" lang="en-US" sz="1000" spc="-1" strike="noStrike">
              <a:solidFill>
                <a:srgbClr val="000000"/>
              </a:solidFill>
              <a:latin typeface="Times New Roman"/>
            </a:endParaRPr>
          </a:p>
        </p:txBody>
      </p:sp>
      <p:sp>
        <p:nvSpPr>
          <p:cNvPr id="414"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15"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E589A8-2253-4EAF-AF46-F0D932BCEE9F}"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4" name="PlaceHolder 3"/>
          <p:cNvSpPr>
            <a:spLocks noGrp="1"/>
          </p:cNvSpPr>
          <p:nvPr>
            <p:ph type="dt" idx="3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EFFA0-5047-4988-859F-1C6EC471626C}" type="datetime">
              <a:rPr b="0" lang="en-US" sz="1000" spc="-1" strike="noStrike">
                <a:solidFill>
                  <a:srgbClr val="898989"/>
                </a:solidFill>
                <a:latin typeface="Arial"/>
                <a:ea typeface="Arial"/>
              </a:rPr>
              <a:t>07/28/26</a:t>
            </a:fld>
            <a:endParaRPr b="0" lang="en-US" sz="1000" spc="-1" strike="noStrike">
              <a:solidFill>
                <a:srgbClr val="000000"/>
              </a:solidFill>
              <a:latin typeface="Times New Roman"/>
            </a:endParaRPr>
          </a:p>
        </p:txBody>
      </p:sp>
      <p:sp>
        <p:nvSpPr>
          <p:cNvPr id="455"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56"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7B3569-96D2-43BE-BE08-E4D9E73AAE0C}"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1066680" y="291960"/>
            <a:ext cx="325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Calibri"/>
              </a:rPr>
              <a:t>DRAFT CONFIDENTIAL</a:t>
            </a:r>
            <a:endParaRPr b="0" lang="en-US" sz="24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 name="PlaceHolder 3"/>
          <p:cNvSpPr>
            <a:spLocks noGrp="1"/>
          </p:cNvSpPr>
          <p:nvPr>
            <p:ph type="dt" idx="4"/>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D163E6-5AB2-4397-9AE2-DA49F9071CE4}" type="datetime">
              <a:rPr b="0" lang="en-US" sz="1000" spc="-1" strike="noStrike">
                <a:solidFill>
                  <a:srgbClr val="898989"/>
                </a:solidFill>
                <a:latin typeface="Arial"/>
                <a:ea typeface="Arial"/>
              </a:rPr>
              <a:t>07/28/26</a:t>
            </a:fld>
            <a:endParaRPr b="0" lang="en-US" sz="10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77845-377F-4C96-B04B-7E93182E65D5}"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5" name="PlaceHolder 3"/>
          <p:cNvSpPr>
            <a:spLocks noGrp="1"/>
          </p:cNvSpPr>
          <p:nvPr>
            <p:ph type="dt" idx="7"/>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AFEFDB-E9CC-431D-9DA8-29168A6ED533}" type="datetime">
              <a:rPr b="0" lang="en-US" sz="1000" spc="-1" strike="noStrike">
                <a:solidFill>
                  <a:srgbClr val="898989"/>
                </a:solidFill>
                <a:latin typeface="Arial"/>
                <a:ea typeface="Arial"/>
              </a:rPr>
              <a:t>07/28/26</a:t>
            </a:fld>
            <a:endParaRPr b="0" lang="en-US" sz="10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F8025-15D0-4466-9117-419EA7233C9A}"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 name="PlaceHolder 3"/>
          <p:cNvSpPr>
            <a:spLocks noGrp="1"/>
          </p:cNvSpPr>
          <p:nvPr>
            <p:ph type="dt" idx="10"/>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DE3F8-DA83-4D0D-8DCE-6627CE3164A2}" type="datetime">
              <a:rPr b="0" lang="en-US" sz="1000" spc="-1" strike="noStrike">
                <a:solidFill>
                  <a:srgbClr val="898989"/>
                </a:solidFill>
                <a:latin typeface="Arial"/>
                <a:ea typeface="Arial"/>
              </a:rPr>
              <a:t>07/28/26</a:t>
            </a:fld>
            <a:endParaRPr b="0" lang="en-US" sz="10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29A326-AA80-404F-A10E-67C4AAC7ADFB}"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7" name="PlaceHolder 3"/>
          <p:cNvSpPr>
            <a:spLocks noGrp="1"/>
          </p:cNvSpPr>
          <p:nvPr>
            <p:ph type="dt" idx="13"/>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EFBAD3-895A-46C6-B4E6-573724FD9C57}" type="datetime">
              <a:rPr b="0" lang="en-US" sz="1000" spc="-1" strike="noStrike">
                <a:solidFill>
                  <a:srgbClr val="898989"/>
                </a:solidFill>
                <a:latin typeface="Arial"/>
                <a:ea typeface="Arial"/>
              </a:rPr>
              <a:t>07/28/26</a:t>
            </a:fld>
            <a:endParaRPr b="0" lang="en-US" sz="10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FF0EB8-9EB6-4C08-95E1-3C5A242A7490}"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8" name="PlaceHolder 3"/>
          <p:cNvSpPr>
            <a:spLocks noGrp="1"/>
          </p:cNvSpPr>
          <p:nvPr>
            <p:ph type="dt" idx="16"/>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2A5DD-5B29-4B32-99EB-0956DE12B033}" type="datetime">
              <a:rPr b="0" lang="en-US" sz="1000" spc="-1" strike="noStrike">
                <a:solidFill>
                  <a:srgbClr val="898989"/>
                </a:solidFill>
                <a:latin typeface="Arial"/>
                <a:ea typeface="Arial"/>
              </a:rPr>
              <a:t>07/28/26</a:t>
            </a:fld>
            <a:endParaRPr b="0" lang="en-US" sz="10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682BEB-06C7-43E6-9E55-B479C3ED3C18}"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9" name="PlaceHolder 3"/>
          <p:cNvSpPr>
            <a:spLocks noGrp="1"/>
          </p:cNvSpPr>
          <p:nvPr>
            <p:ph type="dt" idx="19"/>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F0C55B-F5B0-4312-91A5-358C1913EA6F}" type="datetime">
              <a:rPr b="0" lang="en-US" sz="1000" spc="-1" strike="noStrike">
                <a:solidFill>
                  <a:srgbClr val="898989"/>
                </a:solidFill>
                <a:latin typeface="Arial"/>
                <a:ea typeface="Arial"/>
              </a:rPr>
              <a:t>07/28/26</a:t>
            </a:fld>
            <a:endParaRPr b="0" lang="en-US" sz="1000" spc="-1" strike="noStrike">
              <a:solidFill>
                <a:srgbClr val="000000"/>
              </a:solidFill>
              <a:latin typeface="Times New Roman"/>
            </a:endParaRPr>
          </a:p>
        </p:txBody>
      </p:sp>
      <p:sp>
        <p:nvSpPr>
          <p:cNvPr id="25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5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4DD712-D22D-4F46-971A-43611E81C570}"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0" name="PlaceHolder 3"/>
          <p:cNvSpPr>
            <a:spLocks noGrp="1"/>
          </p:cNvSpPr>
          <p:nvPr>
            <p:ph type="dt" idx="22"/>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A4F7E-85D8-4094-A26E-02343CCD8769}" type="datetime">
              <a:rPr b="0" lang="en-US" sz="1000" spc="-1" strike="noStrike">
                <a:solidFill>
                  <a:srgbClr val="898989"/>
                </a:solidFill>
                <a:latin typeface="Arial"/>
                <a:ea typeface="Arial"/>
              </a:rPr>
              <a:t>07/28/26</a:t>
            </a:fld>
            <a:endParaRPr b="0" lang="en-US" sz="1000" spc="-1" strike="noStrike">
              <a:solidFill>
                <a:srgbClr val="000000"/>
              </a:solidFill>
              <a:latin typeface="Times New Roman"/>
            </a:endParaRPr>
          </a:p>
        </p:txBody>
      </p:sp>
      <p:sp>
        <p:nvSpPr>
          <p:cNvPr id="291"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292"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F5B0C-483A-4E3D-8FBE-9781C9205ABE}"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1" name="PlaceHolder 3"/>
          <p:cNvSpPr>
            <a:spLocks noGrp="1"/>
          </p:cNvSpPr>
          <p:nvPr>
            <p:ph type="dt" idx="25"/>
          </p:nvPr>
        </p:nvSpPr>
        <p:spPr>
          <a:xfrm>
            <a:off x="1292040" y="6356520"/>
            <a:ext cx="12985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3CEAD-C55E-422A-8FB1-E35D152F3774}" type="datetime">
              <a:rPr b="0" lang="en-US" sz="1000" spc="-1" strike="noStrike">
                <a:solidFill>
                  <a:srgbClr val="898989"/>
                </a:solidFill>
                <a:latin typeface="Arial"/>
                <a:ea typeface="Arial"/>
              </a:rPr>
              <a:t>07/28/26</a:t>
            </a:fld>
            <a:endParaRPr b="0" lang="en-US" sz="1000" spc="-1" strike="noStrike">
              <a:solidFill>
                <a:srgbClr val="000000"/>
              </a:solidFill>
              <a:latin typeface="Times New Roman"/>
            </a:endParaRPr>
          </a:p>
        </p:txBody>
      </p:sp>
      <p:sp>
        <p:nvSpPr>
          <p:cNvPr id="332"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Fill in Agency Name on Master</a:t>
            </a:r>
            <a:endParaRPr b="0" lang="en-US" sz="1000" spc="-1" strike="noStrike">
              <a:solidFill>
                <a:srgbClr val="000000"/>
              </a:solidFill>
              <a:latin typeface="Times New Roman"/>
            </a:endParaRPr>
          </a:p>
        </p:txBody>
      </p:sp>
      <p:sp>
        <p:nvSpPr>
          <p:cNvPr id="333"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Arial"/>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7B5C41-5AC9-40F3-8FAA-FD120B9D5407}" type="slidenum">
              <a:rPr b="0" lang="en-US" sz="1000" spc="-1" strike="noStrike">
                <a:solidFill>
                  <a:srgbClr val="898989"/>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8" descr="pptbkgrdsshifted.jpg"/>
          <p:cNvPicPr/>
          <p:nvPr/>
        </p:nvPicPr>
        <p:blipFill>
          <a:blip r:embed="rId1"/>
          <a:stretch/>
        </p:blipFill>
        <p:spPr>
          <a:xfrm>
            <a:off x="-1440" y="0"/>
            <a:ext cx="9248760" cy="6961320"/>
          </a:xfrm>
          <a:prstGeom prst="rect">
            <a:avLst/>
          </a:prstGeom>
          <a:ln w="0">
            <a:noFill/>
          </a:ln>
        </p:spPr>
      </p:pic>
      <p:sp>
        <p:nvSpPr>
          <p:cNvPr id="501" name="PlaceHolder 1"/>
          <p:cNvSpPr>
            <a:spLocks noGrp="1"/>
          </p:cNvSpPr>
          <p:nvPr>
            <p:ph type="title"/>
          </p:nvPr>
        </p:nvSpPr>
        <p:spPr>
          <a:xfrm>
            <a:off x="101520" y="1320840"/>
            <a:ext cx="9042480" cy="5029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rPr>
              <a:t>January 2014 CPOC</a:t>
            </a:r>
            <a:br>
              <a:rPr sz="7200"/>
            </a:br>
            <a:r>
              <a:rPr b="1" lang="en-US" sz="6000" spc="-1" strike="noStrike">
                <a:solidFill>
                  <a:srgbClr val="ffffff"/>
                </a:solidFill>
                <a:latin typeface="Arial"/>
              </a:rPr>
              <a:t>IEC Project Review</a:t>
            </a:r>
            <a:br>
              <a:rPr sz="7200"/>
            </a:br>
            <a:r>
              <a:rPr b="1" lang="en-US" sz="6000" spc="-1" strike="noStrike">
                <a:solidFill>
                  <a:srgbClr val="ffffff"/>
                </a:solidFill>
                <a:latin typeface="Wingdings"/>
                <a:ea typeface="Wingdings"/>
              </a:rPr>
              <a:t></a:t>
            </a:r>
            <a:br>
              <a:rPr sz="7200"/>
            </a:br>
            <a:r>
              <a:rPr b="1" lang="en-US" sz="4000" spc="-1" strike="noStrike">
                <a:solidFill>
                  <a:srgbClr val="ffffff"/>
                </a:solidFill>
                <a:latin typeface="Arial"/>
              </a:rPr>
              <a:t>East Side Access</a:t>
            </a:r>
            <a:br>
              <a:rPr sz="7200"/>
            </a:br>
            <a:br>
              <a:rPr sz="7200"/>
            </a:br>
            <a:r>
              <a:rPr b="1" lang="en-US" sz="2800" spc="-1" strike="noStrike">
                <a:solidFill>
                  <a:srgbClr val="ffffff"/>
                </a:solidFill>
                <a:latin typeface="Arial"/>
              </a:rPr>
              <a:t>January 27, 2014</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61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Supplemental Independent Review Team - ESA Management Review</a:t>
            </a:r>
            <a:endParaRPr b="1" lang="en-US" sz="3200" spc="-1" strike="noStrike">
              <a:solidFill>
                <a:srgbClr val="000000"/>
              </a:solidFill>
              <a:latin typeface="Arial"/>
            </a:endParaRPr>
          </a:p>
        </p:txBody>
      </p:sp>
      <p:sp>
        <p:nvSpPr>
          <p:cNvPr id="503" name=""/>
          <p:cNvSpPr txBox="1"/>
          <p:nvPr/>
        </p:nvSpPr>
        <p:spPr>
          <a:xfrm>
            <a:off x="763200" y="1765440"/>
            <a:ext cx="7923240" cy="411480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Approach consisted of document review and over 50 interviews of stakeholder representatives. </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hanges were proposed to the organizational structure, which increase management focus on systems work and project controls.</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expects better project execution through improved coordination between the disciplines (civil, systems and project controls)  and better communication between the project and MTACC.</a:t>
            </a:r>
            <a:endParaRPr b="0" lang="en-US" sz="18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he IEC urges timely completion of these organizational adjustments to realize immediate benefits to the project.</a:t>
            </a:r>
            <a:endParaRPr b="0" lang="en-US" sz="1800" spc="-1" strike="noStrike">
              <a:solidFill>
                <a:srgbClr val="000000"/>
              </a:solidFill>
              <a:latin typeface="Arial"/>
            </a:endParaRPr>
          </a:p>
          <a:p>
            <a:pPr lvl="1" marL="457200" indent="-45720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457200" indent="-457200">
              <a:spcBef>
                <a:spcPts val="11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4" marL="2057400" indent="-228600">
              <a:spcBef>
                <a:spcPts val="499"/>
              </a:spcBef>
              <a:buClr>
                <a:srgbClr val="000099"/>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5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1B1385-686F-4550-A365-474326840527}"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04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Arial"/>
              </a:rPr>
              <a:t>Cost &amp; Schedule Review Approach</a:t>
            </a:r>
            <a:endParaRPr b="1" lang="en-US" sz="3600" spc="-1" strike="noStrike">
              <a:solidFill>
                <a:srgbClr val="000000"/>
              </a:solidFill>
              <a:latin typeface="Arial"/>
            </a:endParaRPr>
          </a:p>
        </p:txBody>
      </p:sp>
      <p:sp>
        <p:nvSpPr>
          <p:cNvPr id="507" name=""/>
          <p:cNvSpPr txBox="1"/>
          <p:nvPr/>
        </p:nvSpPr>
        <p:spPr>
          <a:xfrm>
            <a:off x="666720" y="1137960"/>
            <a:ext cx="8104320" cy="5443560"/>
          </a:xfrm>
          <a:prstGeom prst="rect">
            <a:avLst/>
          </a:prstGeom>
          <a:noFill/>
          <a:ln w="0">
            <a:noFill/>
          </a:ln>
        </p:spPr>
        <p:txBody>
          <a:bodyPr anchor="t">
            <a:normAutofit/>
          </a:bodyPr>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MTACC and three other independent groups (SIR, IEC and FTA) evaluated ESA cost and schedule, resulting in greater certainty of the results.</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ESA budget forecast numbers were mainly derived by identifying variances to the base budget of $8.2B.  The IEC finds the approach valid based on the close range ($9.3B to $9.7B) of the base cost forecast.</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revised RSD dates were derived by updating the base schedule (MTACC) and independent schedule evaluations by SIR, IEC and FTA. The IEC finds both approaches valid and would like to point out that the RSDs developed by SIR, IEC and FTA are at least 14 months beyond MTACC’s Sep-2020 date.</a:t>
            </a:r>
            <a:endParaRPr b="0" lang="en-US" sz="2000" spc="-1" strike="noStrike">
              <a:solidFill>
                <a:srgbClr val="000000"/>
              </a:solidFill>
              <a:latin typeface="Arial"/>
            </a:endParaRPr>
          </a:p>
          <a:p>
            <a:pPr lvl="1" marL="457200" indent="-457200">
              <a:spcBef>
                <a:spcPts val="11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The presumed critical path through Manhattan /Systems has to be validated. The operationally informed Harold schedule must be completed and verified through a Harold risk assessment.</a:t>
            </a:r>
            <a:endParaRPr b="0" lang="en-US" sz="2000" spc="-1" strike="noStrike">
              <a:solidFill>
                <a:srgbClr val="000000"/>
              </a:solidFill>
              <a:latin typeface="Arial"/>
            </a:endParaRPr>
          </a:p>
        </p:txBody>
      </p:sp>
      <p:sp>
        <p:nvSpPr>
          <p:cNvPr id="5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898989"/>
                </a:solidFill>
                <a:latin typeface="Arial"/>
                <a:ea typeface="Arial"/>
              </a:rPr>
              <a:t>MTA-IEC</a:t>
            </a:r>
            <a:endParaRPr b="0" lang="en-US" sz="1000" spc="-1" strike="noStrike">
              <a:solidFill>
                <a:srgbClr val="000000"/>
              </a:solidFill>
              <a:latin typeface="Calibri"/>
            </a:endParaRPr>
          </a:p>
        </p:txBody>
      </p:sp>
      <p:sp>
        <p:nvSpPr>
          <p:cNvPr id="5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55F922-E126-4918-A5D3-64026C40DF45}" type="slidenum">
              <a:rPr b="0" lang="en-US" sz="1000" spc="-1" strike="noStrike">
                <a:solidFill>
                  <a:srgbClr val="898989"/>
                </a:solidFill>
                <a:latin typeface="Arial"/>
                <a:ea typeface="Arial"/>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6T16:32:01Z</dcterms:created>
  <dc:creator>Jim Michaels</dc:creator>
  <dc:description/>
  <dc:language>en-US</dc:language>
  <cp:lastModifiedBy>Maria Fernandes</cp:lastModifiedBy>
  <cp:lastPrinted>2014-01-27T15:12:24Z</cp:lastPrinted>
  <dcterms:modified xsi:type="dcterms:W3CDTF">2014-01-27T15:20:04Z</dcterms:modified>
  <cp:revision>233</cp:revision>
  <dc:subject/>
  <dc:title>PowerPoint Presentation</dc:title>
</cp:coreProperties>
</file>