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79300" cy="9132888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860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7280" y="525240"/>
            <a:ext cx="3511440" cy="263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860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B4DFBB02-C522-4957-8E83-3A2E6FBDE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E92DEDB2-C35B-4F89-B216-F7D9013DF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CBCFB655-CED4-4CEC-8B17-1ABD967DE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RR to adopt Favorite Trips in release 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SK: 9/27/13 – MNR to validate accurate screenshots. – Completed – 09/27/13 - Modified slide to show the three landing pa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F0BC12AE-AD1E-4086-8947-F26552AA6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26D9-44BF-4696-9AAD-5DA125DF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6F1-C60D-4E04-82EF-B2C1F1D6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A86-BE5B-4E34-BC4C-40347131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67BE-537B-49E8-AE6C-D2296EB4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03A6-5BA1-488A-B8B3-95F5312D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572-5772-4840-8443-984624F3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5223-BD8C-42FC-A374-EA296FF4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6653-8504-4014-813B-50CCAFB6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2BCF-BE6B-4708-AF65-E2860087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19E-DDFF-448C-B2EE-FB79FD07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9F4-0236-405F-84FF-020DDFCB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EB2-9C09-410A-BBA3-AB0D723D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03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2130480" indent="-303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20440" y="8465760"/>
            <a:ext cx="173052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6E78F693-6EA2-42B6-83C7-5700BBD509BC}" type="datetime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465760"/>
            <a:ext cx="385776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465760"/>
            <a:ext cx="284148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1BEC68A6-9232-48C4-A5E2-FEC11BCDA616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pptbkgrds-title1.jpg"/>
          <p:cNvPicPr/>
          <p:nvPr/>
        </p:nvPicPr>
        <p:blipFill>
          <a:blip r:embed="rId1"/>
          <a:stretch/>
        </p:blipFill>
        <p:spPr>
          <a:xfrm>
            <a:off x="0" y="0"/>
            <a:ext cx="12179160" cy="916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646200"/>
            <a:ext cx="10023480" cy="466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RR TrainTime  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 Committee Presentation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7360" y="5176800"/>
            <a:ext cx="8524800" cy="23335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b9cde5"/>
                </a:solidFill>
                <a:latin typeface="Arial"/>
              </a:rPr>
              <a:t>1/24/201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pecial Service Notic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55C63416-5F8C-4DEB-BF4F-98D70D3FAEF9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2" descr="C:\Users\dbrulha\Desktop\untitled folder\iOS Simulator Screen shot Nov 20, 2013 2.04.27 PM.png"/>
          <p:cNvPicPr/>
          <p:nvPr/>
        </p:nvPicPr>
        <p:blipFill>
          <a:blip r:embed="rId1"/>
          <a:stretch/>
        </p:blipFill>
        <p:spPr>
          <a:xfrm>
            <a:off x="447840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cial Medi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8E3049FF-C9A8-473D-9833-A32606003448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9" descr="C:\Users\dbrulha\Desktop\untitled folder\iOS Simulator Screen shot Nov 20, 2013 2.04.31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re Op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B354C9DE-2DFF-41B2-9757-D786B6D30C88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Users\dbrulha\Desktop\untitled folder\iOS Simulator Screen shot Nov 20, 2013 2.14.47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2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uture enhancements based on feedback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6ADA67EF-D711-40CF-B7E6-24002E74FA0E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ading Scree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E179A504-D02F-4D2C-8B84-D04673714BCC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1" descr="C:\Users\dbrulha\Desktop\untitled folder\iOS Simulator Screen shot Nov 20, 2013 2.00.53 PM.png"/>
          <p:cNvPicPr/>
          <p:nvPr/>
        </p:nvPicPr>
        <p:blipFill>
          <a:blip r:embed="rId1"/>
          <a:stretch/>
        </p:blipFill>
        <p:spPr>
          <a:xfrm>
            <a:off x="4484520" y="128592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avigation Main Men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9B45EF1D-0225-4258-93FE-E7AA7F608D67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2" descr="C:\Users\dbrulha\Desktop\untitled folder\iOS Simulator Screen shot Nov 20, 2013 2.00.04 PM.png"/>
          <p:cNvPicPr/>
          <p:nvPr/>
        </p:nvPicPr>
        <p:blipFill>
          <a:blip r:embed="rId1"/>
          <a:stretch/>
        </p:blipFill>
        <p:spPr>
          <a:xfrm>
            <a:off x="665496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9" name="Picture 13" descr="C:\Users\dbrulha\Desktop\untitled folder\iOS Simulator Screen shot Nov 20, 2013 2.00.01 PM.png"/>
          <p:cNvPicPr/>
          <p:nvPr/>
        </p:nvPicPr>
        <p:blipFill>
          <a:blip r:embed="rId2"/>
          <a:stretch/>
        </p:blipFill>
        <p:spPr>
          <a:xfrm>
            <a:off x="179244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0" name="TextBox 1"/>
          <p:cNvSpPr/>
          <p:nvPr/>
        </p:nvSpPr>
        <p:spPr>
          <a:xfrm>
            <a:off x="2805480" y="6994440"/>
            <a:ext cx="1173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ahoma"/>
              </a:rPr>
              <a:t>Collap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7657920" y="6989760"/>
            <a:ext cx="119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and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Search &amp; Far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4E1BFCB7-7003-4D36-9352-B55F1197475A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2278080" y="6989760"/>
            <a:ext cx="2228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rip Result 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7231320" y="6989760"/>
            <a:ext cx="2046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ate &amp; Time Pic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3" descr="C:\Users\dbrulha\Desktop\untitled folder\iOS Simulator Screen shot Nov 20, 2013 2.02.29 PM.png"/>
          <p:cNvPicPr/>
          <p:nvPr/>
        </p:nvPicPr>
        <p:blipFill>
          <a:blip r:embed="rId1"/>
          <a:stretch/>
        </p:blipFill>
        <p:spPr>
          <a:xfrm>
            <a:off x="1792440" y="130320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8" name="Picture 15" descr="C:\Users\dbrulha\Desktop\untitled folder\iOS Simulator Screen shot Nov 20, 2013 2.02.35 PM.png"/>
          <p:cNvPicPr/>
          <p:nvPr/>
        </p:nvPicPr>
        <p:blipFill>
          <a:blip r:embed="rId2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Result Detail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42BED59C-5516-45E1-91B9-04BE4139461F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17720" y="1287360"/>
            <a:ext cx="2787480" cy="7086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3" name="Right Arrow 13"/>
          <p:cNvSpPr/>
          <p:nvPr/>
        </p:nvSpPr>
        <p:spPr>
          <a:xfrm rot="9766800">
            <a:off x="4493520" y="7520040"/>
            <a:ext cx="152244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643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357240" y="7283520"/>
            <a:ext cx="2179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lanation of Fa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G:\iOS Simulator Screen shot Nov 20, 2013 2.50.22 PM.png"/>
          <p:cNvPicPr/>
          <p:nvPr/>
        </p:nvPicPr>
        <p:blipFill>
          <a:blip r:embed="rId2"/>
          <a:stretch/>
        </p:blipFill>
        <p:spPr>
          <a:xfrm>
            <a:off x="5846760" y="159696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128520"/>
            <a:ext cx="10960200" cy="10987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avorite Sta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C:\Users\dbrulha\Desktop\untitled folder\iOS Simulator Screen shot Nov 20, 2013 2.03.24 PM.png"/>
          <p:cNvPicPr/>
          <p:nvPr/>
        </p:nvPicPr>
        <p:blipFill>
          <a:blip r:embed="rId1"/>
          <a:stretch/>
        </p:blipFill>
        <p:spPr>
          <a:xfrm>
            <a:off x="4651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8" name="Picture 14" descr="C:\Users\dbrulha\Desktop\untitled folder\iOS Simulator Screen shot Nov 20, 2013 2.14.33 PM.png"/>
          <p:cNvPicPr/>
          <p:nvPr/>
        </p:nvPicPr>
        <p:blipFill>
          <a:blip r:embed="rId2"/>
          <a:stretch/>
        </p:blipFill>
        <p:spPr>
          <a:xfrm>
            <a:off x="8404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9" name="Picture 15" descr="C:\Users\dbrulha\Desktop\untitled folder\iOS Simulator Screen shot Nov 20, 2013 2.31.50 PM.png"/>
          <p:cNvPicPr/>
          <p:nvPr/>
        </p:nvPicPr>
        <p:blipFill>
          <a:blip r:embed="rId3"/>
          <a:stretch/>
        </p:blipFill>
        <p:spPr>
          <a:xfrm>
            <a:off x="95724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80" name="TextBox 1"/>
          <p:cNvSpPr/>
          <p:nvPr/>
        </p:nvSpPr>
        <p:spPr>
          <a:xfrm>
            <a:off x="1331280" y="7130880"/>
            <a:ext cx="24523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he ‘Favorites’ tab in 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Pick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5069520" y="7130880"/>
            <a:ext cx="2364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rs allow ability 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add/remove a favor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8696520" y="7130880"/>
            <a:ext cx="26139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Favorite a station fro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information p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ight Arrow 1"/>
          <p:cNvSpPr/>
          <p:nvPr/>
        </p:nvSpPr>
        <p:spPr>
          <a:xfrm rot="1884600">
            <a:off x="336240" y="2039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ight Arrow 19"/>
          <p:cNvSpPr/>
          <p:nvPr/>
        </p:nvSpPr>
        <p:spPr>
          <a:xfrm rot="1884600">
            <a:off x="6570360" y="44625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ight Arrow 20"/>
          <p:cNvSpPr/>
          <p:nvPr/>
        </p:nvSpPr>
        <p:spPr>
          <a:xfrm rot="1884600">
            <a:off x="10231200" y="1247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ight Arrow 21"/>
          <p:cNvSpPr/>
          <p:nvPr/>
        </p:nvSpPr>
        <p:spPr>
          <a:xfrm rot="1884600">
            <a:off x="6570360" y="31701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B773BF4F-C2CE-4541-8426-FA3F3615487A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tion Inform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31FE19C7-F551-409E-A010-AF07ABB172A2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47800" y="1374840"/>
            <a:ext cx="3200400" cy="6054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6610320" y="2022480"/>
            <a:ext cx="3200400" cy="5824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cxnSp>
        <p:nvCxnSpPr>
          <p:cNvPr id="93" name="Curved Connector 2"/>
          <p:cNvCxnSpPr>
            <a:stCxn id="91" idx="2"/>
            <a:endCxn id="92" idx="0"/>
          </p:cNvCxnSpPr>
          <p:nvPr/>
        </p:nvCxnSpPr>
        <p:spPr>
          <a:xfrm flipH="1" flipV="1" rot="5400000">
            <a:off x="3074400" y="2294280"/>
            <a:ext cx="5407920" cy="4863240"/>
          </a:xfrm>
          <a:prstGeom prst="curvedConnector5">
            <a:avLst>
              <a:gd name="adj1" fmla="val -13028"/>
              <a:gd name="adj2" fmla="val 25000"/>
              <a:gd name="adj3" fmla="val -13028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4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rvice Statu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F6FA609E-06C1-46E3-B53C-0BC99A64CB79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C:\Users\dbrulha\Desktop\untitled folder\iOS Simulator Screen shot Nov 20, 2013 2.04.14 PM.png"/>
          <p:cNvPicPr/>
          <p:nvPr/>
        </p:nvPicPr>
        <p:blipFill>
          <a:blip r:embed="rId1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8" name="Picture 13" descr="C:\Users\dbrulha\Desktop\untitled folder\iOS Simulator Screen shot Nov 20, 2013 2.04.12 PM.png"/>
          <p:cNvPicPr/>
          <p:nvPr/>
        </p:nvPicPr>
        <p:blipFill>
          <a:blip r:embed="rId2"/>
          <a:stretch/>
        </p:blipFill>
        <p:spPr>
          <a:xfrm>
            <a:off x="179244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99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stomer Alert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D2032681-E36B-4AAB-87D8-1294EF18DE80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9" descr="C:\Users\dbrulha\Desktop\untitled folder\iOS Simulator Screen shot Nov 20, 2013 2.04.20 PM.png"/>
          <p:cNvPicPr/>
          <p:nvPr/>
        </p:nvPicPr>
        <p:blipFill>
          <a:blip r:embed="rId1"/>
          <a:stretch/>
        </p:blipFill>
        <p:spPr>
          <a:xfrm>
            <a:off x="179244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5" name="Picture 10" descr="C:\Users\dbrulha\Desktop\untitled folder\iOS Simulator Screen shot Nov 20, 2013 2.04.22 PM.png"/>
          <p:cNvPicPr/>
          <p:nvPr/>
        </p:nvPicPr>
        <p:blipFill>
          <a:blip r:embed="rId2"/>
          <a:stretch/>
        </p:blipFill>
        <p:spPr>
          <a:xfrm>
            <a:off x="665496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6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21:28:48Z</dcterms:created>
  <dc:creator>dbrulha@lirr.org</dc:creator>
  <dc:description/>
  <dc:language>en-US</dc:language>
  <cp:lastModifiedBy>lirr</cp:lastModifiedBy>
  <cp:lastPrinted>2013-09-27T19:11:38Z</cp:lastPrinted>
  <dcterms:modified xsi:type="dcterms:W3CDTF">2014-01-24T21:07:28Z</dcterms:modified>
  <cp:revision>161</cp:revision>
  <dc:subject/>
  <dc:title>PowerPoint Presentation</dc:title>
</cp:coreProperties>
</file>