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8B1F5-EA0A-4F7C-86D5-5048037B686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F2055-717C-4613-AEBE-53F02235C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93840-37CF-40B3-9F24-CE1E67DF01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A847A-A8FB-4F69-8705-BE7000A18D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907C3-2CD0-4146-B20E-D4AB1EF47C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18FDE-DA1E-494F-AD59-27B38FD1B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6CEEB-9A9C-4528-92DF-6A39526A6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AF6200-F858-4BB0-BFE2-23BE9AACE7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5743BE-6943-4570-9D04-34CB35CCCE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867D03-D926-420B-BE63-7150CF8EF9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F8E08D-3E12-4B67-BE9B-5956818C72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1C4EB-CD17-400C-8A93-8E43FEDC17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50E3F0-C116-4DFD-89C2-5CA8D05901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E95585-BF41-4C54-9FAF-C6C22AC774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EBA044-1CBD-4EF7-A27C-2C38DAC354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27837E-8942-426A-9AC1-99F8F5D2C6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9E1CB9-5C53-4ECC-B2C4-79C0807EFC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946DA-73D9-4121-8C96-16A7E98D9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9DE5C3-F6A0-46B5-BF6C-23ACE99598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2EF0EA-AE8E-4682-A5F1-24678418EB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EEBBDA-824E-46F4-89A3-693AE61087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5AA36A-0C40-4169-A9C4-7E98C46E63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87A481-098A-41B3-A788-41208218A8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4B0A82-DD61-40FD-8F89-DB23459B7F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AECF65-03CA-467F-8D89-2D1B21CA64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DBDAB2-80CD-48FB-8B34-D73670499C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C82F69-4C32-4646-9D04-924EDEDB42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F9E5B9-7335-4752-BC62-3907BDBC4B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6BAE1-D954-478A-8B66-B296DA71B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B36FD62-D516-4719-84CC-89DC07B073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526D68E-3BE6-4D94-8E4F-DA90960125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EF6934-B368-4F85-84B3-979BD43354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2EF2B6-D893-43DA-B0A7-0E4EF0393A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EEB30B-7AF7-4D18-8E0B-FCADBEB0FC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E19F96-474C-43A8-96FB-53E14E0701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0A04F3-E4E0-4362-9BD9-429879B812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6D6EFD-0349-4213-AFAF-4AC587834F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BF7304-C738-4C5B-9254-4EC2D92115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A6E3F0-65BC-430C-B51C-B78D726963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FCEDC-9C79-41E4-9644-24230EC83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29DDC2-8FBF-46D3-97F5-31134855C3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5723E6-E22A-4142-819E-A2CFC8CD8B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5E101C-1E01-485F-AE28-FE97AFC15C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E167E1-7B0D-4DAB-95DC-70A7EA06D50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AA5D51-53A2-475B-ADE1-338F657031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864DD5-BE56-411F-B184-9DFC667752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98349C-2F0C-402F-999E-1CB9D3CF2B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07B2BC-AD6A-4FC3-99E0-D29274504F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D9EF92-990C-4F62-97E7-F99DD6072B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3F21EB-47E0-4D9F-93D5-08CE4B0319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8FE84-32C4-405F-8826-89CE61C00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2FD506-F449-4CF8-8C0B-4060BFFE42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93A13C-E2D3-424E-8AAF-FB820BB570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DF467B-DC6C-4A86-993D-6FC5E929B7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0A8A18-8EC2-415F-B26E-525742740B0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A6C963E-E8FF-4CE1-957B-04DF9E5D7B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B91BE-DC35-4804-88D6-D3C54FD48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B0564-B160-4DEE-97C8-9CEB11097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8E4E0-1425-40B8-9330-2D5B4D250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272CA-8409-4060-A7D1-FAAC422CD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306EA-DBE3-43A4-8598-78510098C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E0FF7-D50A-4B94-AC8A-E19A37E06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78A98-B7C4-40F0-AA85-8446279A9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268E2-3EC6-4388-AAF8-10A5239CA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5F2AB-B91F-4CE0-9FA2-40F230DF0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82A5C-7B0C-49C8-A937-5CAA5387B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F4E88-D3E1-4C5D-BF99-0AC7196DB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78AE78-F90A-4BA9-B0D1-B87D88994B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7F6E5-901F-4F21-8917-D66F4040BB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730F2-8EE5-49CA-9F04-F155419D4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155604-52C0-4F00-BFB0-754F2D6427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2C68D-6E3E-470F-9E6A-3BC28FCC8F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1FB30-91BC-4CC8-BD79-93BC1FE2A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2547C-A6EB-4AE3-96B0-8D821D448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F7109-0F00-40B2-BC76-56FA3C007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9E465-4DEC-4C66-A63E-CF8304C4A8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B0F7B-E677-4F39-84E8-0B7DED98B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F2D42-9E14-4A6E-BAE0-FF5A38726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3FAF1F-AE2F-4808-9CA5-3EFDB50027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FC4A34-943E-4A4C-8BC0-8C754C382D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D95A53-B2A8-4390-BE70-74AD03DE9C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657DEB-FCAC-4FDD-A270-6FA72222A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FD4D62-C831-4F54-8F69-75374F9E6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561BD-5BB9-41E1-BB02-B49B61717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3480E-8E50-4B08-B96E-3F663C0E8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2BC153-B965-4261-AA3F-56BB10FA3A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03DF43-9E54-47D3-9453-19D7E8AE2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12920-0EBA-438A-87B6-6A3096D54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17735-9A07-4667-ACC4-B8962777B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385AC-7A34-4F0E-ADF6-D977AACB9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3696D-E66E-4339-9476-7D3C3AF80C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A69206-F6DA-44DE-887C-71C9917E1C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2A4C37-4561-4E41-AAEA-93F07091D4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0C3050-0219-4088-94C4-CF3438BD23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18D79-AA3F-479C-9AC8-39993A4D4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C3C09-CBCA-4007-A369-431C4AE6CE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E4B4A-EB44-4CEF-BAF6-28EE9EC0E7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0E7988-8DEB-4BD0-96E7-B0A5ACE591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3A81A-ADEB-4003-836E-F1D7FAA40A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639A0-A4BC-4CA0-9C61-3B866BE297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A0617-68D3-4F0F-9B22-4AA7D77A6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4084B-102A-4E7B-904E-E0027C720B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1275CA-4640-4D0B-8D0B-44DD54A04D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24232F-88DF-4B72-A485-566AFD4261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EA6BEF-8F53-4939-AEAC-90339360D5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72402-182D-4DB8-B451-3F71F591E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0BEABE-4687-4B89-BD93-3CD6CC60CD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B4B78A-3344-4CD5-BF05-20E99E05A8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15F917-97F4-48A8-81B9-3ADF696A04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C130B3-7A01-4B34-BA56-12CAB7E106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65BA4F-C4D1-42D9-839D-0FD29027DA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219745-5129-4416-83A6-828B2866AD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A03904-91EB-4E95-BDCE-973FEA461B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ABB1F-C794-4BA9-858E-79A1CD2F8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B8DEB-B74F-424E-8E87-076E87A46C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6DE40-DA48-4CB7-8B5B-25DD303530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28DE4-9147-48C7-9BE0-09A17E900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FC951-ECCC-42E9-BB1B-840298828E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CF726B-1099-48FC-BBF1-CD98CED2EB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4E4102-E508-4D6C-9F66-41851B8C0D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93B713-A826-487F-AE33-F694DFB3A6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D8ADEE-7613-4203-8BE7-F36CE8D578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253ED7-96F1-4418-B5FC-D6EB6BB71F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254B82-7649-4B2C-9A9A-C3AECE47B6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27F832-D894-4776-BFDB-8F15EB5174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4BF819-8364-4144-BDAD-8E800954A3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7E51D5-FAF0-4B9B-9F4F-5048191A4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D8C4F-79D1-4DBB-BFD4-BCBAB2872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DB0D25-1E87-4A02-8B02-32423DCB3A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9DF135-43EE-47E2-AED7-CD3994E210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F13B15-98C6-4326-9D15-FB03B35108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3607A3-36AA-40E0-8B4D-9031F03523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9E062C-D7B6-4596-BF38-3E82516788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F661A1-C752-48C6-BBBA-A3EA90C005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F290E0-9813-42EF-B353-C2B91F1B12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9EB15C-E140-4F5A-AC55-129EC5F3CA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0D06E4-8F95-47B1-BC2F-4C445486A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86EA5C-9F16-4FAD-BC33-24E42DB993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6EF0-B87B-4380-8C1C-90731B9A8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7E8B41-240D-4EA9-AB3E-0BB8D655F8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1536C3-F03D-47D0-96C5-0B4BC12969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4AFD2-5DCD-43BF-AF75-6AC5D667CF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8721F0-C112-4C6B-BFF4-3C3BE5FEF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166FB5-9757-43DE-AC59-9F327CCDCF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7FDC5F-C0B0-489D-95BB-DD016976CF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1831B2-259E-4ACD-8FC5-5EA0018F53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52445A-8C35-4088-A024-EC52FB0DFD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2D541C-EE28-4063-9FAD-88D9B9FD2A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94521E-5742-4880-83EF-2F9D2B428D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3EB46-F011-4DEB-8BD9-4DEA13DC7AAC}"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3791F-3CBA-456D-9BA5-FD0324B74157}"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7CA3E2-E77B-4E20-9885-AD349965A3FF}"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3554E-7390-4F74-A997-A469ACB1055A}"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1296F-EA49-4BA9-BAD1-94434B6B5B0B}"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A3B9D-B4CB-447C-8065-C1C0F0C514B3}"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2C119-07C5-484B-8101-057BE788A5C7}"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C72DF-8AAB-4222-A0C7-DD229C4F924B}"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37F00-4E91-417B-AB1A-13857FBF0FEF}"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2F477-CA67-42DB-90E3-FE48434A787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835FB-4BBA-478B-8FD9-A254CDFBE625}"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E151C-4C2A-4553-847B-2E588094612B}"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94023-8FCA-465B-8ED6-F172F9CAE985}"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80A55-B9B8-4A9B-8CB6-6540006F35F4}"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32316-A385-498A-BC3B-0D528FFB2A62}"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E1C6D-762A-4B16-92C7-50B3A7FF64A6}"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9E684-7429-489A-BA22-869D33556FF1}"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9A737-1404-49BE-AC79-FC0B753C1F3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5C772-F376-424C-A38F-6F532EDC7AA2}"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37DA2-D697-4A77-B4C7-347B81D4A2FA}"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AA2FD-A759-443A-9DE3-535993F7C11C}"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87F8E-02AE-410D-AF07-FED5E33E8A9F}"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082D6-9BF6-42E9-B2BF-5A6E1B11032A}" type="datetime">
              <a:rPr b="0" lang="en-US" sz="1000" spc="-1" strike="noStrike">
                <a:solidFill>
                  <a:srgbClr val="898989"/>
                </a:solidFill>
                <a:latin typeface="Arial"/>
                <a:ea typeface="Arial"/>
              </a:rPr>
              <a:t>07/29/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31B0F-A0C8-4300-8FC4-589F3982DEE8}"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9E1D5-FAAA-47C3-A7D5-6A2E90A43792}"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03163-784C-4070-A740-C357A47B3897}"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