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94"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495" name="PlaceHolder 2"/>
          <p:cNvSpPr>
            <a:spLocks noGrp="1"/>
          </p:cNvSpPr>
          <p:nvPr>
            <p:ph type="dt" idx="37"/>
          </p:nvPr>
        </p:nvSpPr>
        <p:spPr>
          <a:xfrm>
            <a:off x="3970440" y="0"/>
            <a:ext cx="3038400" cy="465120"/>
          </a:xfrm>
          <a:prstGeom prst="rect">
            <a:avLst/>
          </a:prstGeom>
          <a:noFill/>
          <a:ln w="0">
            <a:noFill/>
          </a:ln>
        </p:spPr>
        <p:txBody>
          <a:bodyPr lIns="92880" rIns="92880" tIns="46440" bIns="4644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997BEB-A607-4AC2-A2C9-BA705BA671BB}"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9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2880" rIns="92880" tIns="46440" bIns="464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97" name="PlaceHolder 4"/>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8" name="PlaceHolder 5"/>
          <p:cNvSpPr>
            <a:spLocks noGrp="1"/>
          </p:cNvSpPr>
          <p:nvPr>
            <p:ph type="ftr" idx="38"/>
          </p:nvPr>
        </p:nvSpPr>
        <p:spPr>
          <a:xfrm>
            <a:off x="0" y="8829720"/>
            <a:ext cx="30384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499" name="PlaceHolder 6"/>
          <p:cNvSpPr>
            <a:spLocks noGrp="1"/>
          </p:cNvSpPr>
          <p:nvPr>
            <p:ph type="sldNum" idx="39"/>
          </p:nvPr>
        </p:nvSpPr>
        <p:spPr>
          <a:xfrm>
            <a:off x="3970440" y="8829720"/>
            <a:ext cx="3038400" cy="465120"/>
          </a:xfrm>
          <a:prstGeom prst="rect">
            <a:avLst/>
          </a:prstGeom>
          <a:noFill/>
          <a:ln w="0">
            <a:noFill/>
          </a:ln>
        </p:spPr>
        <p:txBody>
          <a:bodyPr lIns="92880" rIns="92880" tIns="46440" bIns="4644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196076-CCDF-417A-87B8-ACFD922127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81160" y="696960"/>
            <a:ext cx="4648320" cy="3486240"/>
          </a:xfrm>
          <a:prstGeom prst="rect">
            <a:avLst/>
          </a:prstGeom>
          <a:ln w="0">
            <a:noFill/>
          </a:ln>
        </p:spPr>
      </p:sp>
      <p:sp>
        <p:nvSpPr>
          <p:cNvPr id="5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a typeface="Calibri"/>
            </a:endParaRPr>
          </a:p>
        </p:txBody>
      </p:sp>
      <p:sp>
        <p:nvSpPr>
          <p:cNvPr id="5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7EF7AB-162A-4E05-B266-F910ADFDB9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81160" y="696960"/>
            <a:ext cx="4648320" cy="3486240"/>
          </a:xfrm>
          <a:prstGeom prst="rect">
            <a:avLst/>
          </a:prstGeom>
          <a:ln w="0">
            <a:noFill/>
          </a:ln>
        </p:spPr>
      </p:sp>
      <p:sp>
        <p:nvSpPr>
          <p:cNvPr id="5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5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3209E3-6C13-4D16-8DC8-14797CAB9B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81160" y="696960"/>
            <a:ext cx="4648320" cy="3486240"/>
          </a:xfrm>
          <a:prstGeom prst="rect">
            <a:avLst/>
          </a:prstGeom>
          <a:ln w="0">
            <a:noFill/>
          </a:ln>
        </p:spPr>
      </p:sp>
      <p:sp>
        <p:nvSpPr>
          <p:cNvPr id="5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5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FAB7AD-8482-48B7-9E88-7AA8D4CA81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547D9-D3B5-4F4B-9E46-C06BE1050A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764A5-5CC5-44CF-86FA-E9229CD20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EBE7D1-02B7-43EA-8CEF-C70460B3A7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E4E384-7843-4DC9-9844-36BECFBEB2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13B304-F699-4FD4-AEEA-57749D54F4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EA3043-4559-491F-ACA2-88671FEBEC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58BC4E-BC3C-48B4-A843-C046CEF31B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2AA653-C5A4-481B-9D38-D3307A5322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4185F9-D240-46D9-B6A3-D5E210DE48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B128A4C-5FCC-4248-A2CC-3F60CFA2713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A0ACAC-4662-404A-9D3E-7C33E2A69BC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BB7CFBC-90B4-482C-AD32-374B59E2187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D6A7B-9F61-43BF-A598-FC25E17A3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47A367E-E29B-43B1-AF58-38A69CCE2A4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2E4DD2A-DA87-4E88-A050-EB58D137977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9079F34-83B9-489B-93A4-AC5A6D282C3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E4AF080-02A9-4F84-A40D-5E55FA529FE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45BA7DA-7C36-43DB-A8F3-E55E20B241A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13D0CE-ED7D-4486-A382-0FC64960D8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FBC7F75-533E-4CAB-A8CC-ECE4FBC85C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FF227E-4977-4BD9-9281-A8C9972C983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67D8D60-1DEF-436F-9925-A1EE11AA7BF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FCF1AB6-E8D0-42C1-9113-306FC9D0C62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2F579-C4F2-41A1-B67A-B82AF5DA1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CB8C7CD-A050-4B1E-AF7A-11610206B11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DFE5402-19C6-4664-9970-F0F3D95DD15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FD5FBC7-695F-4BD3-B555-0A1A38A88BD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8813708-3DB3-41D1-8FA1-F7D49B86811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958F7D1-6957-4028-B4AC-1574ED239E0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91C6836-05EB-4FB8-B354-854ED9112A7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D6C9D6A-FA11-4AB0-933B-5FA1E5B1837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2D6EEB-6BDF-4449-927F-575C511AE64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B401FB-29C6-4BAF-8FC4-2CE45B4A34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E5B3A67-FBFF-4C3C-921D-9A410FB915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AFE89A-34FC-4437-96A7-3FFAD784F5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80C127C-34B0-4DAE-96F1-B8392451757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AF20112-6CEE-426A-9FEA-083BA622D36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0FB912D-F5C9-47BE-BC98-5D0F26A7C14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178F0A0-5BC9-4892-BCE6-54DE97B0F02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9158E40-91D6-4843-BB88-E614EEC82F2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FED1E1E-C851-459B-8A8F-85E8C9113C9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9B8E65A-0C55-4E7E-A10D-5880E5D81BC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ABFC061-2554-4EA3-8DB7-DADE6033F8F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749B263-0C3F-4254-AB00-B685B7B61AE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688524C-3840-472F-AC52-6EB33DC2116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3188CF-4A56-44F2-A40C-201E83FDF2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4B74B0-A88E-4157-9666-7DD53BEB049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23B8DE5-53B4-44DC-96B5-341E0B3E884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6EBD1B8-018D-46DF-A779-6A5B623C700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9600614-E06D-4027-9D1B-ACB67820A16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44E74BC-81AF-40A2-85B8-629B07D9AF2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6B5D7A-F266-46B9-A00A-3C11469D70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B459C-1A82-4214-8656-D8C7B2FBA8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612B39-45B5-4E10-9294-870AB0EDA1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E5B5F7-4406-44F2-83BD-83BE15B8E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6E701F-D826-45A6-BF3B-D4E01C2C8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07941-4222-442A-90A7-1827A4554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8A686-3CB2-40EA-9559-4C4BFF6E6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0E006-7D57-47BE-A845-B7A776FD3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7ED57-43A0-4019-B9F3-E4340BA0BC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01B001-5F97-4010-B288-30D8415BB4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8F8630-5AF1-452A-B47A-E267931614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A9A44C-A037-43E5-9445-06431A18A0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B7B434-01DC-4847-8A20-DE41F08DDD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816D2E-DD0C-43A8-9660-35DEF6CAE3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473926-10B5-44CF-A4E2-5B264A3FCF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E7029E-3217-41E0-8069-FCBA79280E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344C5-1623-47A4-AC1D-83555CADB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F7D2CE-8F07-4FD1-91AD-8E9E7373F4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F5C79A-FC44-4DC0-B8E6-9BAFDD8DF4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C5CEF2-6D58-405E-88D5-A3747226EB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7967F6-9A47-46C6-8078-54CF630EF3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F92696-E83A-499C-BCC3-2AF046D5CD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50E76E-C449-410A-87D5-0CF226B4ED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E4B3F4-73B6-4829-9777-8B9E26C5FA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474E94-735D-44F1-97FF-61638B10FF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CB67F1-C458-4EAA-A109-7A7E5B1003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A748D8-21E5-451B-AA79-A34976F498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CA407-E8B5-4CCB-982D-BF74BDC49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51347E-B0EC-4676-B2DC-829FEE6710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5EB55D-505F-4895-9C2A-9A753E1857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9D47A7-B638-412A-800A-E63BBCFA7D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A58DF2-D982-4FD5-BB8D-770991190E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A0A02D-1F43-4AB5-B5FE-708BE3E158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857827-8AFE-4022-8A4C-842BBE2ACA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B6EE49-4B70-4523-96BD-88B77F299B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95EC5E-0F02-4178-9D8A-692C8C731C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3ABD5F-5B36-4E23-BC8E-4DE7B6A652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F83F7B-B4C0-4DCC-A8D9-A2D51F195A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B8012-8D3D-4C9A-A1D3-6B037B642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34FABB-E917-4558-AD54-7723B2F35D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128DEE-BB61-4115-A2DE-03ED8A17B6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03A506-31F3-4F12-A635-2C18E4E927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30B1E4-5991-49E1-95FA-2D745704FB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F1BE5F-02CE-4D5E-96E3-34851541AC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038E2E-140E-4636-9AF3-541170F427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44C934-6304-4042-B71A-3E69C261BF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042C22-C679-4529-B554-4598D400D0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AEEC63-2DCA-47EB-8E3A-8E9BCF35A7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C418F7-82F1-4FCD-858A-99E45D394B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90AB7-1D3F-4087-91EB-186D29553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CE0367-D96B-41EC-9CDC-FF70BD2226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8C0642-E99F-4F12-91CF-AF6808E05B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2EFA16-99CF-4FA3-A5BA-26E28E2135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53953C-EA54-4820-9FD5-8176FADD73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2F9C41-6877-41B3-930D-8E03D309EA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36B2A1-0E3D-4766-A6AF-836D14CCEC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FAAAE5-C8CE-4284-BD2C-1E9AFE5A3B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0173A0-5E67-4CD2-A5B0-88AC3D81A8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F0CEC4-0FBC-4267-9C7B-C58B615728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EBB655-CCD1-4010-A1C5-2F757868C4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740E1-468C-4436-A11B-E686C56CE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F98F0A-8A41-495E-B6AD-9E5B28F1D5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FAE1022-4519-4C26-BCB1-0904FC94A1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E6FA29-5475-4812-ADA1-1E5D75D238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DBD299-52F9-4505-87A1-EA48A8893D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D0C89D-1B4E-4BCD-9B6C-1B09778BD6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289C9D-FD61-4639-977A-9287BA4911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A0FE49-415E-47E6-B010-8450F95CEC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84B0EA-06FC-464A-9B92-958AD38803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300515-F239-4BA4-A255-C397453117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42008E-35DC-4AF3-8EF4-8C34378230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2E0DE-E560-4F04-B710-EA9B4C652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E5CE40-B658-45B7-B78C-89F6F6D9C6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A05F8C-9238-4796-BA57-39B992E103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BFBD00-F22D-4F55-B799-0107ABAFBA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5770A1-D33B-42BD-A8E5-495A132E8F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A13A35-D673-4274-8EA6-CC2131F12D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44C613A-B2BF-444A-B87D-16DF1F7BF2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29370C-DE54-4FFB-A9E1-A5EF183647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071CDF-0E70-4F87-BB1D-039AE85DEA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7F67C6-18A0-4869-8E79-C28665BDC5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D93D5E-0C1E-44C5-867F-17D82362AD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0A919-417E-4F19-BDE8-ACC2132CF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0BACE6-BFA3-4D74-B5EE-A9CDE37307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6D0E30-04E8-492A-8A16-47DB8FAACA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54D39B-8DD2-4B78-A09F-4ECF1DA335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B994FE-2627-4D17-A721-837A805C19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5384E3-5E54-404F-B81A-A8E06F5A2C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817CB8-BC6B-4905-8D83-6694517AF0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38C8AF-C4E7-4465-B488-9B4A61ACAE1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D151793-8254-4635-B841-EC9F39C2E7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5FDB31-50FB-4734-A487-0B43E32F43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22E4E3-D947-4E74-8364-5694884B42E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A8F358-3BB8-4D0D-B19C-448CDCD4D4D3}" type="datetime">
              <a:rPr b="0" lang="en-US" sz="1000" spc="-1" strike="noStrike">
                <a:solidFill>
                  <a:srgbClr val="898989"/>
                </a:solidFill>
                <a:latin typeface="Arial"/>
                <a:ea typeface="Arial"/>
              </a:rPr>
              <a:t>07/31/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HQ- IEC</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ABD9B1-BFA7-4017-9BF6-3F0971F38020}"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72" name="PlaceHolder 3"/>
          <p:cNvSpPr>
            <a:spLocks noGrp="1"/>
          </p:cNvSpPr>
          <p:nvPr>
            <p:ph type="dt" idx="28"/>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595C74-78B0-4414-8D38-185292A6C783}" type="datetime">
              <a:rPr b="0" lang="en-US" sz="1000" spc="-1" strike="noStrike">
                <a:solidFill>
                  <a:srgbClr val="898989"/>
                </a:solidFill>
                <a:latin typeface="Arial"/>
                <a:ea typeface="Arial"/>
              </a:rPr>
              <a:t>07/31/26</a:t>
            </a:fld>
            <a:endParaRPr b="0" lang="en-US" sz="1000" spc="-1" strike="noStrike">
              <a:solidFill>
                <a:srgbClr val="000000"/>
              </a:solidFill>
              <a:latin typeface="Times New Roman"/>
            </a:endParaRPr>
          </a:p>
        </p:txBody>
      </p:sp>
      <p:sp>
        <p:nvSpPr>
          <p:cNvPr id="373"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374"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AD3850-213C-4458-B69A-0475A1DAB244}"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13" name="PlaceHolder 3"/>
          <p:cNvSpPr>
            <a:spLocks noGrp="1"/>
          </p:cNvSpPr>
          <p:nvPr>
            <p:ph type="dt" idx="31"/>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888D1F-A85A-4BF0-8B7D-36F8492DC1B0}" type="datetime">
              <a:rPr b="0" lang="en-US" sz="1000" spc="-1" strike="noStrike">
                <a:solidFill>
                  <a:srgbClr val="898989"/>
                </a:solidFill>
                <a:latin typeface="Arial"/>
                <a:ea typeface="Arial"/>
              </a:rPr>
              <a:t>07/31/26</a:t>
            </a:fld>
            <a:endParaRPr b="0" lang="en-US" sz="1000" spc="-1" strike="noStrike">
              <a:solidFill>
                <a:srgbClr val="000000"/>
              </a:solidFill>
              <a:latin typeface="Times New Roman"/>
            </a:endParaRPr>
          </a:p>
        </p:txBody>
      </p:sp>
      <p:sp>
        <p:nvSpPr>
          <p:cNvPr id="414"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41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E82D26-1C9F-4C5C-9C0A-D1E2834588FB}"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4" name="PlaceHolder 3"/>
          <p:cNvSpPr>
            <a:spLocks noGrp="1"/>
          </p:cNvSpPr>
          <p:nvPr>
            <p:ph type="dt" idx="34"/>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F96512-B8C7-4645-9B5D-DE668C1A6E51}" type="datetime">
              <a:rPr b="0" lang="en-US" sz="1000" spc="-1" strike="noStrike">
                <a:solidFill>
                  <a:srgbClr val="898989"/>
                </a:solidFill>
                <a:latin typeface="Arial"/>
                <a:ea typeface="Arial"/>
              </a:rPr>
              <a:t>07/31/26</a:t>
            </a:fld>
            <a:endParaRPr b="0" lang="en-US" sz="1000" spc="-1" strike="noStrike">
              <a:solidFill>
                <a:srgbClr val="000000"/>
              </a:solidFill>
              <a:latin typeface="Times New Roman"/>
            </a:endParaRPr>
          </a:p>
        </p:txBody>
      </p:sp>
      <p:sp>
        <p:nvSpPr>
          <p:cNvPr id="455"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456"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D52EEB-F059-4EF5-9B46-3EFC6BD99057}"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TextBox 6"/>
          <p:cNvSpPr/>
          <p:nvPr/>
        </p:nvSpPr>
        <p:spPr>
          <a:xfrm>
            <a:off x="1066680" y="291960"/>
            <a:ext cx="325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Calibri"/>
              </a:rPr>
              <a:t>DRAFT CONFIDENTIAL</a:t>
            </a:r>
            <a:endParaRPr b="0" lang="en-US" sz="2400" spc="-1" strike="noStrike">
              <a:solidFill>
                <a:srgbClr val="000000"/>
              </a:solidFill>
              <a:latin typeface="Calibri"/>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dt" idx="4"/>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C388C8-90F7-4A56-A277-DECC3CAA63D4}" type="datetime">
              <a:rPr b="0" lang="en-US" sz="1000" spc="-1" strike="noStrike">
                <a:solidFill>
                  <a:srgbClr val="898989"/>
                </a:solidFill>
                <a:latin typeface="Arial"/>
                <a:ea typeface="Arial"/>
              </a:rPr>
              <a:t>07/31/26</a:t>
            </a:fld>
            <a:endParaRPr b="0" lang="en-US" sz="10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8E041C-763D-47C9-BC8D-A759184B326E}"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5" name="PlaceHolder 3"/>
          <p:cNvSpPr>
            <a:spLocks noGrp="1"/>
          </p:cNvSpPr>
          <p:nvPr>
            <p:ph type="dt" idx="7"/>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4ABCFE-4634-4E28-9E4E-56CB31BB1189}" type="datetime">
              <a:rPr b="0" lang="en-US" sz="1000" spc="-1" strike="noStrike">
                <a:solidFill>
                  <a:srgbClr val="898989"/>
                </a:solidFill>
                <a:latin typeface="Arial"/>
                <a:ea typeface="Arial"/>
              </a:rPr>
              <a:t>07/31/26</a:t>
            </a:fld>
            <a:endParaRPr b="0" lang="en-US" sz="10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3A8083-C6A0-49C5-858C-9DAE8C34746D}"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6" name="PlaceHolder 3"/>
          <p:cNvSpPr>
            <a:spLocks noGrp="1"/>
          </p:cNvSpPr>
          <p:nvPr>
            <p:ph type="dt" idx="10"/>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0CD8B6-2E5B-4B47-8B9C-3E63431B4AAD}" type="datetime">
              <a:rPr b="0" lang="en-US" sz="1000" spc="-1" strike="noStrike">
                <a:solidFill>
                  <a:srgbClr val="898989"/>
                </a:solidFill>
                <a:latin typeface="Arial"/>
                <a:ea typeface="Arial"/>
              </a:rPr>
              <a:t>07/31/26</a:t>
            </a:fld>
            <a:endParaRPr b="0" lang="en-US" sz="10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A03DA6-54A1-494C-ABCF-8F091AAD8C16}"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7" name="PlaceHolder 3"/>
          <p:cNvSpPr>
            <a:spLocks noGrp="1"/>
          </p:cNvSpPr>
          <p:nvPr>
            <p:ph type="dt" idx="13"/>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20514A-5DCB-4384-8AE0-7D8BD74745E2}" type="datetime">
              <a:rPr b="0" lang="en-US" sz="1000" spc="-1" strike="noStrike">
                <a:solidFill>
                  <a:srgbClr val="898989"/>
                </a:solidFill>
                <a:latin typeface="Arial"/>
                <a:ea typeface="Arial"/>
              </a:rPr>
              <a:t>07/31/26</a:t>
            </a:fld>
            <a:endParaRPr b="0" lang="en-US" sz="1000" spc="-1" strike="noStrike">
              <a:solidFill>
                <a:srgbClr val="000000"/>
              </a:solidFill>
              <a:latin typeface="Times New Roman"/>
            </a:endParaRPr>
          </a:p>
        </p:txBody>
      </p:sp>
      <p:sp>
        <p:nvSpPr>
          <p:cNvPr id="16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16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1C4271-AFD7-4824-A3AE-25396159E25A}"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8" name="PlaceHolder 3"/>
          <p:cNvSpPr>
            <a:spLocks noGrp="1"/>
          </p:cNvSpPr>
          <p:nvPr>
            <p:ph type="dt" idx="16"/>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0E572E-87BB-4D85-98F9-2A71564BB4CD}" type="datetime">
              <a:rPr b="0" lang="en-US" sz="1000" spc="-1" strike="noStrike">
                <a:solidFill>
                  <a:srgbClr val="898989"/>
                </a:solidFill>
                <a:latin typeface="Arial"/>
                <a:ea typeface="Arial"/>
              </a:rPr>
              <a:t>07/31/26</a:t>
            </a:fld>
            <a:endParaRPr b="0" lang="en-US" sz="1000" spc="-1" strike="noStrike">
              <a:solidFill>
                <a:srgbClr val="000000"/>
              </a:solidFill>
              <a:latin typeface="Times New Roman"/>
            </a:endParaRPr>
          </a:p>
        </p:txBody>
      </p:sp>
      <p:sp>
        <p:nvSpPr>
          <p:cNvPr id="20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21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52562D-DB9B-47A9-965D-122538506FFB}"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9" name="PlaceHolder 3"/>
          <p:cNvSpPr>
            <a:spLocks noGrp="1"/>
          </p:cNvSpPr>
          <p:nvPr>
            <p:ph type="dt" idx="19"/>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E14470-4AA3-41DB-B591-8B74CE1C85D1}" type="datetime">
              <a:rPr b="0" lang="en-US" sz="1000" spc="-1" strike="noStrike">
                <a:solidFill>
                  <a:srgbClr val="898989"/>
                </a:solidFill>
                <a:latin typeface="Arial"/>
                <a:ea typeface="Arial"/>
              </a:rPr>
              <a:t>07/31/26</a:t>
            </a:fld>
            <a:endParaRPr b="0" lang="en-US" sz="1000" spc="-1" strike="noStrike">
              <a:solidFill>
                <a:srgbClr val="000000"/>
              </a:solidFill>
              <a:latin typeface="Times New Roman"/>
            </a:endParaRPr>
          </a:p>
        </p:txBody>
      </p:sp>
      <p:sp>
        <p:nvSpPr>
          <p:cNvPr id="25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251"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EB7D60-A561-46E9-B607-0F23A91D4A50}"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0" name="PlaceHolder 3"/>
          <p:cNvSpPr>
            <a:spLocks noGrp="1"/>
          </p:cNvSpPr>
          <p:nvPr>
            <p:ph type="dt" idx="22"/>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0C8135-8E84-4C3A-9332-F7F5BF927116}" type="datetime">
              <a:rPr b="0" lang="en-US" sz="1000" spc="-1" strike="noStrike">
                <a:solidFill>
                  <a:srgbClr val="898989"/>
                </a:solidFill>
                <a:latin typeface="Arial"/>
                <a:ea typeface="Arial"/>
              </a:rPr>
              <a:t>07/31/26</a:t>
            </a:fld>
            <a:endParaRPr b="0" lang="en-US" sz="1000" spc="-1" strike="noStrike">
              <a:solidFill>
                <a:srgbClr val="000000"/>
              </a:solidFill>
              <a:latin typeface="Times New Roman"/>
            </a:endParaRPr>
          </a:p>
        </p:txBody>
      </p:sp>
      <p:sp>
        <p:nvSpPr>
          <p:cNvPr id="291"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292"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6FF10A-2A4B-4862-A8B6-9AFDFE3FC358}"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1" name="PlaceHolder 3"/>
          <p:cNvSpPr>
            <a:spLocks noGrp="1"/>
          </p:cNvSpPr>
          <p:nvPr>
            <p:ph type="dt" idx="25"/>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2112CB-2C4D-4CD9-926A-D0FB974FD150}" type="datetime">
              <a:rPr b="0" lang="en-US" sz="1000" spc="-1" strike="noStrike">
                <a:solidFill>
                  <a:srgbClr val="898989"/>
                </a:solidFill>
                <a:latin typeface="Arial"/>
                <a:ea typeface="Arial"/>
              </a:rPr>
              <a:t>07/31/26</a:t>
            </a:fld>
            <a:endParaRPr b="0" lang="en-US" sz="1000" spc="-1" strike="noStrike">
              <a:solidFill>
                <a:srgbClr val="000000"/>
              </a:solidFill>
              <a:latin typeface="Times New Roman"/>
            </a:endParaRPr>
          </a:p>
        </p:txBody>
      </p:sp>
      <p:sp>
        <p:nvSpPr>
          <p:cNvPr id="332"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333"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3B064C-3DBB-431D-8E4D-C4359F198B0F}"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Picture 8" descr="pptbkgrdsshifted.jpg"/>
          <p:cNvPicPr/>
          <p:nvPr/>
        </p:nvPicPr>
        <p:blipFill>
          <a:blip r:embed="rId1"/>
          <a:stretch/>
        </p:blipFill>
        <p:spPr>
          <a:xfrm>
            <a:off x="-1440" y="0"/>
            <a:ext cx="9248760" cy="6961320"/>
          </a:xfrm>
          <a:prstGeom prst="rect">
            <a:avLst/>
          </a:prstGeom>
          <a:ln w="0">
            <a:noFill/>
          </a:ln>
        </p:spPr>
      </p:pic>
      <p:sp>
        <p:nvSpPr>
          <p:cNvPr id="501" name="PlaceHolder 1"/>
          <p:cNvSpPr>
            <a:spLocks noGrp="1"/>
          </p:cNvSpPr>
          <p:nvPr>
            <p:ph type="title"/>
          </p:nvPr>
        </p:nvSpPr>
        <p:spPr>
          <a:xfrm>
            <a:off x="101520" y="1320840"/>
            <a:ext cx="9042480" cy="5029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Arial"/>
              </a:rPr>
              <a:t>January 2014 CPOC</a:t>
            </a:r>
            <a:br>
              <a:rPr sz="7200"/>
            </a:br>
            <a:r>
              <a:rPr b="1" lang="en-US" sz="6000" spc="-1" strike="noStrike">
                <a:solidFill>
                  <a:srgbClr val="ffffff"/>
                </a:solidFill>
                <a:latin typeface="Arial"/>
              </a:rPr>
              <a:t>IEC Project Review</a:t>
            </a:r>
            <a:br>
              <a:rPr sz="7200"/>
            </a:br>
            <a:r>
              <a:rPr b="1" lang="en-US" sz="6000" spc="-1" strike="noStrike">
                <a:solidFill>
                  <a:srgbClr val="ffffff"/>
                </a:solidFill>
                <a:latin typeface="Wingdings"/>
                <a:ea typeface="Wingdings"/>
              </a:rPr>
              <a:t></a:t>
            </a:r>
            <a:br>
              <a:rPr sz="7200"/>
            </a:br>
            <a:r>
              <a:rPr b="1" lang="en-US" sz="4000" spc="-1" strike="noStrike">
                <a:solidFill>
                  <a:srgbClr val="ffffff"/>
                </a:solidFill>
                <a:latin typeface="Arial"/>
              </a:rPr>
              <a:t>East Side Access</a:t>
            </a:r>
            <a:br>
              <a:rPr sz="7200"/>
            </a:br>
            <a:br>
              <a:rPr sz="7200"/>
            </a:br>
            <a:r>
              <a:rPr b="1" lang="en-US" sz="2800" spc="-1" strike="noStrike">
                <a:solidFill>
                  <a:srgbClr val="ffffff"/>
                </a:solidFill>
                <a:latin typeface="Arial"/>
              </a:rPr>
              <a:t>January 27, 2014</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61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Supplemental Independent Review Team - ESA Management Review</a:t>
            </a:r>
            <a:endParaRPr b="1" lang="en-US" sz="3200" spc="-1" strike="noStrike">
              <a:solidFill>
                <a:srgbClr val="000000"/>
              </a:solidFill>
              <a:latin typeface="Arial"/>
            </a:endParaRPr>
          </a:p>
        </p:txBody>
      </p:sp>
      <p:sp>
        <p:nvSpPr>
          <p:cNvPr id="503" name=""/>
          <p:cNvSpPr txBox="1"/>
          <p:nvPr/>
        </p:nvSpPr>
        <p:spPr>
          <a:xfrm>
            <a:off x="763200" y="1765440"/>
            <a:ext cx="7923240" cy="4114800"/>
          </a:xfrm>
          <a:prstGeom prst="rect">
            <a:avLst/>
          </a:prstGeom>
          <a:noFill/>
          <a:ln w="0">
            <a:noFill/>
          </a:ln>
        </p:spPr>
        <p:txBody>
          <a:bodyPr anchor="t">
            <a:normAutofit/>
          </a:bodyPr>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Approach consisted of document review and over 50 interviews of stakeholder representatives. </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Changes were proposed to the organizational structure, which increase management focus on systems work and project controls.</a:t>
            </a:r>
            <a:endParaRPr b="0" lang="en-US" sz="18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he IEC expects better project execution through improved coordination between the disciplines (civil, systems and project controls)  and better communication between the project and MTACC.</a:t>
            </a:r>
            <a:endParaRPr b="0" lang="en-US" sz="18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he IEC urges timely completion of these organizational adjustments to realize immediate benefits to the project.</a:t>
            </a:r>
            <a:endParaRPr b="0" lang="en-US" sz="1800" spc="-1" strike="noStrike">
              <a:solidFill>
                <a:srgbClr val="000000"/>
              </a:solidFill>
              <a:latin typeface="Arial"/>
            </a:endParaRPr>
          </a:p>
          <a:p>
            <a:pPr lvl="1" marL="457200" indent="-45720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1" marL="457200" indent="-457200">
              <a:spcBef>
                <a:spcPts val="11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4" marL="2057400" indent="-228600">
              <a:spcBef>
                <a:spcPts val="499"/>
              </a:spcBef>
              <a:buClr>
                <a:srgbClr val="000099"/>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
        <p:nvSpPr>
          <p:cNvPr id="50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MTA-IEC</a:t>
            </a:r>
            <a:endParaRPr b="0" lang="en-US" sz="1000" spc="-1" strike="noStrike">
              <a:solidFill>
                <a:srgbClr val="000000"/>
              </a:solidFill>
              <a:latin typeface="Calibri"/>
            </a:endParaRPr>
          </a:p>
        </p:txBody>
      </p:sp>
      <p:sp>
        <p:nvSpPr>
          <p:cNvPr id="5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26BF69-60AE-42B9-A491-EBB6DCCC242A}" type="slidenum">
              <a:rPr b="0" lang="en-US" sz="1000" spc="-1" strike="noStrike">
                <a:solidFill>
                  <a:srgbClr val="898989"/>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044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ost &amp; Schedule Review Approach</a:t>
            </a:r>
            <a:endParaRPr b="1" lang="en-US" sz="3600" spc="-1" strike="noStrike">
              <a:solidFill>
                <a:srgbClr val="000000"/>
              </a:solidFill>
              <a:latin typeface="Arial"/>
            </a:endParaRPr>
          </a:p>
        </p:txBody>
      </p:sp>
      <p:sp>
        <p:nvSpPr>
          <p:cNvPr id="507" name=""/>
          <p:cNvSpPr txBox="1"/>
          <p:nvPr/>
        </p:nvSpPr>
        <p:spPr>
          <a:xfrm>
            <a:off x="666720" y="1137960"/>
            <a:ext cx="8104320" cy="5443560"/>
          </a:xfrm>
          <a:prstGeom prst="rect">
            <a:avLst/>
          </a:prstGeom>
          <a:noFill/>
          <a:ln w="0">
            <a:noFill/>
          </a:ln>
        </p:spPr>
        <p:txBody>
          <a:bodyPr anchor="t">
            <a:normAutofit/>
          </a:bodyPr>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MTACC and three other independent groups (SIR, IEC and FTA) evaluated ESA cost and schedule, resulting in greater certainty of the results.</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ESA budget forecast numbers were mainly derived by identifying variances to the base budget of $8.2B.  The IEC finds the approach valid based on the close range ($9.3B to $9.7B) of the base cost forecast.</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revised RSD dates were derived by updating the base schedule (MTACC) and independent schedule evaluations by SIR, IEC and FTA. The IEC finds both approaches valid and would like to point out that the RSDs developed by SIR, IEC and FTA are at least 14 months beyond MTACC’s Sep-2020 date.</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presumed critical path through Manhattan /Systems has to be validated. The operationally informed Harold schedule must be completed and verified through a Harold risk assessment.</a:t>
            </a:r>
            <a:endParaRPr b="0" lang="en-US" sz="2000" spc="-1" strike="noStrike">
              <a:solidFill>
                <a:srgbClr val="000000"/>
              </a:solidFill>
              <a:latin typeface="Arial"/>
            </a:endParaRPr>
          </a:p>
        </p:txBody>
      </p:sp>
      <p:sp>
        <p:nvSpPr>
          <p:cNvPr id="50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MTA-IEC</a:t>
            </a:r>
            <a:endParaRPr b="0" lang="en-US" sz="1000" spc="-1" strike="noStrike">
              <a:solidFill>
                <a:srgbClr val="000000"/>
              </a:solidFill>
              <a:latin typeface="Calibri"/>
            </a:endParaRPr>
          </a:p>
        </p:txBody>
      </p:sp>
      <p:sp>
        <p:nvSpPr>
          <p:cNvPr id="50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E26193-4D27-4FC1-A389-5438610094E8}" type="slidenum">
              <a:rPr b="0" lang="en-US" sz="1000" spc="-1" strike="noStrike">
                <a:solidFill>
                  <a:srgbClr val="898989"/>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6T16:32:01Z</dcterms:created>
  <dc:creator>Jim Michaels</dc:creator>
  <dc:description/>
  <dc:language>en-US</dc:language>
  <cp:lastModifiedBy>Maria Fernandes</cp:lastModifiedBy>
  <cp:lastPrinted>2014-01-27T15:12:24Z</cp:lastPrinted>
  <dcterms:modified xsi:type="dcterms:W3CDTF">2014-01-27T15:20:04Z</dcterms:modified>
  <cp:revision>233</cp:revision>
  <dc:subject/>
  <dc:title>PowerPoint Presentation</dc:title>
</cp:coreProperties>
</file>