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12179300" cy="9132888"/>
  <p:notesSz cx="9305925" cy="7019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306000" cy="702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033800" cy="351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268600" y="-360"/>
            <a:ext cx="4033800" cy="351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897280" y="525240"/>
            <a:ext cx="3511440" cy="2633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2040" y="3335040"/>
            <a:ext cx="74419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6669000"/>
            <a:ext cx="4033800" cy="349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indent="0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268600" y="6669000"/>
            <a:ext cx="4033800" cy="349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fld id="{24C757C7-905C-4835-A5E1-E67AC08F15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2897280" y="525600"/>
            <a:ext cx="3511440" cy="26334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32040" y="3335040"/>
            <a:ext cx="7441920" cy="31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5268960" y="6669000"/>
            <a:ext cx="403380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fld id="{71603BA9-5AC1-4F17-A7F9-6772EEC32E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2897280" y="525600"/>
            <a:ext cx="3511440" cy="26334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32040" y="3335040"/>
            <a:ext cx="7441920" cy="31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5268960" y="6669000"/>
            <a:ext cx="403380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fld id="{5D9EDDA4-CE1C-40DE-9530-B0A32E9C60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897280" y="525600"/>
            <a:ext cx="3511440" cy="26334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32040" y="3335040"/>
            <a:ext cx="74419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LIRR to adopt Favorite Trips in release 2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ASK: 9/27/13 – MNR to validate accurate screenshots. – Completed – 09/27/13 - Modified slide to show the three landing pag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5268960" y="6669000"/>
            <a:ext cx="403380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fld id="{95156FD7-FFA1-4D7C-83C4-B597B5C337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963B-76FF-4107-AF16-FEC01CD41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1096020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120" y="5280480"/>
            <a:ext cx="1096020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B272-ED5A-408E-A700-F0DF61777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534852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5480" y="2131920"/>
            <a:ext cx="534852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120" y="5280480"/>
            <a:ext cx="534852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5480" y="5280480"/>
            <a:ext cx="534852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0887-DA6B-44AB-9F64-441461B7F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352908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4960" y="2131920"/>
            <a:ext cx="352908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0800" y="2131920"/>
            <a:ext cx="352908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120" y="5280480"/>
            <a:ext cx="352908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4960" y="5280480"/>
            <a:ext cx="352908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0800" y="5280480"/>
            <a:ext cx="352908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52D4-14F2-421D-97B5-1C091E946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120" y="2131920"/>
            <a:ext cx="10960200" cy="60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A941-3ACD-4B5F-8412-EF9192FDC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10960200" cy="60278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06DC-9085-4D46-8836-9D34300C9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5348520" cy="60278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5480" y="2131920"/>
            <a:ext cx="5348520" cy="60278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5DA6-D2FC-4709-9F68-A21EFA413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9898-8916-4738-8FFB-8B030E1AD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120" y="364680"/>
            <a:ext cx="10960200" cy="70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7D75-4199-48EF-9A92-1A9665DA3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534852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5480" y="2131920"/>
            <a:ext cx="5348520" cy="60278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120" y="5280480"/>
            <a:ext cx="534852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ADB4-140E-44A7-91E5-8C749B968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5348520" cy="60278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5480" y="2131920"/>
            <a:ext cx="534852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5480" y="5280480"/>
            <a:ext cx="534852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FB67-63BF-4A8C-97F3-F62BB065C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534852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5480" y="2131920"/>
            <a:ext cx="534852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120" y="5280480"/>
            <a:ext cx="1096020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D01F-B01B-41CF-9553-F2BBDB5EA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120" y="2131920"/>
            <a:ext cx="10960200" cy="60278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marL="455760" indent="-45576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1" marL="988920" indent="-379440">
              <a:spcBef>
                <a:spcPts val="924"/>
              </a:spcBef>
              <a:buClr>
                <a:srgbClr val="000000"/>
              </a:buClr>
              <a:buFont typeface="Arial"/>
              <a:buChar char="–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2" marL="1521000" indent="-30348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3" marL="2130480" indent="-303120">
              <a:spcBef>
                <a:spcPts val="924"/>
              </a:spcBef>
              <a:buClr>
                <a:srgbClr val="000000"/>
              </a:buClr>
              <a:buFont typeface="Arial"/>
              <a:buChar char="–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4" marL="2739960" indent="-30312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5" marL="2739960" indent="-30312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6" marL="2739960" indent="-30312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720440" y="8465760"/>
            <a:ext cx="1730520" cy="4856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  <a:defRPr b="0" lang="en-US" sz="13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fld id="{DCBE3529-3D76-40C9-9E43-518011B464F0}" type="datetime"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07/31/26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0880" y="8465760"/>
            <a:ext cx="3857760" cy="4856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  <a:defRPr b="0" lang="en-US" sz="13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LIR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27840" y="8465760"/>
            <a:ext cx="2841480" cy="4856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  <a:defRPr b="0" lang="en-US" sz="13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fld id="{42F26D3F-79CE-4286-A5CF-C06F2C2E61A4}" type="slidenum"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pptbkgrds-title1.jpg"/>
          <p:cNvPicPr/>
          <p:nvPr/>
        </p:nvPicPr>
        <p:blipFill>
          <a:blip r:embed="rId1"/>
          <a:stretch/>
        </p:blipFill>
        <p:spPr>
          <a:xfrm>
            <a:off x="0" y="0"/>
            <a:ext cx="12179160" cy="91677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37840" y="646200"/>
            <a:ext cx="10023480" cy="46670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LIRR TrainTime  </a:t>
            </a:r>
            <a:br>
              <a:rPr sz="8000"/>
            </a:b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LI Committee Presentation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827360" y="5176800"/>
            <a:ext cx="8524800" cy="233352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24"/>
              </a:spcBef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3700" spc="-1" strike="noStrike">
                <a:solidFill>
                  <a:srgbClr val="b9cde5"/>
                </a:solidFill>
                <a:latin typeface="Arial"/>
              </a:rPr>
              <a:t>1/24/2014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58680"/>
            <a:ext cx="10960200" cy="12477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Special Service Notices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4"/>
          <p:cNvSpPr/>
          <p:nvPr/>
        </p:nvSpPr>
        <p:spPr>
          <a:xfrm>
            <a:off x="8728200" y="8466120"/>
            <a:ext cx="28414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fld id="{440372FC-7F6A-43DD-9BBF-60DEA93B8872}" type="slidenum"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12" descr="C:\Users\dbrulha\Desktop\untitled folder\iOS Simulator Screen shot Nov 20, 2013 2.04.27 PM.png"/>
          <p:cNvPicPr/>
          <p:nvPr/>
        </p:nvPicPr>
        <p:blipFill>
          <a:blip r:embed="rId1"/>
          <a:stretch/>
        </p:blipFill>
        <p:spPr>
          <a:xfrm>
            <a:off x="4478400" y="1306440"/>
            <a:ext cx="3200400" cy="56800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112" name="Footer Placeholder 3"/>
          <p:cNvSpPr/>
          <p:nvPr/>
        </p:nvSpPr>
        <p:spPr>
          <a:xfrm>
            <a:off x="4160880" y="8466120"/>
            <a:ext cx="38577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LIR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58680"/>
            <a:ext cx="10960200" cy="12477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Social Media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4"/>
          <p:cNvSpPr/>
          <p:nvPr/>
        </p:nvSpPr>
        <p:spPr>
          <a:xfrm>
            <a:off x="8728200" y="8466120"/>
            <a:ext cx="28414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fld id="{45B0B9E2-745A-4816-B015-B6A8DB8D8557}" type="slidenum"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9" descr="C:\Users\dbrulha\Desktop\untitled folder\iOS Simulator Screen shot Nov 20, 2013 2.04.31 PM.png"/>
          <p:cNvPicPr/>
          <p:nvPr/>
        </p:nvPicPr>
        <p:blipFill>
          <a:blip r:embed="rId1"/>
          <a:stretch/>
        </p:blipFill>
        <p:spPr>
          <a:xfrm>
            <a:off x="4484520" y="1306440"/>
            <a:ext cx="3200400" cy="56800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116" name="Footer Placeholder 3"/>
          <p:cNvSpPr/>
          <p:nvPr/>
        </p:nvSpPr>
        <p:spPr>
          <a:xfrm>
            <a:off x="4160880" y="8466120"/>
            <a:ext cx="38577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LIR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58680"/>
            <a:ext cx="10960200" cy="12477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More Options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4"/>
          <p:cNvSpPr/>
          <p:nvPr/>
        </p:nvSpPr>
        <p:spPr>
          <a:xfrm>
            <a:off x="8728200" y="8466120"/>
            <a:ext cx="28414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fld id="{E2C63A1C-524B-4581-A152-B7FA08AF51FA}" type="slidenum"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2" descr="C:\Users\dbrulha\Desktop\untitled folder\iOS Simulator Screen shot Nov 20, 2013 2.14.47 PM.png"/>
          <p:cNvPicPr/>
          <p:nvPr/>
        </p:nvPicPr>
        <p:blipFill>
          <a:blip r:embed="rId1"/>
          <a:stretch/>
        </p:blipFill>
        <p:spPr>
          <a:xfrm>
            <a:off x="4484520" y="1306440"/>
            <a:ext cx="3200400" cy="56800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120" name="Footer Placeholder 3"/>
          <p:cNvSpPr/>
          <p:nvPr/>
        </p:nvSpPr>
        <p:spPr>
          <a:xfrm>
            <a:off x="4160880" y="8466120"/>
            <a:ext cx="38577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LIR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09120" y="2131920"/>
            <a:ext cx="10960200" cy="60278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marL="455760" indent="-45576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Future enhancements based on feedback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ooter Placeholder 3"/>
          <p:cNvSpPr/>
          <p:nvPr/>
        </p:nvSpPr>
        <p:spPr>
          <a:xfrm>
            <a:off x="4160880" y="8466120"/>
            <a:ext cx="38577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LIR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4"/>
          <p:cNvSpPr/>
          <p:nvPr/>
        </p:nvSpPr>
        <p:spPr>
          <a:xfrm>
            <a:off x="8728200" y="8466120"/>
            <a:ext cx="28414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fld id="{73DF0E82-A02F-460C-880A-73D6CB56AB9A}" type="slidenum"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120" y="58680"/>
            <a:ext cx="10960200" cy="12477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Loading Screen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ooter Placeholder 3"/>
          <p:cNvSpPr/>
          <p:nvPr/>
        </p:nvSpPr>
        <p:spPr>
          <a:xfrm>
            <a:off x="4160880" y="8466120"/>
            <a:ext cx="38577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LIR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4"/>
          <p:cNvSpPr/>
          <p:nvPr/>
        </p:nvSpPr>
        <p:spPr>
          <a:xfrm>
            <a:off x="8728200" y="8466120"/>
            <a:ext cx="28414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fld id="{187ADB62-6334-4CB2-8E0A-CFD236F3F277}" type="slidenum"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11" descr="C:\Users\dbrulha\Desktop\untitled folder\iOS Simulator Screen shot Nov 20, 2013 2.00.53 PM.png"/>
          <p:cNvPicPr/>
          <p:nvPr/>
        </p:nvPicPr>
        <p:blipFill>
          <a:blip r:embed="rId1"/>
          <a:stretch/>
        </p:blipFill>
        <p:spPr>
          <a:xfrm>
            <a:off x="4484520" y="1285920"/>
            <a:ext cx="3200400" cy="568152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58680"/>
            <a:ext cx="10960200" cy="12477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Navigation Main Menu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Footer Placeholder 3"/>
          <p:cNvSpPr/>
          <p:nvPr/>
        </p:nvSpPr>
        <p:spPr>
          <a:xfrm>
            <a:off x="4160880" y="8466120"/>
            <a:ext cx="38577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LIR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4"/>
          <p:cNvSpPr/>
          <p:nvPr/>
        </p:nvSpPr>
        <p:spPr>
          <a:xfrm>
            <a:off x="8728200" y="8466120"/>
            <a:ext cx="28414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fld id="{914217FC-CEF3-47A7-8CBE-44C3A68AD5F0}" type="slidenum"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12" descr="C:\Users\dbrulha\Desktop\untitled folder\iOS Simulator Screen shot Nov 20, 2013 2.00.04 PM.png"/>
          <p:cNvPicPr/>
          <p:nvPr/>
        </p:nvPicPr>
        <p:blipFill>
          <a:blip r:embed="rId1"/>
          <a:stretch/>
        </p:blipFill>
        <p:spPr>
          <a:xfrm>
            <a:off x="6654960" y="1305000"/>
            <a:ext cx="3200400" cy="568152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59" name="Picture 13" descr="C:\Users\dbrulha\Desktop\untitled folder\iOS Simulator Screen shot Nov 20, 2013 2.00.01 PM.png"/>
          <p:cNvPicPr/>
          <p:nvPr/>
        </p:nvPicPr>
        <p:blipFill>
          <a:blip r:embed="rId2"/>
          <a:stretch/>
        </p:blipFill>
        <p:spPr>
          <a:xfrm>
            <a:off x="1792440" y="1305000"/>
            <a:ext cx="3200400" cy="568152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60" name="TextBox 1"/>
          <p:cNvSpPr/>
          <p:nvPr/>
        </p:nvSpPr>
        <p:spPr>
          <a:xfrm>
            <a:off x="2805480" y="6994440"/>
            <a:ext cx="1173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Tahoma"/>
              </a:rPr>
              <a:t>Collaps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1"/>
          <p:cNvSpPr/>
          <p:nvPr/>
        </p:nvSpPr>
        <p:spPr>
          <a:xfrm>
            <a:off x="7657920" y="6989760"/>
            <a:ext cx="1191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Arial"/>
              </a:rPr>
              <a:t>Expand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58680"/>
            <a:ext cx="10960200" cy="12477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Trip Search &amp; Fares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Footer Placeholder 3"/>
          <p:cNvSpPr/>
          <p:nvPr/>
        </p:nvSpPr>
        <p:spPr>
          <a:xfrm>
            <a:off x="4160880" y="8466120"/>
            <a:ext cx="38577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LIR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lide Number Placeholder 4"/>
          <p:cNvSpPr/>
          <p:nvPr/>
        </p:nvSpPr>
        <p:spPr>
          <a:xfrm>
            <a:off x="8728200" y="8466120"/>
            <a:ext cx="28414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fld id="{8015F333-C1E0-47A7-8188-60B05791B79F}" type="slidenum"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1"/>
          <p:cNvSpPr/>
          <p:nvPr/>
        </p:nvSpPr>
        <p:spPr>
          <a:xfrm>
            <a:off x="2278080" y="6989760"/>
            <a:ext cx="2228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Arial"/>
              </a:rPr>
              <a:t>Trip Result Summa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1"/>
          <p:cNvSpPr/>
          <p:nvPr/>
        </p:nvSpPr>
        <p:spPr>
          <a:xfrm>
            <a:off x="7231320" y="6989760"/>
            <a:ext cx="2046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Arial"/>
              </a:rPr>
              <a:t>Date &amp; Time Pick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13" descr="C:\Users\dbrulha\Desktop\untitled folder\iOS Simulator Screen shot Nov 20, 2013 2.02.29 PM.png"/>
          <p:cNvPicPr/>
          <p:nvPr/>
        </p:nvPicPr>
        <p:blipFill>
          <a:blip r:embed="rId1"/>
          <a:stretch/>
        </p:blipFill>
        <p:spPr>
          <a:xfrm>
            <a:off x="1792440" y="1303200"/>
            <a:ext cx="3200400" cy="56818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68" name="Picture 15" descr="C:\Users\dbrulha\Desktop\untitled folder\iOS Simulator Screen shot Nov 20, 2013 2.02.35 PM.png"/>
          <p:cNvPicPr/>
          <p:nvPr/>
        </p:nvPicPr>
        <p:blipFill>
          <a:blip r:embed="rId2"/>
          <a:stretch/>
        </p:blipFill>
        <p:spPr>
          <a:xfrm>
            <a:off x="6654960" y="1303200"/>
            <a:ext cx="3200400" cy="56800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58680"/>
            <a:ext cx="10960200" cy="12477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Trip Result Details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ooter Placeholder 3"/>
          <p:cNvSpPr/>
          <p:nvPr/>
        </p:nvSpPr>
        <p:spPr>
          <a:xfrm>
            <a:off x="4160880" y="8466120"/>
            <a:ext cx="38577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LIR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lide Number Placeholder 4"/>
          <p:cNvSpPr/>
          <p:nvPr/>
        </p:nvSpPr>
        <p:spPr>
          <a:xfrm>
            <a:off x="8728200" y="8466120"/>
            <a:ext cx="28414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fld id="{05D3D8EB-1726-4344-AF14-E9D8A13D4B62}" type="slidenum"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1917720" y="1287360"/>
            <a:ext cx="2787480" cy="708660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73" name="Right Arrow 13"/>
          <p:cNvSpPr/>
          <p:nvPr/>
        </p:nvSpPr>
        <p:spPr>
          <a:xfrm rot="9766800">
            <a:off x="4493520" y="7520040"/>
            <a:ext cx="1522440" cy="581040"/>
          </a:xfrm>
          <a:prstGeom prst="rightArrow">
            <a:avLst>
              <a:gd name="adj1" fmla="val 36824"/>
              <a:gd name="adj2" fmla="val 61599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6432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1"/>
          <p:cNvSpPr/>
          <p:nvPr/>
        </p:nvSpPr>
        <p:spPr>
          <a:xfrm>
            <a:off x="6357240" y="7283520"/>
            <a:ext cx="21794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Arial"/>
              </a:rPr>
              <a:t>Explanation of Far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3" descr="G:\iOS Simulator Screen shot Nov 20, 2013 2.50.22 PM.png"/>
          <p:cNvPicPr/>
          <p:nvPr/>
        </p:nvPicPr>
        <p:blipFill>
          <a:blip r:embed="rId2"/>
          <a:stretch/>
        </p:blipFill>
        <p:spPr>
          <a:xfrm>
            <a:off x="5846760" y="1596960"/>
            <a:ext cx="3200400" cy="56818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128520"/>
            <a:ext cx="10960200" cy="109872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Favorite Stations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2" descr="C:\Users\dbrulha\Desktop\untitled folder\iOS Simulator Screen shot Nov 20, 2013 2.03.24 PM.png"/>
          <p:cNvPicPr/>
          <p:nvPr/>
        </p:nvPicPr>
        <p:blipFill>
          <a:blip r:embed="rId1"/>
          <a:stretch/>
        </p:blipFill>
        <p:spPr>
          <a:xfrm>
            <a:off x="4651200" y="1450800"/>
            <a:ext cx="3200400" cy="56800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78" name="Picture 14" descr="C:\Users\dbrulha\Desktop\untitled folder\iOS Simulator Screen shot Nov 20, 2013 2.14.33 PM.png"/>
          <p:cNvPicPr/>
          <p:nvPr/>
        </p:nvPicPr>
        <p:blipFill>
          <a:blip r:embed="rId2"/>
          <a:stretch/>
        </p:blipFill>
        <p:spPr>
          <a:xfrm>
            <a:off x="8404200" y="1450800"/>
            <a:ext cx="3200400" cy="56800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79" name="Picture 15" descr="C:\Users\dbrulha\Desktop\untitled folder\iOS Simulator Screen shot Nov 20, 2013 2.31.50 PM.png"/>
          <p:cNvPicPr/>
          <p:nvPr/>
        </p:nvPicPr>
        <p:blipFill>
          <a:blip r:embed="rId3"/>
          <a:stretch/>
        </p:blipFill>
        <p:spPr>
          <a:xfrm>
            <a:off x="957240" y="1450800"/>
            <a:ext cx="3200400" cy="56800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80" name="TextBox 1"/>
          <p:cNvSpPr/>
          <p:nvPr/>
        </p:nvSpPr>
        <p:spPr>
          <a:xfrm>
            <a:off x="1331280" y="7130880"/>
            <a:ext cx="245232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Arial"/>
              </a:rPr>
              <a:t>The ‘Favorites’ tab in al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Arial"/>
              </a:rPr>
              <a:t>Station Picker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Box 1"/>
          <p:cNvSpPr/>
          <p:nvPr/>
        </p:nvSpPr>
        <p:spPr>
          <a:xfrm>
            <a:off x="5069520" y="7130880"/>
            <a:ext cx="236412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Arial"/>
              </a:rPr>
              <a:t>Stars allow ability to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Arial"/>
              </a:rPr>
              <a:t>add/remove a favorit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1"/>
          <p:cNvSpPr/>
          <p:nvPr/>
        </p:nvSpPr>
        <p:spPr>
          <a:xfrm>
            <a:off x="8696520" y="7130880"/>
            <a:ext cx="261396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Arial"/>
              </a:rPr>
              <a:t>Favorite a station from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Arial"/>
              </a:rPr>
              <a:t>station information p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ight Arrow 1"/>
          <p:cNvSpPr/>
          <p:nvPr/>
        </p:nvSpPr>
        <p:spPr>
          <a:xfrm rot="1884600">
            <a:off x="336240" y="2039400"/>
            <a:ext cx="987480" cy="579600"/>
          </a:xfrm>
          <a:prstGeom prst="rightArrow">
            <a:avLst>
              <a:gd name="adj1" fmla="val 36824"/>
              <a:gd name="adj2" fmla="val 61578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4316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ight Arrow 19"/>
          <p:cNvSpPr/>
          <p:nvPr/>
        </p:nvSpPr>
        <p:spPr>
          <a:xfrm rot="1884600">
            <a:off x="6570360" y="4462560"/>
            <a:ext cx="987480" cy="581040"/>
          </a:xfrm>
          <a:prstGeom prst="rightArrow">
            <a:avLst>
              <a:gd name="adj1" fmla="val 36824"/>
              <a:gd name="adj2" fmla="val 61599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4316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Right Arrow 20"/>
          <p:cNvSpPr/>
          <p:nvPr/>
        </p:nvSpPr>
        <p:spPr>
          <a:xfrm rot="1884600">
            <a:off x="10231200" y="1247400"/>
            <a:ext cx="987480" cy="579600"/>
          </a:xfrm>
          <a:prstGeom prst="rightArrow">
            <a:avLst>
              <a:gd name="adj1" fmla="val 36824"/>
              <a:gd name="adj2" fmla="val 61578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4316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ight Arrow 21"/>
          <p:cNvSpPr/>
          <p:nvPr/>
        </p:nvSpPr>
        <p:spPr>
          <a:xfrm rot="1884600">
            <a:off x="6570360" y="3170160"/>
            <a:ext cx="987480" cy="581040"/>
          </a:xfrm>
          <a:prstGeom prst="rightArrow">
            <a:avLst>
              <a:gd name="adj1" fmla="val 36824"/>
              <a:gd name="adj2" fmla="val 61599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4316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3"/>
          <p:cNvSpPr/>
          <p:nvPr/>
        </p:nvSpPr>
        <p:spPr>
          <a:xfrm>
            <a:off x="4160880" y="8466120"/>
            <a:ext cx="38577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LIR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4"/>
          <p:cNvSpPr/>
          <p:nvPr/>
        </p:nvSpPr>
        <p:spPr>
          <a:xfrm>
            <a:off x="8728200" y="8466120"/>
            <a:ext cx="28414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fld id="{DD3ACEB0-ECD1-4059-AC83-C6A4DCAD253A}" type="slidenum"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58680"/>
            <a:ext cx="10960200" cy="12477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Station Information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4"/>
          <p:cNvSpPr/>
          <p:nvPr/>
        </p:nvSpPr>
        <p:spPr>
          <a:xfrm>
            <a:off x="8728200" y="8466120"/>
            <a:ext cx="28414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fld id="{EA08CA2C-3E71-4195-9841-FAE1700E2408}" type="slidenum"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1747800" y="1374840"/>
            <a:ext cx="3200400" cy="605484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92" name="Picture 3" descr=""/>
          <p:cNvPicPr/>
          <p:nvPr/>
        </p:nvPicPr>
        <p:blipFill>
          <a:blip r:embed="rId2"/>
          <a:stretch/>
        </p:blipFill>
        <p:spPr>
          <a:xfrm>
            <a:off x="6610320" y="2022480"/>
            <a:ext cx="3200400" cy="582444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cxnSp>
        <p:nvCxnSpPr>
          <p:cNvPr id="93" name="Curved Connector 2"/>
          <p:cNvCxnSpPr>
            <a:stCxn id="91" idx="2"/>
            <a:endCxn id="92" idx="0"/>
          </p:cNvCxnSpPr>
          <p:nvPr/>
        </p:nvCxnSpPr>
        <p:spPr>
          <a:xfrm flipH="1" flipV="1" rot="5400000">
            <a:off x="3074400" y="2294280"/>
            <a:ext cx="5407920" cy="4863240"/>
          </a:xfrm>
          <a:prstGeom prst="curvedConnector5">
            <a:avLst>
              <a:gd name="adj1" fmla="val -13028"/>
              <a:gd name="adj2" fmla="val 25000"/>
              <a:gd name="adj3" fmla="val -13028"/>
            </a:avLst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94" name="Footer Placeholder 3"/>
          <p:cNvSpPr/>
          <p:nvPr/>
        </p:nvSpPr>
        <p:spPr>
          <a:xfrm>
            <a:off x="4160880" y="8466120"/>
            <a:ext cx="38577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LIR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120" y="58680"/>
            <a:ext cx="10960200" cy="12477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Service Status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4"/>
          <p:cNvSpPr/>
          <p:nvPr/>
        </p:nvSpPr>
        <p:spPr>
          <a:xfrm>
            <a:off x="8728200" y="8466120"/>
            <a:ext cx="28414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fld id="{17AF0767-85D1-41A4-A17C-93765AE0774C}" type="slidenum"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12" descr="C:\Users\dbrulha\Desktop\untitled folder\iOS Simulator Screen shot Nov 20, 2013 2.04.14 PM.png"/>
          <p:cNvPicPr/>
          <p:nvPr/>
        </p:nvPicPr>
        <p:blipFill>
          <a:blip r:embed="rId1"/>
          <a:stretch/>
        </p:blipFill>
        <p:spPr>
          <a:xfrm>
            <a:off x="6654960" y="1303200"/>
            <a:ext cx="3200400" cy="56800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98" name="Picture 13" descr="C:\Users\dbrulha\Desktop\untitled folder\iOS Simulator Screen shot Nov 20, 2013 2.04.12 PM.png"/>
          <p:cNvPicPr/>
          <p:nvPr/>
        </p:nvPicPr>
        <p:blipFill>
          <a:blip r:embed="rId2"/>
          <a:stretch/>
        </p:blipFill>
        <p:spPr>
          <a:xfrm>
            <a:off x="1792440" y="1303200"/>
            <a:ext cx="3200400" cy="56800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99" name="TextBox 1"/>
          <p:cNvSpPr/>
          <p:nvPr/>
        </p:nvSpPr>
        <p:spPr>
          <a:xfrm>
            <a:off x="2812320" y="6989760"/>
            <a:ext cx="1159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Arial"/>
              </a:rPr>
              <a:t>Summa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Box 1"/>
          <p:cNvSpPr/>
          <p:nvPr/>
        </p:nvSpPr>
        <p:spPr>
          <a:xfrm>
            <a:off x="7856280" y="6989760"/>
            <a:ext cx="797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Arial"/>
              </a:rPr>
              <a:t>Detai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Footer Placeholder 3"/>
          <p:cNvSpPr/>
          <p:nvPr/>
        </p:nvSpPr>
        <p:spPr>
          <a:xfrm>
            <a:off x="4160880" y="8466120"/>
            <a:ext cx="38577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LIR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120" y="58680"/>
            <a:ext cx="10960200" cy="12477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stomer Alerts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4"/>
          <p:cNvSpPr/>
          <p:nvPr/>
        </p:nvSpPr>
        <p:spPr>
          <a:xfrm>
            <a:off x="8728200" y="8466120"/>
            <a:ext cx="28414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fld id="{CD63A3CC-562F-496E-85EF-9449825FC4EF}" type="slidenum"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9" descr="C:\Users\dbrulha\Desktop\untitled folder\iOS Simulator Screen shot Nov 20, 2013 2.04.20 PM.png"/>
          <p:cNvPicPr/>
          <p:nvPr/>
        </p:nvPicPr>
        <p:blipFill>
          <a:blip r:embed="rId1"/>
          <a:stretch/>
        </p:blipFill>
        <p:spPr>
          <a:xfrm>
            <a:off x="1792440" y="1306440"/>
            <a:ext cx="3200400" cy="56800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05" name="Picture 10" descr="C:\Users\dbrulha\Desktop\untitled folder\iOS Simulator Screen shot Nov 20, 2013 2.04.22 PM.png"/>
          <p:cNvPicPr/>
          <p:nvPr/>
        </p:nvPicPr>
        <p:blipFill>
          <a:blip r:embed="rId2"/>
          <a:stretch/>
        </p:blipFill>
        <p:spPr>
          <a:xfrm>
            <a:off x="6654960" y="1306440"/>
            <a:ext cx="3200400" cy="56800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106" name="TextBox 1"/>
          <p:cNvSpPr/>
          <p:nvPr/>
        </p:nvSpPr>
        <p:spPr>
          <a:xfrm>
            <a:off x="2812320" y="6989760"/>
            <a:ext cx="1159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Arial"/>
              </a:rPr>
              <a:t>Summa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Box 1"/>
          <p:cNvSpPr/>
          <p:nvPr/>
        </p:nvSpPr>
        <p:spPr>
          <a:xfrm>
            <a:off x="7856280" y="6989760"/>
            <a:ext cx="797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Arial"/>
              </a:rPr>
              <a:t>Detai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Footer Placeholder 3"/>
          <p:cNvSpPr/>
          <p:nvPr/>
        </p:nvSpPr>
        <p:spPr>
          <a:xfrm>
            <a:off x="4160880" y="8466120"/>
            <a:ext cx="38577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LIR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7T21:28:48Z</dcterms:created>
  <dc:creator>dbrulha@lirr.org</dc:creator>
  <dc:description/>
  <dc:language>en-US</dc:language>
  <cp:lastModifiedBy>lirr</cp:lastModifiedBy>
  <cp:lastPrinted>2013-09-27T19:11:38Z</cp:lastPrinted>
  <dcterms:modified xsi:type="dcterms:W3CDTF">2014-01-24T21:07:28Z</dcterms:modified>
  <cp:revision>161</cp:revision>
  <dc:subject/>
  <dc:title>PowerPoint Presentation</dc:title>
</cp:coreProperties>
</file>