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94" name="PlaceHolder 1"/>
          <p:cNvSpPr>
            <a:spLocks noGrp="1"/>
          </p:cNvSpPr>
          <p:nvPr>
            <p:ph type="hdr"/>
          </p:nvPr>
        </p:nvSpPr>
        <p:spPr>
          <a:xfrm>
            <a:off x="0" y="0"/>
            <a:ext cx="30384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495" name="PlaceHolder 2"/>
          <p:cNvSpPr>
            <a:spLocks noGrp="1"/>
          </p:cNvSpPr>
          <p:nvPr>
            <p:ph type="dt" idx="37"/>
          </p:nvPr>
        </p:nvSpPr>
        <p:spPr>
          <a:xfrm>
            <a:off x="3970440" y="0"/>
            <a:ext cx="3038400" cy="465120"/>
          </a:xfrm>
          <a:prstGeom prst="rect">
            <a:avLst/>
          </a:prstGeom>
          <a:noFill/>
          <a:ln w="0">
            <a:noFill/>
          </a:ln>
        </p:spPr>
        <p:txBody>
          <a:bodyPr lIns="92880" rIns="92880" tIns="46440" bIns="4644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4D75C6-591B-49A0-BCF7-6C8923B10783}"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49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2880" rIns="92880" tIns="46440" bIns="464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97" name="PlaceHolder 4"/>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8" name="PlaceHolder 5"/>
          <p:cNvSpPr>
            <a:spLocks noGrp="1"/>
          </p:cNvSpPr>
          <p:nvPr>
            <p:ph type="ftr" idx="38"/>
          </p:nvPr>
        </p:nvSpPr>
        <p:spPr>
          <a:xfrm>
            <a:off x="0" y="8829720"/>
            <a:ext cx="30384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499" name="PlaceHolder 6"/>
          <p:cNvSpPr>
            <a:spLocks noGrp="1"/>
          </p:cNvSpPr>
          <p:nvPr>
            <p:ph type="sldNum" idx="39"/>
          </p:nvPr>
        </p:nvSpPr>
        <p:spPr>
          <a:xfrm>
            <a:off x="3970440" y="8829720"/>
            <a:ext cx="3038400" cy="465120"/>
          </a:xfrm>
          <a:prstGeom prst="rect">
            <a:avLst/>
          </a:prstGeom>
          <a:noFill/>
          <a:ln w="0">
            <a:noFill/>
          </a:ln>
        </p:spPr>
        <p:txBody>
          <a:bodyPr lIns="92880" rIns="92880" tIns="46440" bIns="4644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28A23E-33B8-428D-AD98-DD5871717F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81160" y="696960"/>
            <a:ext cx="4648320" cy="3486240"/>
          </a:xfrm>
          <a:prstGeom prst="rect">
            <a:avLst/>
          </a:prstGeom>
          <a:ln w="0">
            <a:noFill/>
          </a:ln>
        </p:spPr>
      </p:sp>
      <p:sp>
        <p:nvSpPr>
          <p:cNvPr id="51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a typeface="Calibri"/>
            </a:endParaRPr>
          </a:p>
        </p:txBody>
      </p:sp>
      <p:sp>
        <p:nvSpPr>
          <p:cNvPr id="5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8C827F-E743-4521-B1F0-22A95DC83A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81160" y="696960"/>
            <a:ext cx="4648320" cy="3486240"/>
          </a:xfrm>
          <a:prstGeom prst="rect">
            <a:avLst/>
          </a:prstGeom>
          <a:ln w="0">
            <a:noFill/>
          </a:ln>
        </p:spPr>
      </p:sp>
      <p:sp>
        <p:nvSpPr>
          <p:cNvPr id="51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5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D52597-0DAB-4160-834D-E8C76AC572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81160" y="696960"/>
            <a:ext cx="4648320" cy="3486240"/>
          </a:xfrm>
          <a:prstGeom prst="rect">
            <a:avLst/>
          </a:prstGeom>
          <a:ln w="0">
            <a:noFill/>
          </a:ln>
        </p:spPr>
      </p:sp>
      <p:sp>
        <p:nvSpPr>
          <p:cNvPr id="51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5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6F3E96-235F-4540-93FF-533EF64C48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E180F1-774E-49B6-98D6-F68256433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EC715-9B60-4BF1-A497-F7640CAB5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19AE2B-EBA9-494A-AAAF-7C8F09DB72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14291C-B6B2-4F4A-92BB-655ADC1BE6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6F1DC3-89F0-4B32-BACD-80FD26A9D6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BBE682-4BC6-45B1-9DE2-E2C79CCECC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127C8F-A000-4996-A468-71BCAA40F6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56D2D0-7BD5-4D1B-BB9A-54E8DCC4BE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8B37A3-A7C0-4FAC-B1F9-646E392704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1C8B5F2-67B2-42E2-AA7E-8AABC3F9799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66B7B17-06B8-4FF5-A530-6DF073DC89D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ED15F1B-1CA5-4BA9-A3B9-D0AD8C9455B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7204CC-343A-4354-9AA9-6A89BFB4C8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B275AB5-43F6-49B0-BF8B-2BD55F82088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71BBBFF-613C-4E83-B19B-C0D91EF13F3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34A88E7-66D9-4B28-B1F1-7AD8338DC46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56CBBAE-F42D-47C2-9E95-23DE2F66A78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A757D53-61D0-442C-9373-EE6692AFB70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741F20-0722-44E1-BC92-0783F982C36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5DBD3EA-3CCA-410A-9E62-CCB78CAC686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3F8F167-1476-4352-8084-8092C0A9064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41D2B54-AB53-4687-9989-52E3E28A3D0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607CD1A-DEF8-4F9C-97AE-8888FA2F5AA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1AACD5-0BE7-4866-821A-9EC14C5CFE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B3F0C52-DE68-4E95-A1A7-D019F2C06F9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CF0D9A4-CC92-4C57-86BE-A35D2F70C7C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AB41FE4-B4DE-4990-9551-D0150B8D1AF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3CFFBFA-E0B6-4386-AE33-6AF376474EA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BFD6F5F-377A-4A84-8A68-D8A43C2CF05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93026A0-3EFB-4710-A780-ADC4037DEC0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CE084AF-08A7-47A9-80A0-3CAB0688D40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CC49226-ED1B-4A50-8F81-CD323E1BB7E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EB072AF-280A-4DBC-A4C9-850A32C865F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DA411E1-AF6B-41F4-93D5-6A7EF8E57FB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5DF5DA-89FC-421D-B82F-9B335011EA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D58368E-ECBC-4BD2-A7E3-24CE2B18C67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1E63828-6617-4718-BDE3-2F643ADE841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DB7209F-8B62-4BFD-8A8D-4554C02BE08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2FCB3EF-3585-4809-98A9-E3744BE88BB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A60AB99-A96D-40AD-B823-50F6E57DE54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4FA844D-D44C-406F-9A22-5C8C2D5A9D4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E674132-6B4E-472C-9B99-52E25D33D64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DA17B45-3585-4F3E-9E03-6935807F05A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83BF4FA-12C5-47F7-9D47-E5BCC5425CB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207DAEF-DFDD-4AAF-8643-3BC41F7ADFD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8E4A3A-3F17-44A8-9D80-58922748D6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1CE4BC1-F848-421B-A753-C4703FEAF1A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03DE6F3-3D8A-43EF-B9A4-8F9BED692A1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335D13C-3074-44BD-B9A1-4E29145106A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878F584-41B6-4497-9C67-C1375B24815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E154C0A-BBFC-4BC9-8445-69DB127D6DB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4BCC48-3218-498C-9780-81CF40C534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867FE0-F112-4D3C-BD11-E59DA11172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5D3A73-0E97-49E9-A8E8-43AEDD8C4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45A0F3-D93D-4410-953A-41FFBC9823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599153-F916-4561-BFDC-C47C9BAD0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2F301-5AE8-48D0-BEAD-22CEB3124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8EB52D-C4E6-470A-B110-9678522BB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292EB-6B65-4454-BDB9-157729A36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2DE193-AE2E-420E-B7A2-169255649B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0AA10E-445D-4824-B0E5-74CD54F993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784121-D167-47C4-AA5B-1FB76CF671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751B42-6F0E-407D-92B8-51E897B71F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82B1F7-16F3-491E-BA16-67391A7CDC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5AE2D0-D82D-4A09-B6F5-D2A975C072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B107B2-A81F-4592-91CA-F31DFFC838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C24D80-38BD-427B-B198-F9BCA3CB08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D18FF-63B3-4BC6-A354-EAA0AA36B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39DACB-9876-47AD-85B6-D8BF4D465E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DAB43E-8D9A-4EC3-A41A-F58FAF3F7A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242B87-8142-4ADB-B610-B873CCDB4A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68ACEE-66A3-4FF4-9EFA-8DE707B140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56BE75-9D5F-4EB9-872D-4A095F0F35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2B5BD9-D63F-4972-B8BE-5E6F54E05F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F3F28A-D442-4787-B1FA-354087FB52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7AFC26-B932-463B-BF38-1F3B01D902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9F9AF1-DAD0-4E97-974B-DB38DC74E9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1B5669-8AEE-4E10-8369-0257C58537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56095-378B-44A1-94F5-4CDD51B31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7228A1-D835-409A-AA2A-FCC725899C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AFDD19-A0DB-4B78-9F10-2C04843CCE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B45CD7-F99E-499B-8427-5EAA068856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631DC8-640E-4192-983E-718E241B7F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49192C-A098-4A0E-A268-394CB2C461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18C578-6A59-408E-9382-3DDE41416E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E90349-7215-4441-AA83-D843FB4E8F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14AFB6-DCE4-4B7F-A1E1-D8B0C95269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E3AC1E-8A16-4372-9EC8-23C4412263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EA116C-8CF8-442E-9878-CBC092A5A6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3C159-B0A5-4A9C-A758-4D036BBAC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94E85B-1CCA-4603-AB47-7E4599A4DF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0B9B20-0973-4014-A68F-E3EC81EC5D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DFF423-E393-402B-88C6-15DBD5D2CC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3AF580-D76B-4890-9E40-1A0B965A82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BE7E46-BBCE-410D-940D-5A7D6CF8D2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A36F25-CBFA-4EDF-A217-3D8D637E31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3FB611-7906-4541-BC62-9935AB125B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2D57B7-344D-4562-9046-12EED698AA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71D651-F99D-4523-9646-437A7A3637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180A5B-B437-46C8-AD8F-4B4DCC32CC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49D60-6A08-4FBF-986E-6828F3739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522259-F4E5-45A4-AB40-CE647D5643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94CB15-2BB8-4317-B512-F9692EADEB6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C59F96-4BED-455A-BABF-CC277FD198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23D78B-CAA0-464D-AA7F-B1A3AE568D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2DB99F-85D9-482B-AFDF-56D589BB71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E9B216-4630-4F2D-9253-4486B176D0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C53E04-8AFE-49A3-B4BC-A28098E20B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CB9213-50F9-4EC4-AA92-445FE6D727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193C34-6095-4DF8-8E76-7A1012130F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443D6A-CE8C-43D8-97B9-FF1C6C57A5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0FF63-9063-4CF8-806B-39BA8B2CA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E3021B-E70C-4BE8-A042-16F96EF7B2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1BB19E-6BA1-44B9-9677-BAF77E26F2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89FD8A-A5C6-4667-B5C5-4D166E6511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553771D-D786-428D-BC25-94C9D6800F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33724A-6598-4D9A-8862-8D0708A362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36F55E-AF2D-422E-824B-EDB2DBB899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50F70C-C82B-42BE-BF88-4476199C54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786CB6-9128-414A-8DDA-3AA5009592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60EB47-5D02-464F-92AB-A670F130EC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64D044-22BF-41CB-8242-B37395841E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91BAE-83AF-4B94-9E4A-A91053C3F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033627-CDDD-42BC-9A33-B6B5366DB8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5FC992-23EC-4034-9E52-5068DCBCF1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D030B3-C834-4141-AADD-1016970F7C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5417E3-DFE4-4666-9B93-BAA55AF866E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61CB9F2-8D35-49E7-84DE-E88F96B0331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557BD8-BE21-4312-B38B-F4976F577C4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B9A5F4-E20E-4C6A-925A-5916A4448C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AD61CC-835A-47E6-8CF7-EF8128A78A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0E1D25-52AB-4868-8071-B6A9BFE374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C23376-7627-4FD8-A218-DBFB6C368A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5834A-3DA2-4B0C-8422-5FB2D2A6D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A2C370-1CA4-4DF3-A640-93EB4E473F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DF7A65-CC65-4BDA-B41E-FA9DBBB27E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2C0B4A-D9AA-43EC-9B39-846545437D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5B10D2-DF47-4876-A975-33C52BE598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85654C-3509-4395-B9C4-C083D3BE96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1C784E-ACF4-4DD0-81A5-8B4F513696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859D339-1058-461B-96C4-71C2B4F7651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62BC96F-F3C1-4F83-B617-4CF90624745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6E1AF2-AC20-4133-BCA9-4A52F4AABE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F4D5BE-06DF-4CEE-A6F5-CA2ADCA14FF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41B976-2499-4050-A0F0-BDA75E4E1C29}"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HQ- IEC</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BCFA05-0856-4BDA-A061-16103D59B04F}"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72" name="PlaceHolder 3"/>
          <p:cNvSpPr>
            <a:spLocks noGrp="1"/>
          </p:cNvSpPr>
          <p:nvPr>
            <p:ph type="dt" idx="28"/>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295433-1EFC-4BAE-8941-C7AD5511C386}"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373"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374"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854429-D0FC-44F8-AACA-52AFBD192FE2}"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13" name="PlaceHolder 3"/>
          <p:cNvSpPr>
            <a:spLocks noGrp="1"/>
          </p:cNvSpPr>
          <p:nvPr>
            <p:ph type="dt" idx="31"/>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649ACE-6372-45C9-BD4B-6BD33AC40791}"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414"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415"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269E79-86A1-4346-A663-62B9BE94E621}"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4" name="PlaceHolder 3"/>
          <p:cNvSpPr>
            <a:spLocks noGrp="1"/>
          </p:cNvSpPr>
          <p:nvPr>
            <p:ph type="dt" idx="34"/>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499997-9C57-4E72-BF77-615F287FF1B7}"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455"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456"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60C143-59DA-4A49-8BE6-3917D2CD124F}"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TextBox 6"/>
          <p:cNvSpPr/>
          <p:nvPr/>
        </p:nvSpPr>
        <p:spPr>
          <a:xfrm>
            <a:off x="1066680" y="291960"/>
            <a:ext cx="3251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Calibri"/>
              </a:rPr>
              <a:t>DRAFT CONFIDENTIAL</a:t>
            </a:r>
            <a:endParaRPr b="0" lang="en-US" sz="2400" spc="-1" strike="noStrike">
              <a:solidFill>
                <a:srgbClr val="000000"/>
              </a:solidFill>
              <a:latin typeface="Calibri"/>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dt" idx="4"/>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5BDCAC-8D05-4ED5-AF56-B12F1DC94EF3}"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8371F6-3708-4234-BCAB-BA05154AB4A3}"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5" name="PlaceHolder 3"/>
          <p:cNvSpPr>
            <a:spLocks noGrp="1"/>
          </p:cNvSpPr>
          <p:nvPr>
            <p:ph type="dt" idx="7"/>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9E1E93-2292-4E6A-825A-732A79CE7711}"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C9B118-576D-4AB4-8932-9EE9E2EAEE98}"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6" name="PlaceHolder 3"/>
          <p:cNvSpPr>
            <a:spLocks noGrp="1"/>
          </p:cNvSpPr>
          <p:nvPr>
            <p:ph type="dt" idx="10"/>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49BB4D-7181-4131-BC7E-D506CEA2F3C3}"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12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12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CF53D6-F20F-446F-9CD0-535F97233F00}"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7" name="PlaceHolder 3"/>
          <p:cNvSpPr>
            <a:spLocks noGrp="1"/>
          </p:cNvSpPr>
          <p:nvPr>
            <p:ph type="dt" idx="13"/>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33438F-C425-4973-A532-07640AB76D11}"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16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16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B071A5-F755-46DE-8F0E-49F710D39D0C}"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08" name="PlaceHolder 3"/>
          <p:cNvSpPr>
            <a:spLocks noGrp="1"/>
          </p:cNvSpPr>
          <p:nvPr>
            <p:ph type="dt" idx="16"/>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A1CA6A-9821-4895-AF67-3D4C8E57EF27}"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20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21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8CFD1B-28EA-48C6-8CD1-24845EFF2C9B}"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49" name="PlaceHolder 3"/>
          <p:cNvSpPr>
            <a:spLocks noGrp="1"/>
          </p:cNvSpPr>
          <p:nvPr>
            <p:ph type="dt" idx="19"/>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EE2F17-0B65-4BE2-8765-1714F35C6FE3}"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25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251"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CD391D-FB3A-41C5-A282-0C57777CDB9C}"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90" name="PlaceHolder 3"/>
          <p:cNvSpPr>
            <a:spLocks noGrp="1"/>
          </p:cNvSpPr>
          <p:nvPr>
            <p:ph type="dt" idx="22"/>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D21BC8-FD47-47F2-B9B0-9F214F0ABCE4}"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291"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292"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DCED76-9A6C-41F5-AD50-525406AB60CF}"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31" name="PlaceHolder 3"/>
          <p:cNvSpPr>
            <a:spLocks noGrp="1"/>
          </p:cNvSpPr>
          <p:nvPr>
            <p:ph type="dt" idx="25"/>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7F4BAD-AAE8-46DD-AC54-A9F7A1AFD69D}"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332"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333"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979F87-618D-4278-91F9-D9ACF36EC72B}"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Picture 8" descr="pptbkgrdsshifted.jpg"/>
          <p:cNvPicPr/>
          <p:nvPr/>
        </p:nvPicPr>
        <p:blipFill>
          <a:blip r:embed="rId1"/>
          <a:stretch/>
        </p:blipFill>
        <p:spPr>
          <a:xfrm>
            <a:off x="-1440" y="0"/>
            <a:ext cx="9248760" cy="6961320"/>
          </a:xfrm>
          <a:prstGeom prst="rect">
            <a:avLst/>
          </a:prstGeom>
          <a:ln w="0">
            <a:noFill/>
          </a:ln>
        </p:spPr>
      </p:pic>
      <p:sp>
        <p:nvSpPr>
          <p:cNvPr id="501" name="PlaceHolder 1"/>
          <p:cNvSpPr>
            <a:spLocks noGrp="1"/>
          </p:cNvSpPr>
          <p:nvPr>
            <p:ph type="title"/>
          </p:nvPr>
        </p:nvSpPr>
        <p:spPr>
          <a:xfrm>
            <a:off x="101520" y="1320840"/>
            <a:ext cx="9042480" cy="5029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Arial"/>
              </a:rPr>
              <a:t>January 2014 CPOC</a:t>
            </a:r>
            <a:br>
              <a:rPr sz="7200"/>
            </a:br>
            <a:r>
              <a:rPr b="1" lang="en-US" sz="6000" spc="-1" strike="noStrike">
                <a:solidFill>
                  <a:srgbClr val="ffffff"/>
                </a:solidFill>
                <a:latin typeface="Arial"/>
              </a:rPr>
              <a:t>IEC Project Review</a:t>
            </a:r>
            <a:br>
              <a:rPr sz="7200"/>
            </a:br>
            <a:r>
              <a:rPr b="1" lang="en-US" sz="6000" spc="-1" strike="noStrike">
                <a:solidFill>
                  <a:srgbClr val="ffffff"/>
                </a:solidFill>
                <a:latin typeface="Wingdings"/>
                <a:ea typeface="Wingdings"/>
              </a:rPr>
              <a:t></a:t>
            </a:r>
            <a:br>
              <a:rPr sz="7200"/>
            </a:br>
            <a:r>
              <a:rPr b="1" lang="en-US" sz="4000" spc="-1" strike="noStrike">
                <a:solidFill>
                  <a:srgbClr val="ffffff"/>
                </a:solidFill>
                <a:latin typeface="Arial"/>
              </a:rPr>
              <a:t>East Side Access</a:t>
            </a:r>
            <a:br>
              <a:rPr sz="7200"/>
            </a:br>
            <a:br>
              <a:rPr sz="7200"/>
            </a:br>
            <a:r>
              <a:rPr b="1" lang="en-US" sz="2800" spc="-1" strike="noStrike">
                <a:solidFill>
                  <a:srgbClr val="ffffff"/>
                </a:solidFill>
                <a:latin typeface="Arial"/>
              </a:rPr>
              <a:t>January 27, 2014</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61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Supplemental Independent Review Team - ESA Management Review</a:t>
            </a:r>
            <a:endParaRPr b="1" lang="en-US" sz="3200" spc="-1" strike="noStrike">
              <a:solidFill>
                <a:srgbClr val="000000"/>
              </a:solidFill>
              <a:latin typeface="Arial"/>
            </a:endParaRPr>
          </a:p>
        </p:txBody>
      </p:sp>
      <p:sp>
        <p:nvSpPr>
          <p:cNvPr id="503" name=""/>
          <p:cNvSpPr txBox="1"/>
          <p:nvPr/>
        </p:nvSpPr>
        <p:spPr>
          <a:xfrm>
            <a:off x="763200" y="1765440"/>
            <a:ext cx="7923240" cy="4114800"/>
          </a:xfrm>
          <a:prstGeom prst="rect">
            <a:avLst/>
          </a:prstGeom>
          <a:noFill/>
          <a:ln w="0">
            <a:noFill/>
          </a:ln>
        </p:spPr>
        <p:txBody>
          <a:bodyPr anchor="t">
            <a:normAutofit/>
          </a:bodyPr>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Approach consisted of document review and over 50 interviews of stakeholder representatives. </a:t>
            </a:r>
            <a:endParaRPr b="0" lang="en-US" sz="20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Changes were proposed to the organizational structure, which increase management focus on systems work and project controls.</a:t>
            </a:r>
            <a:endParaRPr b="0" lang="en-US" sz="18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The IEC expects better project execution through improved coordination between the disciplines (civil, systems and project controls)  and better communication between the project and MTACC.</a:t>
            </a:r>
            <a:endParaRPr b="0" lang="en-US" sz="18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The IEC urges timely completion of these organizational adjustments to realize immediate benefits to the project.</a:t>
            </a:r>
            <a:endParaRPr b="0" lang="en-US" sz="1800" spc="-1" strike="noStrike">
              <a:solidFill>
                <a:srgbClr val="000000"/>
              </a:solidFill>
              <a:latin typeface="Arial"/>
            </a:endParaRPr>
          </a:p>
          <a:p>
            <a:pPr lvl="1" marL="457200" indent="-45720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1" marL="457200" indent="-457200">
              <a:spcBef>
                <a:spcPts val="11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4" marL="2057400" indent="-228600">
              <a:spcBef>
                <a:spcPts val="499"/>
              </a:spcBef>
              <a:buClr>
                <a:srgbClr val="000099"/>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
        <p:nvSpPr>
          <p:cNvPr id="50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MTA-IEC</a:t>
            </a:r>
            <a:endParaRPr b="0" lang="en-US" sz="1000" spc="-1" strike="noStrike">
              <a:solidFill>
                <a:srgbClr val="000000"/>
              </a:solidFill>
              <a:latin typeface="Calibri"/>
            </a:endParaRPr>
          </a:p>
        </p:txBody>
      </p:sp>
      <p:sp>
        <p:nvSpPr>
          <p:cNvPr id="5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9E8F66-17A7-4D02-B236-36723A600065}" type="slidenum">
              <a:rPr b="0" lang="en-US" sz="1000" spc="-1" strike="noStrike">
                <a:solidFill>
                  <a:srgbClr val="898989"/>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044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ost &amp; Schedule Review Approach</a:t>
            </a:r>
            <a:endParaRPr b="1" lang="en-US" sz="3600" spc="-1" strike="noStrike">
              <a:solidFill>
                <a:srgbClr val="000000"/>
              </a:solidFill>
              <a:latin typeface="Arial"/>
            </a:endParaRPr>
          </a:p>
        </p:txBody>
      </p:sp>
      <p:sp>
        <p:nvSpPr>
          <p:cNvPr id="507" name=""/>
          <p:cNvSpPr txBox="1"/>
          <p:nvPr/>
        </p:nvSpPr>
        <p:spPr>
          <a:xfrm>
            <a:off x="666720" y="1137960"/>
            <a:ext cx="8104320" cy="5443560"/>
          </a:xfrm>
          <a:prstGeom prst="rect">
            <a:avLst/>
          </a:prstGeom>
          <a:noFill/>
          <a:ln w="0">
            <a:noFill/>
          </a:ln>
        </p:spPr>
        <p:txBody>
          <a:bodyPr anchor="t">
            <a:normAutofit/>
          </a:bodyPr>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MTACC and three other independent groups (SIR, IEC and FTA) evaluated ESA cost and schedule, resulting in greater certainty of the results.</a:t>
            </a:r>
            <a:endParaRPr b="0" lang="en-US" sz="20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he ESA budget forecast numbers were mainly derived by identifying variances to the base budget of $8.2B.  The IEC finds the approach valid based on the close range ($9.3B to $9.7B) of the base cost forecast.</a:t>
            </a:r>
            <a:endParaRPr b="0" lang="en-US" sz="20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he revised RSD dates were derived by updating the base schedule (MTACC) and independent schedule evaluations by SIR, IEC and FTA. The IEC finds both approaches valid and would like to point out that the RSDs developed by SIR, IEC and FTA are at least 14 months beyond MTACC’s Sep-2020 date.</a:t>
            </a:r>
            <a:endParaRPr b="0" lang="en-US" sz="20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he presumed critical path through Manhattan /Systems has to be validated. The operationally informed Harold schedule must be completed and verified through a Harold risk assessment.</a:t>
            </a:r>
            <a:endParaRPr b="0" lang="en-US" sz="2000" spc="-1" strike="noStrike">
              <a:solidFill>
                <a:srgbClr val="000000"/>
              </a:solidFill>
              <a:latin typeface="Arial"/>
            </a:endParaRPr>
          </a:p>
        </p:txBody>
      </p:sp>
      <p:sp>
        <p:nvSpPr>
          <p:cNvPr id="50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MTA-IEC</a:t>
            </a:r>
            <a:endParaRPr b="0" lang="en-US" sz="1000" spc="-1" strike="noStrike">
              <a:solidFill>
                <a:srgbClr val="000000"/>
              </a:solidFill>
              <a:latin typeface="Calibri"/>
            </a:endParaRPr>
          </a:p>
        </p:txBody>
      </p:sp>
      <p:sp>
        <p:nvSpPr>
          <p:cNvPr id="50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6CE8FD-A1A7-4E29-8043-E6F1127CB810}" type="slidenum">
              <a:rPr b="0" lang="en-US" sz="1000" spc="-1" strike="noStrike">
                <a:solidFill>
                  <a:srgbClr val="898989"/>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6T16:32:01Z</dcterms:created>
  <dc:creator>Jim Michaels</dc:creator>
  <dc:description/>
  <dc:language>en-US</dc:language>
  <cp:lastModifiedBy>Maria Fernandes</cp:lastModifiedBy>
  <cp:lastPrinted>2014-01-27T15:12:24Z</cp:lastPrinted>
  <dcterms:modified xsi:type="dcterms:W3CDTF">2014-01-27T15:20:04Z</dcterms:modified>
  <cp:revision>233</cp:revision>
  <dc:subject/>
  <dc:title>PowerPoint Presentation</dc:title>
</cp:coreProperties>
</file>