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2179300" cy="9132888"/>
  <p:notesSz cx="9305925" cy="7019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306000" cy="702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03380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268600" y="-360"/>
            <a:ext cx="403380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97280" y="525240"/>
            <a:ext cx="3511440" cy="2633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2040" y="3335040"/>
            <a:ext cx="74419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669000"/>
            <a:ext cx="4033800" cy="349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268600" y="6669000"/>
            <a:ext cx="4033800" cy="349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9F3F3247-8AB0-4D20-A517-E2CE263BED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2897280" y="525600"/>
            <a:ext cx="3511440" cy="26334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32040" y="3335040"/>
            <a:ext cx="744192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5268960" y="6669000"/>
            <a:ext cx="40338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427BBEC6-85BF-4499-89C3-3755430022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2897280" y="525600"/>
            <a:ext cx="3511440" cy="26334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32040" y="3335040"/>
            <a:ext cx="744192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5268960" y="6669000"/>
            <a:ext cx="40338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E1B884E0-3D11-4CD2-A1D6-CD6A86DE3C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897280" y="525600"/>
            <a:ext cx="3511440" cy="26334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32040" y="3335040"/>
            <a:ext cx="74419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IRR to adopt Favorite Trips in release 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ASK: 9/27/13 – MNR to validate accurate screenshots. – Completed – 09/27/13 - Modified slide to show the three landing pag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5268960" y="6669000"/>
            <a:ext cx="40338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7BBF8AC0-B715-498C-B2CA-CFE9BC8C71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9784-51C2-4F1D-9458-C40D4003E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1096020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120" y="5280480"/>
            <a:ext cx="1096020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DFA8-EF05-4883-9EB4-9F787A1F2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120" y="528048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5480" y="528048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673D-E647-4601-A266-4F41D1FDC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352908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4960" y="2131920"/>
            <a:ext cx="352908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0800" y="2131920"/>
            <a:ext cx="352908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120" y="5280480"/>
            <a:ext cx="352908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4960" y="5280480"/>
            <a:ext cx="352908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0800" y="5280480"/>
            <a:ext cx="352908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66C1-BBBF-47F4-A29E-ECA498710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120" y="2131920"/>
            <a:ext cx="10960200" cy="60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8F40-4D8C-434B-B310-D10E980E2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1096020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0580-76D7-4CE5-BBE5-5D0BE6808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A09C-2729-419F-A5BC-C2778C265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9122-A681-4EDC-8FC3-4AEA985D3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120" y="364680"/>
            <a:ext cx="10960200" cy="70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8FA9-DDAF-48C0-B8A2-3E8F20A44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120" y="528048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5955-A82A-41BC-BA4E-10FADA5E1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5480" y="528048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8776-3B85-4D27-99D8-D7F40122B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120" y="5280480"/>
            <a:ext cx="1096020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E2C4-89B4-4A6C-A585-9656D7BE9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2131920"/>
            <a:ext cx="1096020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marL="455760" indent="-45576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37944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2" marL="1521000" indent="-3034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3" marL="2130480" indent="-30312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4" marL="2739960" indent="-30312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5" marL="2739960" indent="-30312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6" marL="2739960" indent="-30312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720440" y="8465760"/>
            <a:ext cx="1730520" cy="4856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  <a:defRPr b="0" lang="en-US" sz="13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5E97588A-8010-4B4F-9480-894E7B8446C4}" type="datetime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07/31/26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0880" y="8465760"/>
            <a:ext cx="3857760" cy="4856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  <a:defRPr b="0" lang="en-US" sz="13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27840" y="8465760"/>
            <a:ext cx="2841480" cy="4856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  <a:defRPr b="0" lang="en-US" sz="13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E2C6E8D5-399A-4E02-BE21-8F70F1FAC8A2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pptbkgrds-title1.jpg"/>
          <p:cNvPicPr/>
          <p:nvPr/>
        </p:nvPicPr>
        <p:blipFill>
          <a:blip r:embed="rId1"/>
          <a:stretch/>
        </p:blipFill>
        <p:spPr>
          <a:xfrm>
            <a:off x="0" y="0"/>
            <a:ext cx="12179160" cy="91677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37840" y="646200"/>
            <a:ext cx="10023480" cy="4667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LIRR TrainTime  </a:t>
            </a:r>
            <a:br>
              <a:rPr sz="8000"/>
            </a:b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LI Committee Presentation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827360" y="5176800"/>
            <a:ext cx="8524800" cy="23335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24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3700" spc="-1" strike="noStrike">
                <a:solidFill>
                  <a:srgbClr val="b9cde5"/>
                </a:solidFill>
                <a:latin typeface="Arial"/>
              </a:rPr>
              <a:t>1/24/2014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58680"/>
            <a:ext cx="10960200" cy="12477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pecial Service Notice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8728200" y="8466120"/>
            <a:ext cx="2841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C49BCA3D-F445-485B-BD08-5CB6CB39AC4C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12" descr="C:\Users\dbrulha\Desktop\untitled folder\iOS Simulator Screen shot Nov 20, 2013 2.04.27 PM.png"/>
          <p:cNvPicPr/>
          <p:nvPr/>
        </p:nvPicPr>
        <p:blipFill>
          <a:blip r:embed="rId1"/>
          <a:stretch/>
        </p:blipFill>
        <p:spPr>
          <a:xfrm>
            <a:off x="4478400" y="1306440"/>
            <a:ext cx="3200400" cy="5680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112" name="Footer Placeholder 3"/>
          <p:cNvSpPr/>
          <p:nvPr/>
        </p:nvSpPr>
        <p:spPr>
          <a:xfrm>
            <a:off x="4160880" y="8466120"/>
            <a:ext cx="3857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58680"/>
            <a:ext cx="10960200" cy="12477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ocial Media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4"/>
          <p:cNvSpPr/>
          <p:nvPr/>
        </p:nvSpPr>
        <p:spPr>
          <a:xfrm>
            <a:off x="8728200" y="8466120"/>
            <a:ext cx="2841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FAB67EFE-F36F-4ED1-A56C-02A88AA4ECFB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9" descr="C:\Users\dbrulha\Desktop\untitled folder\iOS Simulator Screen shot Nov 20, 2013 2.04.31 PM.png"/>
          <p:cNvPicPr/>
          <p:nvPr/>
        </p:nvPicPr>
        <p:blipFill>
          <a:blip r:embed="rId1"/>
          <a:stretch/>
        </p:blipFill>
        <p:spPr>
          <a:xfrm>
            <a:off x="4484520" y="1306440"/>
            <a:ext cx="3200400" cy="5680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116" name="Footer Placeholder 3"/>
          <p:cNvSpPr/>
          <p:nvPr/>
        </p:nvSpPr>
        <p:spPr>
          <a:xfrm>
            <a:off x="4160880" y="8466120"/>
            <a:ext cx="3857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58680"/>
            <a:ext cx="10960200" cy="12477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More Option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4"/>
          <p:cNvSpPr/>
          <p:nvPr/>
        </p:nvSpPr>
        <p:spPr>
          <a:xfrm>
            <a:off x="8728200" y="8466120"/>
            <a:ext cx="2841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89AF85FB-5680-4D3D-9D21-CA5A378B7535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C:\Users\dbrulha\Desktop\untitled folder\iOS Simulator Screen shot Nov 20, 2013 2.14.47 PM.png"/>
          <p:cNvPicPr/>
          <p:nvPr/>
        </p:nvPicPr>
        <p:blipFill>
          <a:blip r:embed="rId1"/>
          <a:stretch/>
        </p:blipFill>
        <p:spPr>
          <a:xfrm>
            <a:off x="4484520" y="1306440"/>
            <a:ext cx="3200400" cy="5680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120" name="Footer Placeholder 3"/>
          <p:cNvSpPr/>
          <p:nvPr/>
        </p:nvSpPr>
        <p:spPr>
          <a:xfrm>
            <a:off x="4160880" y="8466120"/>
            <a:ext cx="3857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09120" y="2131920"/>
            <a:ext cx="1096020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marL="455760" indent="-45576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Future enhancements based on feedback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ooter Placeholder 3"/>
          <p:cNvSpPr/>
          <p:nvPr/>
        </p:nvSpPr>
        <p:spPr>
          <a:xfrm>
            <a:off x="4160880" y="8466120"/>
            <a:ext cx="3857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8728200" y="8466120"/>
            <a:ext cx="2841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B8DABD72-071F-4A1F-A322-F83F662FF448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58680"/>
            <a:ext cx="10960200" cy="12477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oading Screen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ooter Placeholder 3"/>
          <p:cNvSpPr/>
          <p:nvPr/>
        </p:nvSpPr>
        <p:spPr>
          <a:xfrm>
            <a:off x="4160880" y="8466120"/>
            <a:ext cx="3857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4"/>
          <p:cNvSpPr/>
          <p:nvPr/>
        </p:nvSpPr>
        <p:spPr>
          <a:xfrm>
            <a:off x="8728200" y="8466120"/>
            <a:ext cx="2841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A0A71B27-D712-4BD5-A92D-EDC5CDEB8E4C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11" descr="C:\Users\dbrulha\Desktop\untitled folder\iOS Simulator Screen shot Nov 20, 2013 2.00.53 PM.png"/>
          <p:cNvPicPr/>
          <p:nvPr/>
        </p:nvPicPr>
        <p:blipFill>
          <a:blip r:embed="rId1"/>
          <a:stretch/>
        </p:blipFill>
        <p:spPr>
          <a:xfrm>
            <a:off x="4484520" y="1285920"/>
            <a:ext cx="3200400" cy="56815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58680"/>
            <a:ext cx="10960200" cy="12477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Navigation Main Menu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ooter Placeholder 3"/>
          <p:cNvSpPr/>
          <p:nvPr/>
        </p:nvSpPr>
        <p:spPr>
          <a:xfrm>
            <a:off x="4160880" y="8466120"/>
            <a:ext cx="3857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4"/>
          <p:cNvSpPr/>
          <p:nvPr/>
        </p:nvSpPr>
        <p:spPr>
          <a:xfrm>
            <a:off x="8728200" y="8466120"/>
            <a:ext cx="2841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C1A4E7E5-F373-4886-AB09-072B3E9B9827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12" descr="C:\Users\dbrulha\Desktop\untitled folder\iOS Simulator Screen shot Nov 20, 2013 2.00.04 PM.png"/>
          <p:cNvPicPr/>
          <p:nvPr/>
        </p:nvPicPr>
        <p:blipFill>
          <a:blip r:embed="rId1"/>
          <a:stretch/>
        </p:blipFill>
        <p:spPr>
          <a:xfrm>
            <a:off x="6654960" y="1305000"/>
            <a:ext cx="3200400" cy="56815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59" name="Picture 13" descr="C:\Users\dbrulha\Desktop\untitled folder\iOS Simulator Screen shot Nov 20, 2013 2.00.01 PM.png"/>
          <p:cNvPicPr/>
          <p:nvPr/>
        </p:nvPicPr>
        <p:blipFill>
          <a:blip r:embed="rId2"/>
          <a:stretch/>
        </p:blipFill>
        <p:spPr>
          <a:xfrm>
            <a:off x="1792440" y="1305000"/>
            <a:ext cx="3200400" cy="56815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60" name="TextBox 1"/>
          <p:cNvSpPr/>
          <p:nvPr/>
        </p:nvSpPr>
        <p:spPr>
          <a:xfrm>
            <a:off x="2805480" y="6994440"/>
            <a:ext cx="1173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Tahoma"/>
              </a:rPr>
              <a:t>Collaps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1"/>
          <p:cNvSpPr/>
          <p:nvPr/>
        </p:nvSpPr>
        <p:spPr>
          <a:xfrm>
            <a:off x="7657920" y="6989760"/>
            <a:ext cx="1191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Expand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58680"/>
            <a:ext cx="10960200" cy="12477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rip Search &amp; Fare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ooter Placeholder 3"/>
          <p:cNvSpPr/>
          <p:nvPr/>
        </p:nvSpPr>
        <p:spPr>
          <a:xfrm>
            <a:off x="4160880" y="8466120"/>
            <a:ext cx="3857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4"/>
          <p:cNvSpPr/>
          <p:nvPr/>
        </p:nvSpPr>
        <p:spPr>
          <a:xfrm>
            <a:off x="8728200" y="8466120"/>
            <a:ext cx="2841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BBE22032-B05D-426C-91A9-5FBF1A3F88F0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1"/>
          <p:cNvSpPr/>
          <p:nvPr/>
        </p:nvSpPr>
        <p:spPr>
          <a:xfrm>
            <a:off x="2278080" y="6989760"/>
            <a:ext cx="2228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Trip Result Summa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1"/>
          <p:cNvSpPr/>
          <p:nvPr/>
        </p:nvSpPr>
        <p:spPr>
          <a:xfrm>
            <a:off x="7231320" y="6989760"/>
            <a:ext cx="2046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Date &amp; Time Pick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13" descr="C:\Users\dbrulha\Desktop\untitled folder\iOS Simulator Screen shot Nov 20, 2013 2.02.29 PM.png"/>
          <p:cNvPicPr/>
          <p:nvPr/>
        </p:nvPicPr>
        <p:blipFill>
          <a:blip r:embed="rId1"/>
          <a:stretch/>
        </p:blipFill>
        <p:spPr>
          <a:xfrm>
            <a:off x="1792440" y="1303200"/>
            <a:ext cx="3200400" cy="56818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68" name="Picture 15" descr="C:\Users\dbrulha\Desktop\untitled folder\iOS Simulator Screen shot Nov 20, 2013 2.02.35 PM.png"/>
          <p:cNvPicPr/>
          <p:nvPr/>
        </p:nvPicPr>
        <p:blipFill>
          <a:blip r:embed="rId2"/>
          <a:stretch/>
        </p:blipFill>
        <p:spPr>
          <a:xfrm>
            <a:off x="6654960" y="1303200"/>
            <a:ext cx="3200400" cy="5680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58680"/>
            <a:ext cx="10960200" cy="12477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rip Result Detail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ooter Placeholder 3"/>
          <p:cNvSpPr/>
          <p:nvPr/>
        </p:nvSpPr>
        <p:spPr>
          <a:xfrm>
            <a:off x="4160880" y="8466120"/>
            <a:ext cx="3857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4"/>
          <p:cNvSpPr/>
          <p:nvPr/>
        </p:nvSpPr>
        <p:spPr>
          <a:xfrm>
            <a:off x="8728200" y="8466120"/>
            <a:ext cx="2841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B16F0356-6739-4E81-9F3B-BAB819F83B3E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1917720" y="1287360"/>
            <a:ext cx="2787480" cy="70866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73" name="Right Arrow 13"/>
          <p:cNvSpPr/>
          <p:nvPr/>
        </p:nvSpPr>
        <p:spPr>
          <a:xfrm rot="9766800">
            <a:off x="4493520" y="7520040"/>
            <a:ext cx="1522440" cy="581040"/>
          </a:xfrm>
          <a:prstGeom prst="rightArrow">
            <a:avLst>
              <a:gd name="adj1" fmla="val 36824"/>
              <a:gd name="adj2" fmla="val 61599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6432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1"/>
          <p:cNvSpPr/>
          <p:nvPr/>
        </p:nvSpPr>
        <p:spPr>
          <a:xfrm>
            <a:off x="6357240" y="7283520"/>
            <a:ext cx="2179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Explanation of Far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3" descr="G:\iOS Simulator Screen shot Nov 20, 2013 2.50.22 PM.png"/>
          <p:cNvPicPr/>
          <p:nvPr/>
        </p:nvPicPr>
        <p:blipFill>
          <a:blip r:embed="rId2"/>
          <a:stretch/>
        </p:blipFill>
        <p:spPr>
          <a:xfrm>
            <a:off x="5846760" y="1596960"/>
            <a:ext cx="3200400" cy="56818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128520"/>
            <a:ext cx="10960200" cy="10987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Favorite Station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2" descr="C:\Users\dbrulha\Desktop\untitled folder\iOS Simulator Screen shot Nov 20, 2013 2.03.24 PM.png"/>
          <p:cNvPicPr/>
          <p:nvPr/>
        </p:nvPicPr>
        <p:blipFill>
          <a:blip r:embed="rId1"/>
          <a:stretch/>
        </p:blipFill>
        <p:spPr>
          <a:xfrm>
            <a:off x="4651200" y="1450800"/>
            <a:ext cx="3200400" cy="5680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78" name="Picture 14" descr="C:\Users\dbrulha\Desktop\untitled folder\iOS Simulator Screen shot Nov 20, 2013 2.14.33 PM.png"/>
          <p:cNvPicPr/>
          <p:nvPr/>
        </p:nvPicPr>
        <p:blipFill>
          <a:blip r:embed="rId2"/>
          <a:stretch/>
        </p:blipFill>
        <p:spPr>
          <a:xfrm>
            <a:off x="8404200" y="1450800"/>
            <a:ext cx="3200400" cy="5680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79" name="Picture 15" descr="C:\Users\dbrulha\Desktop\untitled folder\iOS Simulator Screen shot Nov 20, 2013 2.31.50 PM.png"/>
          <p:cNvPicPr/>
          <p:nvPr/>
        </p:nvPicPr>
        <p:blipFill>
          <a:blip r:embed="rId3"/>
          <a:stretch/>
        </p:blipFill>
        <p:spPr>
          <a:xfrm>
            <a:off x="957240" y="1450800"/>
            <a:ext cx="3200400" cy="5680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80" name="TextBox 1"/>
          <p:cNvSpPr/>
          <p:nvPr/>
        </p:nvSpPr>
        <p:spPr>
          <a:xfrm>
            <a:off x="1331280" y="7130880"/>
            <a:ext cx="245232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The ‘Favorites’ tab in al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Station Picke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1"/>
          <p:cNvSpPr/>
          <p:nvPr/>
        </p:nvSpPr>
        <p:spPr>
          <a:xfrm>
            <a:off x="5069520" y="7130880"/>
            <a:ext cx="236412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Stars allow ability to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add/remove a favori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1"/>
          <p:cNvSpPr/>
          <p:nvPr/>
        </p:nvSpPr>
        <p:spPr>
          <a:xfrm>
            <a:off x="8696520" y="7130880"/>
            <a:ext cx="261396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Favorite a station from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station information p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ight Arrow 1"/>
          <p:cNvSpPr/>
          <p:nvPr/>
        </p:nvSpPr>
        <p:spPr>
          <a:xfrm rot="1884600">
            <a:off x="336240" y="2039400"/>
            <a:ext cx="987480" cy="579600"/>
          </a:xfrm>
          <a:prstGeom prst="rightArrow">
            <a:avLst>
              <a:gd name="adj1" fmla="val 36824"/>
              <a:gd name="adj2" fmla="val 61578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4316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ight Arrow 19"/>
          <p:cNvSpPr/>
          <p:nvPr/>
        </p:nvSpPr>
        <p:spPr>
          <a:xfrm rot="1884600">
            <a:off x="6570360" y="4462560"/>
            <a:ext cx="987480" cy="581040"/>
          </a:xfrm>
          <a:prstGeom prst="rightArrow">
            <a:avLst>
              <a:gd name="adj1" fmla="val 36824"/>
              <a:gd name="adj2" fmla="val 61599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4316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ight Arrow 20"/>
          <p:cNvSpPr/>
          <p:nvPr/>
        </p:nvSpPr>
        <p:spPr>
          <a:xfrm rot="1884600">
            <a:off x="10231200" y="1247400"/>
            <a:ext cx="987480" cy="579600"/>
          </a:xfrm>
          <a:prstGeom prst="rightArrow">
            <a:avLst>
              <a:gd name="adj1" fmla="val 36824"/>
              <a:gd name="adj2" fmla="val 61578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4316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ight Arrow 21"/>
          <p:cNvSpPr/>
          <p:nvPr/>
        </p:nvSpPr>
        <p:spPr>
          <a:xfrm rot="1884600">
            <a:off x="6570360" y="3170160"/>
            <a:ext cx="987480" cy="581040"/>
          </a:xfrm>
          <a:prstGeom prst="rightArrow">
            <a:avLst>
              <a:gd name="adj1" fmla="val 36824"/>
              <a:gd name="adj2" fmla="val 61599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4316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3"/>
          <p:cNvSpPr/>
          <p:nvPr/>
        </p:nvSpPr>
        <p:spPr>
          <a:xfrm>
            <a:off x="4160880" y="8466120"/>
            <a:ext cx="3857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4"/>
          <p:cNvSpPr/>
          <p:nvPr/>
        </p:nvSpPr>
        <p:spPr>
          <a:xfrm>
            <a:off x="8728200" y="8466120"/>
            <a:ext cx="2841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034F6BF7-FE45-4854-9380-2360194F01F1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58680"/>
            <a:ext cx="10960200" cy="12477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tation Information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4"/>
          <p:cNvSpPr/>
          <p:nvPr/>
        </p:nvSpPr>
        <p:spPr>
          <a:xfrm>
            <a:off x="8728200" y="8466120"/>
            <a:ext cx="2841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85525A09-99CA-4043-97ED-9E1F7DC851D7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1747800" y="1374840"/>
            <a:ext cx="3200400" cy="60548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92" name="Picture 3" descr=""/>
          <p:cNvPicPr/>
          <p:nvPr/>
        </p:nvPicPr>
        <p:blipFill>
          <a:blip r:embed="rId2"/>
          <a:stretch/>
        </p:blipFill>
        <p:spPr>
          <a:xfrm>
            <a:off x="6610320" y="2022480"/>
            <a:ext cx="3200400" cy="58244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cxnSp>
        <p:nvCxnSpPr>
          <p:cNvPr id="93" name="Curved Connector 2"/>
          <p:cNvCxnSpPr>
            <a:stCxn id="91" idx="2"/>
            <a:endCxn id="92" idx="0"/>
          </p:cNvCxnSpPr>
          <p:nvPr/>
        </p:nvCxnSpPr>
        <p:spPr>
          <a:xfrm flipH="1" flipV="1" rot="5400000">
            <a:off x="3074400" y="2294280"/>
            <a:ext cx="5407920" cy="4863240"/>
          </a:xfrm>
          <a:prstGeom prst="curvedConnector5">
            <a:avLst>
              <a:gd name="adj1" fmla="val -13028"/>
              <a:gd name="adj2" fmla="val 25000"/>
              <a:gd name="adj3" fmla="val -13028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94" name="Footer Placeholder 3"/>
          <p:cNvSpPr/>
          <p:nvPr/>
        </p:nvSpPr>
        <p:spPr>
          <a:xfrm>
            <a:off x="4160880" y="8466120"/>
            <a:ext cx="3857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120" y="58680"/>
            <a:ext cx="10960200" cy="12477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ervice Statu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4"/>
          <p:cNvSpPr/>
          <p:nvPr/>
        </p:nvSpPr>
        <p:spPr>
          <a:xfrm>
            <a:off x="8728200" y="8466120"/>
            <a:ext cx="2841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1A7FA9F7-A9D1-4E20-BEBB-FBB2358646ED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12" descr="C:\Users\dbrulha\Desktop\untitled folder\iOS Simulator Screen shot Nov 20, 2013 2.04.14 PM.png"/>
          <p:cNvPicPr/>
          <p:nvPr/>
        </p:nvPicPr>
        <p:blipFill>
          <a:blip r:embed="rId1"/>
          <a:stretch/>
        </p:blipFill>
        <p:spPr>
          <a:xfrm>
            <a:off x="6654960" y="1303200"/>
            <a:ext cx="3200400" cy="5680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98" name="Picture 13" descr="C:\Users\dbrulha\Desktop\untitled folder\iOS Simulator Screen shot Nov 20, 2013 2.04.12 PM.png"/>
          <p:cNvPicPr/>
          <p:nvPr/>
        </p:nvPicPr>
        <p:blipFill>
          <a:blip r:embed="rId2"/>
          <a:stretch/>
        </p:blipFill>
        <p:spPr>
          <a:xfrm>
            <a:off x="1792440" y="1303200"/>
            <a:ext cx="3200400" cy="5680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99" name="TextBox 1"/>
          <p:cNvSpPr/>
          <p:nvPr/>
        </p:nvSpPr>
        <p:spPr>
          <a:xfrm>
            <a:off x="2812320" y="6989760"/>
            <a:ext cx="1159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Summa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1"/>
          <p:cNvSpPr/>
          <p:nvPr/>
        </p:nvSpPr>
        <p:spPr>
          <a:xfrm>
            <a:off x="7856280" y="6989760"/>
            <a:ext cx="797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Detai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ooter Placeholder 3"/>
          <p:cNvSpPr/>
          <p:nvPr/>
        </p:nvSpPr>
        <p:spPr>
          <a:xfrm>
            <a:off x="4160880" y="8466120"/>
            <a:ext cx="3857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58680"/>
            <a:ext cx="10960200" cy="12477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stomer Alert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4"/>
          <p:cNvSpPr/>
          <p:nvPr/>
        </p:nvSpPr>
        <p:spPr>
          <a:xfrm>
            <a:off x="8728200" y="8466120"/>
            <a:ext cx="2841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393ED96B-EDE8-45D3-8696-C5E4813A690E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9" descr="C:\Users\dbrulha\Desktop\untitled folder\iOS Simulator Screen shot Nov 20, 2013 2.04.20 PM.png"/>
          <p:cNvPicPr/>
          <p:nvPr/>
        </p:nvPicPr>
        <p:blipFill>
          <a:blip r:embed="rId1"/>
          <a:stretch/>
        </p:blipFill>
        <p:spPr>
          <a:xfrm>
            <a:off x="1792440" y="1306440"/>
            <a:ext cx="3200400" cy="5680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05" name="Picture 10" descr="C:\Users\dbrulha\Desktop\untitled folder\iOS Simulator Screen shot Nov 20, 2013 2.04.22 PM.png"/>
          <p:cNvPicPr/>
          <p:nvPr/>
        </p:nvPicPr>
        <p:blipFill>
          <a:blip r:embed="rId2"/>
          <a:stretch/>
        </p:blipFill>
        <p:spPr>
          <a:xfrm>
            <a:off x="6654960" y="1306440"/>
            <a:ext cx="3200400" cy="5680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106" name="TextBox 1"/>
          <p:cNvSpPr/>
          <p:nvPr/>
        </p:nvSpPr>
        <p:spPr>
          <a:xfrm>
            <a:off x="2812320" y="6989760"/>
            <a:ext cx="1159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Summa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1"/>
          <p:cNvSpPr/>
          <p:nvPr/>
        </p:nvSpPr>
        <p:spPr>
          <a:xfrm>
            <a:off x="7856280" y="6989760"/>
            <a:ext cx="797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Detai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Footer Placeholder 3"/>
          <p:cNvSpPr/>
          <p:nvPr/>
        </p:nvSpPr>
        <p:spPr>
          <a:xfrm>
            <a:off x="4160880" y="8466120"/>
            <a:ext cx="3857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7T21:28:48Z</dcterms:created>
  <dc:creator>dbrulha@lirr.org</dc:creator>
  <dc:description/>
  <dc:language>en-US</dc:language>
  <cp:lastModifiedBy>lirr</cp:lastModifiedBy>
  <cp:lastPrinted>2013-09-27T19:11:38Z</cp:lastPrinted>
  <dcterms:modified xsi:type="dcterms:W3CDTF">2014-01-24T21:07:28Z</dcterms:modified>
  <cp:revision>161</cp:revision>
  <dc:subject/>
  <dc:title>PowerPoint Presentation</dc:title>
</cp:coreProperties>
</file>