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79300" cy="9132888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860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7280" y="525240"/>
            <a:ext cx="3511440" cy="263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860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B8D853F2-CBF7-41BA-9954-10E197DCC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413D705-D668-4C05-9A64-80C2F76FE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54E6B4A5-1735-4A01-B907-7D5E0E0AD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RR to adopt Favorite Trips in release 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SK: 9/27/13 – MNR to validate accurate screenshots. – Completed – 09/27/13 - Modified slide to show the three landing pa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F0BE88E-8306-48A1-9883-0DA3444D5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FB8-4808-4349-9896-DD176FE1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19C-7F91-403E-A4C9-16A69941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136-632D-4844-9C11-C495318E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E62-CBD4-4F39-8579-3D41E6DF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74D-C0CA-46E9-A2D3-E2FB5AC9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C38-FC38-405D-838D-90B4E760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EE7-0F68-4DB6-99D3-61648EF3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558-D16F-4C11-B9B2-314DD9DF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70A-673E-4082-BFEF-045C8A5B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BD3-0C2C-457E-B81F-43758B1F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3AC-2C51-45BE-BC9B-B9FDC0E0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199-C5AE-4849-98A6-C77D0C5A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03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2130480" indent="-303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20440" y="8465760"/>
            <a:ext cx="173052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F4A05C2-8FE1-49EE-A2EC-A82A94CE4081}" type="datetime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5B0A289-215B-4AD1-A5DE-37215275B494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ptbkgrds-title1.jpg"/>
          <p:cNvPicPr/>
          <p:nvPr/>
        </p:nvPicPr>
        <p:blipFill>
          <a:blip r:embed="rId1"/>
          <a:stretch/>
        </p:blipFill>
        <p:spPr>
          <a:xfrm>
            <a:off x="0" y="0"/>
            <a:ext cx="12179160" cy="916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646200"/>
            <a:ext cx="10023480" cy="466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RR TrainTime 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 Committee Presentation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7360" y="5176800"/>
            <a:ext cx="8524800" cy="23335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b9cde5"/>
                </a:solidFill>
                <a:latin typeface="Arial"/>
              </a:rPr>
              <a:t>1/24/201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pecial Service Notic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D4BBC639-1A61-4E8F-8DC1-159BFBCBE92E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2" descr="C:\Users\dbrulha\Desktop\untitled folder\iOS Simulator Screen shot Nov 20, 2013 2.04.27 PM.png"/>
          <p:cNvPicPr/>
          <p:nvPr/>
        </p:nvPicPr>
        <p:blipFill>
          <a:blip r:embed="rId1"/>
          <a:stretch/>
        </p:blipFill>
        <p:spPr>
          <a:xfrm>
            <a:off x="447840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cial Medi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84A207A-C7BC-42AA-8430-5204E712C2D0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C:\Users\dbrulha\Desktop\untitled folder\iOS Simulator Screen shot Nov 20, 2013 2.04.31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re Op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0AB2CD7D-0FE1-4C96-89FA-16E3B57C2479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dbrulha\Desktop\untitled folder\iOS Simulator Screen shot Nov 20, 2013 2.14.47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uture enhancements based on feedbac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8A7A3124-FB10-4457-894D-4F70EFEC1DBA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ading Scree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0B44646-E40E-4D04-9CC5-C64A9F41E323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C:\Users\dbrulha\Desktop\untitled folder\iOS Simulator Screen shot Nov 20, 2013 2.00.53 PM.png"/>
          <p:cNvPicPr/>
          <p:nvPr/>
        </p:nvPicPr>
        <p:blipFill>
          <a:blip r:embed="rId1"/>
          <a:stretch/>
        </p:blipFill>
        <p:spPr>
          <a:xfrm>
            <a:off x="4484520" y="128592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vigation Main Men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8C3F9CBF-5DD1-4543-9A2D-2FEEC5EB801F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C:\Users\dbrulha\Desktop\untitled folder\iOS Simulator Screen shot Nov 20, 2013 2.00.04 PM.png"/>
          <p:cNvPicPr/>
          <p:nvPr/>
        </p:nvPicPr>
        <p:blipFill>
          <a:blip r:embed="rId1"/>
          <a:stretch/>
        </p:blipFill>
        <p:spPr>
          <a:xfrm>
            <a:off x="665496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Picture 13" descr="C:\Users\dbrulha\Desktop\untitled folder\iOS Simulator Screen shot Nov 20, 2013 2.00.01 PM.png"/>
          <p:cNvPicPr/>
          <p:nvPr/>
        </p:nvPicPr>
        <p:blipFill>
          <a:blip r:embed="rId2"/>
          <a:stretch/>
        </p:blipFill>
        <p:spPr>
          <a:xfrm>
            <a:off x="179244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0" name="TextBox 1"/>
          <p:cNvSpPr/>
          <p:nvPr/>
        </p:nvSpPr>
        <p:spPr>
          <a:xfrm>
            <a:off x="2805480" y="6994440"/>
            <a:ext cx="1173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ahoma"/>
              </a:rPr>
              <a:t>Collap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7657920" y="6989760"/>
            <a:ext cx="119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an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Search &amp; Fa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010A014-D543-4D97-B4D9-D78F0684011B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278080" y="6989760"/>
            <a:ext cx="222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rip Result 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7231320" y="6989760"/>
            <a:ext cx="2046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ate &amp; Time Pic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C:\Users\dbrulha\Desktop\untitled folder\iOS Simulator Screen shot Nov 20, 2013 2.02.29 PM.png"/>
          <p:cNvPicPr/>
          <p:nvPr/>
        </p:nvPicPr>
        <p:blipFill>
          <a:blip r:embed="rId1"/>
          <a:stretch/>
        </p:blipFill>
        <p:spPr>
          <a:xfrm>
            <a:off x="1792440" y="130320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8" name="Picture 15" descr="C:\Users\dbrulha\Desktop\untitled folder\iOS Simulator Screen shot Nov 20, 2013 2.02.35 PM.png"/>
          <p:cNvPicPr/>
          <p:nvPr/>
        </p:nvPicPr>
        <p:blipFill>
          <a:blip r:embed="rId2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Result Detail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693BBE76-4198-46DA-A09C-28ED9843BEDF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17720" y="1287360"/>
            <a:ext cx="2787480" cy="7086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3" name="Right Arrow 13"/>
          <p:cNvSpPr/>
          <p:nvPr/>
        </p:nvSpPr>
        <p:spPr>
          <a:xfrm rot="9766800">
            <a:off x="4493520" y="7520040"/>
            <a:ext cx="152244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643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357240" y="7283520"/>
            <a:ext cx="217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lanation of F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G:\iOS Simulator Screen shot Nov 20, 2013 2.50.22 PM.png"/>
          <p:cNvPicPr/>
          <p:nvPr/>
        </p:nvPicPr>
        <p:blipFill>
          <a:blip r:embed="rId2"/>
          <a:stretch/>
        </p:blipFill>
        <p:spPr>
          <a:xfrm>
            <a:off x="5846760" y="159696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28520"/>
            <a:ext cx="10960200" cy="10987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avorite Sta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C:\Users\dbrulha\Desktop\untitled folder\iOS Simulator Screen shot Nov 20, 2013 2.03.24 PM.png"/>
          <p:cNvPicPr/>
          <p:nvPr/>
        </p:nvPicPr>
        <p:blipFill>
          <a:blip r:embed="rId1"/>
          <a:stretch/>
        </p:blipFill>
        <p:spPr>
          <a:xfrm>
            <a:off x="4651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8" name="Picture 14" descr="C:\Users\dbrulha\Desktop\untitled folder\iOS Simulator Screen shot Nov 20, 2013 2.14.33 PM.png"/>
          <p:cNvPicPr/>
          <p:nvPr/>
        </p:nvPicPr>
        <p:blipFill>
          <a:blip r:embed="rId2"/>
          <a:stretch/>
        </p:blipFill>
        <p:spPr>
          <a:xfrm>
            <a:off x="8404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9" name="Picture 15" descr="C:\Users\dbrulha\Desktop\untitled folder\iOS Simulator Screen shot Nov 20, 2013 2.31.50 PM.png"/>
          <p:cNvPicPr/>
          <p:nvPr/>
        </p:nvPicPr>
        <p:blipFill>
          <a:blip r:embed="rId3"/>
          <a:stretch/>
        </p:blipFill>
        <p:spPr>
          <a:xfrm>
            <a:off x="95724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0" name="TextBox 1"/>
          <p:cNvSpPr/>
          <p:nvPr/>
        </p:nvSpPr>
        <p:spPr>
          <a:xfrm>
            <a:off x="1331280" y="7130880"/>
            <a:ext cx="24523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he ‘Favorites’ tab in 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Pick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069520" y="7130880"/>
            <a:ext cx="2364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rs allow ability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add/remove a favor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8696520" y="7130880"/>
            <a:ext cx="26139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Favorite a station fro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information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ight Arrow 1"/>
          <p:cNvSpPr/>
          <p:nvPr/>
        </p:nvSpPr>
        <p:spPr>
          <a:xfrm rot="1884600">
            <a:off x="336240" y="2039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ight Arrow 19"/>
          <p:cNvSpPr/>
          <p:nvPr/>
        </p:nvSpPr>
        <p:spPr>
          <a:xfrm rot="1884600">
            <a:off x="6570360" y="44625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ight Arrow 20"/>
          <p:cNvSpPr/>
          <p:nvPr/>
        </p:nvSpPr>
        <p:spPr>
          <a:xfrm rot="1884600">
            <a:off x="10231200" y="1247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ight Arrow 21"/>
          <p:cNvSpPr/>
          <p:nvPr/>
        </p:nvSpPr>
        <p:spPr>
          <a:xfrm rot="1884600">
            <a:off x="6570360" y="31701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E681B0BF-9D51-4F8E-A91A-E1AAC867F3B0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tion Inform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D17BA169-66FE-4D04-B9BD-9AC081802A2A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47800" y="1374840"/>
            <a:ext cx="3200400" cy="6054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610320" y="2022480"/>
            <a:ext cx="3200400" cy="5824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cxnSp>
        <p:nvCxnSpPr>
          <p:cNvPr id="93" name="Curved Connector 2"/>
          <p:cNvCxnSpPr>
            <a:stCxn id="91" idx="2"/>
            <a:endCxn id="92" idx="0"/>
          </p:cNvCxnSpPr>
          <p:nvPr/>
        </p:nvCxnSpPr>
        <p:spPr>
          <a:xfrm flipH="1" flipV="1" rot="5400000">
            <a:off x="3074400" y="2294280"/>
            <a:ext cx="5407920" cy="4863240"/>
          </a:xfrm>
          <a:prstGeom prst="curvedConnector5">
            <a:avLst>
              <a:gd name="adj1" fmla="val -13028"/>
              <a:gd name="adj2" fmla="val 25000"/>
              <a:gd name="adj3" fmla="val -1302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rvice Statu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EA59257-0810-40E3-A236-BCF49DD725F4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C:\Users\dbrulha\Desktop\untitled folder\iOS Simulator Screen shot Nov 20, 2013 2.04.14 PM.png"/>
          <p:cNvPicPr/>
          <p:nvPr/>
        </p:nvPicPr>
        <p:blipFill>
          <a:blip r:embed="rId1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8" name="Picture 13" descr="C:\Users\dbrulha\Desktop\untitled folder\iOS Simulator Screen shot Nov 20, 2013 2.04.12 PM.png"/>
          <p:cNvPicPr/>
          <p:nvPr/>
        </p:nvPicPr>
        <p:blipFill>
          <a:blip r:embed="rId2"/>
          <a:stretch/>
        </p:blipFill>
        <p:spPr>
          <a:xfrm>
            <a:off x="179244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9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stomer Aler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04FB253-E1AD-4A68-B318-BC7B71E12326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9" descr="C:\Users\dbrulha\Desktop\untitled folder\iOS Simulator Screen shot Nov 20, 2013 2.04.20 PM.png"/>
          <p:cNvPicPr/>
          <p:nvPr/>
        </p:nvPicPr>
        <p:blipFill>
          <a:blip r:embed="rId1"/>
          <a:stretch/>
        </p:blipFill>
        <p:spPr>
          <a:xfrm>
            <a:off x="179244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5" name="Picture 10" descr="C:\Users\dbrulha\Desktop\untitled folder\iOS Simulator Screen shot Nov 20, 2013 2.04.22 PM.png"/>
          <p:cNvPicPr/>
          <p:nvPr/>
        </p:nvPicPr>
        <p:blipFill>
          <a:blip r:embed="rId2"/>
          <a:stretch/>
        </p:blipFill>
        <p:spPr>
          <a:xfrm>
            <a:off x="665496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6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21:28:48Z</dcterms:created>
  <dc:creator>dbrulha@lirr.org</dc:creator>
  <dc:description/>
  <dc:language>en-US</dc:language>
  <cp:lastModifiedBy>lirr</cp:lastModifiedBy>
  <cp:lastPrinted>2013-09-27T19:11:38Z</cp:lastPrinted>
  <dcterms:modified xsi:type="dcterms:W3CDTF">2014-01-24T21:07:28Z</dcterms:modified>
  <cp:revision>161</cp:revision>
  <dc:subject/>
  <dc:title>PowerPoint Presentation</dc:title>
</cp:coreProperties>
</file>