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44656D4-5F1C-433D-AD9B-1EC63F74B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9ED82C5-9157-481B-B3FA-C48E1FE613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FD919C0-C034-430D-9A13-91EF758237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6ED7639-A514-4116-ABF5-3A2A8ECD34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6621D-EE85-426D-A98F-F74DFBEF9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A1FEA-7156-44AB-A881-2D3CECBD8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A32D1-4800-434E-8A72-4E4111F15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9066E-082A-4083-8605-2128DF61E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B4DBD-9A8E-4453-9F2D-B4EF733E5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D19C4-5307-4DF1-AB92-3EDEDB793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0D331-42A8-4853-BB14-A6AF27B5C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CAADE-F558-480D-A994-B82F934BA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7E4D5-E9F8-4CD3-90F9-01C608C97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D2AEA-C341-4B41-9848-32D28157A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4F658-45C8-40CE-8394-1546F942F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35B59-DFBD-4A4B-B1F2-95D41E0A8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99A6F-D236-4FE6-95A7-81A3960A8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5C746-A4EF-45F6-A40C-38381A59A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661D0-00D1-424B-917C-5DDF998EF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B3A2F-C59B-4E44-8173-91FB1EB78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0F80A-5508-4A5C-B215-F4E32E85F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7D245-C546-47F2-B747-2A245D1736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6ADA3-996B-4F1D-A862-37764EC87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38984-C5FF-41D5-901D-D43656555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C3D18-6C06-47D8-B542-D78CDBCAFA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C938AF-E2F5-4355-8B34-5E299F252C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5EA9A-E7D7-4843-9F6A-72204B25B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C199B-43D0-4C3B-9466-FBAE7FA2F9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C752F-A654-48F3-A163-102B354E2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502D3-9077-4D40-9DF6-911C669DB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5C7C7-FF38-4B42-87BA-0B564D74E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E3CF4-272A-4DA3-892E-8A9FD04B8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2835A6-998F-4B9F-B9D8-AE69126699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B156C1-E995-4291-8036-CB72C9D756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B64F2C-648A-4E00-8375-C4B0980B4C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54B574-62F9-4BAB-A627-BD13AC343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D38163-0331-4100-BF1D-8057C563F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E6531-46D1-4783-8CC3-A1139F30A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77666A-0D4F-448B-BC87-23E445559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FC9D1-8D5B-4C25-AA9A-D56D91764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ACA00-189F-4CCE-8F57-1CB9630EBF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9A888-DCD2-4D4A-A21A-4E46087E2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61B85-3495-474A-AA99-F5D68130D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2C539-A732-4E12-ACD6-7AC9E393D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43746-96D5-4D84-BC91-86DE0993B0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FC7351-7917-4EFE-8684-C7C67353EE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834B52-BF49-43F3-8CAE-98C4BA92B8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C3579-EE87-44DE-B603-D3C8FF911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7CD44-C4D4-4F38-9185-A8EC3DEE1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E254-8555-48ED-9CDE-7BA76CC51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B830-C52A-4D4A-80F8-5C820D5E2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AB0A0-6F6A-45A2-A3E8-D1AA16561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E930131-6D4A-4F82-9C84-9CEE583EC93F}"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E0BBAF8-E9CE-41A7-904C-D50A871F23E0}"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70903E3-B1D8-4E38-8845-313724CF6F74}"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F173DA8-F501-4E7B-B6D3-9D374EAE6CD4}"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BF28CAA-2016-4DFF-BFBC-258AABB2C77B}"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34F20FB-804C-4C17-81D2-38D95F95D9E0}"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A1039C4B-E9AF-4FCF-A226-051646287D78}" type="datetime">
              <a:rPr b="1" lang="en-US" sz="900" spc="-1" strike="noStrike">
                <a:solidFill>
                  <a:srgbClr val="898989"/>
                </a:solidFill>
                <a:latin typeface="Arial"/>
              </a:rPr>
              <a:t>07/30/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76C05B83-B9F4-4E46-8A27-A10BC6458EFD}"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1729EEF-F398-47DD-A774-7480CA3B612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CF09C94-760E-4E82-AF06-F8421F4CCC2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ECA1CFD-B2AE-44E8-8986-B9ACD39EACA5}"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22343C5-1D7E-4C85-BCAA-D5DA97B6AE9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424657E-EFD6-415C-B75D-82C7CCE1D555}"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2B3F12E-3871-4EBA-BB21-8E28E5F1AA1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1F5EAA2-FBF8-4004-B202-FCC98046ADA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