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A1597C7-FA69-4CA5-94D2-226FD8025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0B2B1FF-FF72-49B9-91F8-8D75ED494E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98646EE-1DDD-4169-9C30-783D4F6EFC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5FABA4D-E28D-4B1C-97AF-CF1E4A2ADD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F5587-248C-48AA-8823-C0BF704B5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1DE81-823D-4D7A-AE1A-C3C95459C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064ED-21F1-41F5-806E-CB41440DC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13F64-6A86-45DA-8360-AB988D00D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56850-B730-4B04-94DF-D49CFC0D0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E00FA-7094-44DF-A3E8-9EF0F0735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7C25C-1B16-4735-A842-3400E71D0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EE771-0A03-4EF3-83E9-484B407B4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B792F-E7A3-4049-A8EB-14F3F17AE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EC51F-1368-4426-9997-263898114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6E95C-AB9B-43F2-B82B-E9042C31A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F66CD-A30F-444A-9029-D9198FDA9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8685E-7D70-42EB-9560-8B5EE7EAF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71927-9442-4B1B-B53C-55E4106DD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D3428-715C-4D76-8139-636192B40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C1AA9-6F87-4C46-A54F-BD6EF8097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20F3D-52C1-4F4D-AE2E-AF8C2266C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B970E-CBE6-45F6-A65D-4C1AA59DE0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F5D9D-13EB-44A1-AFB8-4C97BCB490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734672-8044-4F03-85B1-3F423EB87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9BD31-FE8E-4CD4-B53E-DBE26B799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0D7348-037B-44A2-BFAA-3FE79EC77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19EF1-662E-4FF5-A16F-E691C434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382AF3-9FE6-436E-8567-A2DEF6630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71D408-8824-41BE-BC83-704054800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2CBBE-A68E-4A39-AA2F-BB1C74C1B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238CD-F5F2-4D29-AE09-004014154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E7DED-377E-4C62-B372-79F68DB10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04E097-0926-460A-AFD0-A88CBB0D8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23DF53-24E1-4C0F-B6DA-96D4B4986E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7FE79F-8122-41DA-8BDA-AAC2BE4F82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D5DFB7-B29C-4C40-A4AE-F55C6522C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688AB-14F9-4D0C-A95F-FBA0C8CD3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042AA-A3DC-4AF8-A10F-40003F49B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7DAD49-E9BC-40F1-B4AE-EC880475A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D0A66C-0549-467F-9C5B-40CE57DA4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252D6-6699-4B69-A19E-129ED7471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1041F-9A3B-4FC3-B74E-6996CCE2F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32A98-3346-44E4-A3B2-8A2D325B6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36C6C-C636-4AD1-B14B-B10B1BA2A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A4660B-41E6-48DD-AF68-1651C9CF92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700369-18BE-4E4D-A986-0EE15EEDEF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D2EE89-681B-4508-8C91-04AFF0C3F7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BAAB-5082-466F-8046-8F077D23D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F3514-22EB-4455-BE5F-1EC4C428B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7D81-147A-45AA-B30E-0100E2FA7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1F83-3C2F-472B-9CA9-88B69D365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9104A-634C-4455-AF4D-170EE7745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7B8AA8B-17FA-40A4-915E-91C0D1D5FC52}"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7CA3CFF-3473-41B3-896E-131D50D42173}"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D270C7C-F2D5-400D-8F6B-51EFE2B76E39}"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8B070CB-028D-41DA-ACFF-8B169C2CD7A9}"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590A901-33EA-49E6-AB1F-63BC9CE8865B}"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4B54CA0-22D1-441A-A109-E4B1B40A442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B864D33D-840B-4EBB-AE09-BE4DDA5224A8}" type="datetime">
              <a:rPr b="1" lang="en-US" sz="900" spc="-1" strike="noStrike">
                <a:solidFill>
                  <a:srgbClr val="898989"/>
                </a:solidFill>
                <a:latin typeface="Arial"/>
              </a:rPr>
              <a:t>07/29/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A2D93B92-C1AB-4086-847B-12145F600F0E}"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07222BD-1C3E-408A-B93A-A758FEF01EC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E27DA5C-3DCA-496B-A38F-E3A1B3B785F6}"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91B47D1-F78B-4521-94C6-27B52FA9F96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AD5BF98-3E8A-4D23-BB82-C946DC887FD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7AC7781-7400-42DF-A414-B54B10A5B64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8E4606A-9F70-4141-8972-D75E35D0458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A31CB1B-4137-49FC-9000-4C86F73DB446}"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