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7945A7E-8683-486B-AB7D-0C47A0D09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95D3BEF-E42F-4728-B646-861E381FAF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408221-99C4-4F6F-8C05-50471C497E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FE77F2-9ED8-439E-9992-03223DCFEE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D45E8-7CAC-477B-87C0-4FAE66C49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257B-9426-4550-B097-CE779AB6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11C76-B81C-4BD6-AC88-A52A755B2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B838C-1C0D-482A-A0EC-CE1323705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CC2EE-5AB3-4C1E-B96F-0B8865885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D0FC5-8860-4D35-9627-CCF89C9BA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BD056-6600-4F73-8528-EC8EF3AD7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2900F-A43B-4CE4-9C14-1D75A5307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0D361-80B5-4EBA-A9B5-D2980E45B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11BE5-B658-4FF6-83FD-85585C612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0DD6-AA3E-4928-B56C-9D1934BF5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C0BB-BE47-4710-8C89-E3F75F0F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1C54-F5CC-4046-AA0A-E538795D2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FD6D0-269B-4FBF-93E6-C1D81FD7B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DA6E2-9318-4DD6-9BD6-866A52193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36907-8256-47AA-9AF1-0A3B97A1D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7C266-EF61-48FD-AC85-90AD45BAD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9B73F-9574-47EE-B939-E09BBBB96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B2FB8-5EA4-4D9F-AEFD-FE4FDEEE9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7858B-FD91-4413-8A3A-1FC442617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8DAC9-9DCC-4823-965E-80E660E06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94BE2-B82E-4A42-9D32-EE0839B0A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9F6B-0010-41FA-871F-4320A8FB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53723-582F-4F05-9880-43B46C3E1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73E8A-4013-408B-8374-16CB0DA70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94526-C4BA-4667-947D-968702D9B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E45E9-EB93-4F91-8F74-3B5D36C83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63C62-1E3A-4083-89B1-760EA62E4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00443-1F74-44B4-9C68-A0AA96440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678ED-52DB-448C-94B4-B15E5CED3D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42D9C-F445-4794-B802-79D283899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A70AE-0F09-42BA-B7C6-9692002E3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D6351-7213-44E9-9A8F-60F626586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B2EAB-3898-406D-B909-A1B12A82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30E45-4A4C-478A-92B5-FF72F87B3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E9AF7-9426-4BA3-B3C1-A95951886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C195E-07A5-4AAF-B70E-732C712E7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3D958-12B2-4AA4-A21A-A27E55E3B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99214-740C-44AB-8BBB-9A6EB16F5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2CFD9-37B8-4965-A91B-264AC08D9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AE744-AE6A-4F61-8EDE-0D4E895EA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8DB02-AB89-4C2E-A1E1-5D6BAA340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ADB571-BE31-4457-AAB3-DD336F7B2D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1DA0-2834-4F4E-9272-B7193E323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E871-045B-40D6-B6E6-285DED34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ADDD-0E80-432E-9CFA-5FDA0851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ECFF-0842-4798-9D00-98945F23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86B6-61E3-4FA7-8963-927D9A09A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FFD46B0-1377-4AA3-8B79-813C5B6CD64C}"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E3F34E8-A3EE-41E1-9C5D-73E0801FBD6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AB94AE6-E016-4979-A97C-EBA775EFA6F8}"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C90FA3-55FE-4081-8392-44C9A916239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2F0C3A7-51AE-4773-9536-E4C5547A6ED7}"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812F35D-FC89-4177-99CB-49F68453CCB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2A23BDF-FA27-4FD1-A127-968D6CC639EB}" type="datetime">
              <a:rPr b="1" lang="en-US" sz="900" spc="-1" strike="noStrike">
                <a:solidFill>
                  <a:srgbClr val="898989"/>
                </a:solidFill>
                <a:latin typeface="Arial"/>
              </a:rPr>
              <a:t>07/30/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D99BDC0F-1F00-4F50-8282-106A56E00E85}"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75A3DC0-AFE4-4EBF-BE71-6EEF84BD15E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E3C1E3A-132F-42A0-9D36-435238608E7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E63E23C-071B-4AA2-A8A5-C9B354307A6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9BF0B64-085B-44CB-B17C-EB7142144BE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9DE9343-B6F0-4A1B-8DDC-6352BF7362D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D489E5B-64D2-404A-8CD9-B024E9C5851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271C261-7FBF-45C3-A57F-F098EB9CBC1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