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BAFBAC5-79EC-4435-97F2-EBF2B3759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D41B080-1A31-4916-A5D4-E6F6E4C353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9B21D5-BA48-4DFD-B84A-4BA8CECC79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CCC124B-164C-4F1C-A738-0EA73A0A0F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9E248-E284-42FA-8548-CA081AD7A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19D94-1392-4C8F-AE9B-DF2E779E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57565-34B8-4D49-BD3B-E9E4B5732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1F9BD-5F85-412C-8182-E4974871F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B592A-DD3A-4ECC-BEE6-FF704E553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B7347-71E8-4EA0-9E2A-5D0FA7191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652D5-9FD3-437C-A3A1-328819854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D472C-DA6B-4217-8028-4026AB85A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68C98-59A0-43EA-B8F6-47AE3002C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BED5F-333B-4A04-B959-2627B5F69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A93C4-F6C3-46E6-9769-66F3F82F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38EA2-FB85-4E35-A1EE-D4A8E0B01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AB8AF-702C-41EB-9F64-2B53497B4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4B258-BD3D-4F6D-95FB-CB0E3CCF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D31A0-2DB4-4864-85D4-622B531B1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4807A-9F5B-4DA6-BEAD-29E650C2A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08F94-45B1-45A3-98BF-352622736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AB3ED-5F33-4447-AB9B-F37A4BE64B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06971-6ED9-4F85-8F8F-536C78389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B498D-F8A4-4D66-A8D7-A74C73FA4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DDC5E-DD1D-451C-A779-912DABA14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07387-7C02-4C28-B490-28824ECCF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1945F-DAA8-4E5D-99E9-D87133BA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F2991-6487-4F56-B4B6-A1C2EDF43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40510-47B0-42DE-8FAC-B327A6EB2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7868C-C61A-4D08-BA7D-E2A8802C5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D86AB-FDA5-45DE-B463-FBB351D00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9CB37-59DE-4DFC-B96A-0EF2CFB4F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953A0F-61C0-4B2B-A14B-F3268590CD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DF578-F681-4C0A-B287-28FF5702F1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DF43C8-FD34-4032-AE14-7680258B5A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E70E1-8A64-4B3D-B2B7-5B549C7A5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016ED-08DB-495E-A76F-3A2C39850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B39B9-4F75-4CE2-B356-E07991E45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822AB-2972-41B6-92A9-E2344AC8CA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0C120-4BD2-4292-9616-E6902ECA6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CBA7E-9619-4E00-9998-3D209319ED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28047-6A1F-4573-AFF5-702D23B94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88AC6-E1D5-4207-A4D5-07D42DC5C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F6DA1-EF8B-4E6D-99DE-57BE06282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FE0DC-10F5-4E45-AF5D-C0FFF07B3D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9AA822-1EAC-46D7-8E26-3A083BFE2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24DF3-FC97-4FEF-92ED-0F5E53355F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1592-77AC-498C-A12A-4824A496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14978-5BCE-494E-991C-F17495AE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D725-942C-4868-B925-DC795DC6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619E-0C0E-4F7B-84E7-92AF14A0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9E20-6423-45E5-B398-6B099CA10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386CB60-C451-407B-A43C-419ED69E427D}"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FD0B458-1EC8-4E48-805C-8A5D068B5F9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5CC44DB-03C9-416C-9D53-B95E9CA59241}"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F93C12F-9A6B-440A-B995-81A99230CEA8}"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55F773E-39CA-42A6-8C09-1520DFE6577E}"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941449D-7F31-43F7-BF4F-6CD698F559B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0FD8A554-2362-4594-9AFA-ADAD537A8F2F}" type="datetime">
              <a:rPr b="1" lang="en-US" sz="900" spc="-1" strike="noStrike">
                <a:solidFill>
                  <a:srgbClr val="898989"/>
                </a:solidFill>
                <a:latin typeface="Arial"/>
              </a:rPr>
              <a:t>07/30/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ACA384F5-6671-42DD-B76A-3FC83D0F7DCA}"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583864B-CDE5-4E54-B351-6AAFC25016E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57AB1F3-87FE-4F3A-8AF0-F3109FD0F60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AF4C158-8AB1-46F1-8271-99CAC287E6C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F63D906-1E0D-4588-B127-52EB6BC9AF7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C2734E4-3B1B-4DD0-A4DC-4AC4228E496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436C03B-183D-412B-9C18-BA294E4CDAB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D372A07-D634-494E-B2CC-DDCACFEEEDD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