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8812638-657D-4123-876D-DB6E023EE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5671B4C-1EDD-4161-88A2-AF311A9C1C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30E5EDB-B161-4224-A0BF-C2F0EAAC1A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6BCC1A2-2C07-4BD6-BE18-963731870D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55B35-5B6B-4C0B-A95A-E5CFED550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F8EFB-81C1-44B7-9649-304CC5A67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4B767-34DB-4331-AF9B-2D9A1CFAC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ED779-46EB-43E2-AA54-6E53DA779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23705-3B3C-45B4-8294-BAA202E43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8BA23-3B90-499D-9A56-DFBA9C7F6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3B2C6-3C1B-4DE6-826B-54CD7D034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0119E-1049-43D6-B297-794BB8AEA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E8494-5EB3-458E-82C0-F68AE0F87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138ED-25A0-4895-99F9-9E1076213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EC9F5-E98D-42A5-B417-300DF0021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47992-4761-4DA5-9D4A-F9EF3ABA7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9D80D-D662-4411-94A6-4F2B09135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4A87F-7870-4D94-B9E0-E20AF3A80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A9C2D-FEB5-4D1B-8555-2D92D5021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853E4-25E1-47FC-9B81-76C9A48F1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1C686-7AC5-4366-B8B1-993047A46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A5AC45-664C-4EB7-BB99-61B85E5DAC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D47BE-D0F5-4208-9887-298DE5569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A32D3-6E90-4F22-BB39-F03596E21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866162-983E-4AEA-91DD-A9FB56F5C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6CFBA-4F4B-43D4-AE9C-FD4ACBBD9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87EAA-28E5-4A11-AED2-B5F719CE8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91EEF-4CB9-4E27-AD06-2BB9C7E8F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E4D1D-208E-4E19-9657-A3EC8AA2E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2F122-10DD-49D2-BC9B-ECB8CF850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36529-48F2-49D6-9B90-9D4677B5D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480EC2-CB7C-4ED1-8432-E76C92D57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C3779E-05C1-4DAC-BB5C-318EE58DE6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2CA1B1-1231-49BA-BE22-F77326B50D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A6A15F-190F-437E-91D7-72BBD62512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D9D632-D051-41B3-9D3F-CBBCA7546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DA7DD-3DC9-4890-83EE-09CBB23D9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A4E93-8845-45A3-B084-AEAE74CD0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9EC477-BD12-4645-9DA4-923E9451E1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43D2E-43F4-41A2-B9E3-50122CD016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711F3-B04A-43AB-A7AA-6E3A9423F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031D0-491D-4E22-8FAE-ABA0E1646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A9B3F-EBCF-4D96-B3F3-3F91C282C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BB512-7989-4F36-9AC9-06377E192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6B64C-86B9-4131-A0E5-203FE7FB8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1E495A-AA02-4AC9-A2D5-7315374601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79FB66-0C8A-4C21-825C-B19388D9E6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E32A-9306-42B0-AE43-1C00B946D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36ACB-CFA9-4F74-A4BE-50585DA47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74A2-8B33-4728-A6D6-29ADA7AAB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01CF-224E-422A-A4CA-AA5306242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88102-75D5-43D8-8A70-7CEA97AC4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B51D106-0FF5-42EF-B7D3-139C48702C06}"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62F58AE-8B5C-4DE9-9157-D22839B586A7}"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FCC6B73-8D2E-4296-9DAE-3E17F629C2BF}"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DCFF16F-B5AB-45D8-896D-B52A3B2E5B57}"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96BAC3E-92AE-4313-8DE0-407B82D7CE69}"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5459638-2E9E-4DBF-B618-5016A0915BC5}"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5FC65C1B-999C-49CE-9BE4-1212D9CB985F}" type="datetime">
              <a:rPr b="1" lang="en-US" sz="900" spc="-1" strike="noStrike">
                <a:solidFill>
                  <a:srgbClr val="898989"/>
                </a:solidFill>
                <a:latin typeface="Arial"/>
              </a:rPr>
              <a:t>07/29/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2656EBF5-E40D-4F76-B704-18E76F0627F2}"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959B663-FEA1-48F9-A1A6-F7526299589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DFB4A1F-81C3-4375-8022-32D262FC7BFA}"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F791605-13BE-4388-B9AA-093854C76C9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76B64C1-6721-4CBA-B982-1DB151CA2F5E}"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807691A-BB21-4AA7-A842-8E96F24B871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06BC351-2A29-47FA-B16B-1ED0B5664B06}"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7AFCF63-42FE-485D-BE13-45674131C7B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