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68356402"/>
        <c:axId val="23674193"/>
      </c:lineChart>
      <c:catAx>
        <c:axId val="6835640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23674193"/>
        <c:crosses val="autoZero"/>
        <c:auto val="1"/>
        <c:lblAlgn val="ctr"/>
        <c:lblOffset val="100"/>
        <c:noMultiLvlLbl val="0"/>
      </c:catAx>
      <c:valAx>
        <c:axId val="23674193"/>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68356402"/>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30665534"/>
        <c:axId val="14245059"/>
      </c:lineChart>
      <c:catAx>
        <c:axId val="3066553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14245059"/>
        <c:crosses val="autoZero"/>
        <c:auto val="1"/>
        <c:lblAlgn val="ctr"/>
        <c:lblOffset val="100"/>
        <c:noMultiLvlLbl val="0"/>
      </c:catAx>
      <c:valAx>
        <c:axId val="14245059"/>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30665534"/>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33170157"/>
        <c:axId val="53224744"/>
      </c:barChart>
      <c:catAx>
        <c:axId val="33170157"/>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53224744"/>
        <c:crosses val="min"/>
        <c:auto val="1"/>
        <c:lblAlgn val="ctr"/>
        <c:lblOffset val="100"/>
        <c:noMultiLvlLbl val="0"/>
      </c:catAx>
      <c:valAx>
        <c:axId val="53224744"/>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33170157"/>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5813249"/>
        <c:axId val="75725123"/>
      </c:barChart>
      <c:catAx>
        <c:axId val="5813249"/>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75725123"/>
        <c:crosses val="min"/>
        <c:auto val="1"/>
        <c:lblAlgn val="ctr"/>
        <c:lblOffset val="100"/>
        <c:noMultiLvlLbl val="0"/>
      </c:catAx>
      <c:valAx>
        <c:axId val="75725123"/>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5813249"/>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84036241"/>
        <c:axId val="15573912"/>
      </c:lineChart>
      <c:catAx>
        <c:axId val="8403624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15573912"/>
        <c:crosses val="autoZero"/>
        <c:auto val="1"/>
        <c:lblAlgn val="ctr"/>
        <c:lblOffset val="100"/>
        <c:noMultiLvlLbl val="0"/>
      </c:catAx>
      <c:valAx>
        <c:axId val="15573912"/>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84036241"/>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2BAC919-5A67-4607-AEA0-81DB0B3A0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94F2EA5D-6925-404B-B80B-C42CA89442CD}"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768D5E7D-1D36-4DAD-B914-FBF61B111F9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C80ACDF4-5BA3-432C-9769-57CBA0170AC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4DD65070-68BB-4C79-BB4E-20D8CE49714B}"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7A97031F-761E-4FC6-96CA-5DAB112EFBA1}"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09C7E10E-9F8C-44BE-A6ED-6ADD977CA9F8}"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595CA83F-1051-41D6-BEF3-D68D4FE1138B}"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D37153BD-22E2-43BE-8599-493C79F3FD63}"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5528B-2F69-49E4-9E82-1C70FBAA5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725B0-0746-4ABC-88AE-EED28CE41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BD7D7-55CD-4E3F-A302-B3FFA3BB1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84F94-94C3-44D7-858E-A83FA45F6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32260-4CB0-4EB8-81E4-4CE77A6B5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02DED-1366-480B-B300-4A0BA7E0D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7E6A2-9B84-4DC5-A33F-5E15A9811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D2854-8B5F-4830-9618-E9A2E7E72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6D22E-D6D2-49CD-9C86-C0B431268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03503-9282-40ED-9C16-46E59A90D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67F2A-546A-46C5-8AE8-F826B496A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02DBA-EC02-42A4-96B5-33B009DC6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B6302-4437-49DF-AB1B-C1A5A2FD0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32800-C258-4FC3-B452-08D324AE0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A8447-5C6A-4430-B02E-524D0612E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8DE9C-1E09-4734-9AF5-E511641C3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F40D3-55DC-4009-A014-97F6EA234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0CF76-DBBD-4ADD-9021-E6E553172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B8AE6-3AC1-4E40-A734-9C84F52AA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5D35E-23DE-45DA-BC6C-0BA1CBD81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66E8-570D-4054-AF97-BB3D88F06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D97B-26CA-4FD1-A563-545E5F661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1273-E61C-4AAC-8416-118F2AEEC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FDA1A-E8CA-4A4E-84F7-5C9C6EEBB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2488947-E98D-4FE1-BABB-EF43EA0FABEF}"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31DD8533-F14C-463D-96ED-9C714AAA44F4}"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E3970B15-18A4-4A44-948B-A6CD14F13D2E}"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EBAF2B7B-C4A1-4383-8335-C626A71DE453}"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7826D5C1-7258-47FA-B1F9-697ED33A2631}"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E0A01698-38A4-4F72-895F-59882FFD03CB}"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BFD829CB-5F24-4F7E-AAF4-F206B11B5A6D}"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5B4E6AFD-381B-4559-8ED2-9CD7BDF2AB28}"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A23BA0EA-ABAE-4442-A5B2-4677C737FD16}"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