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38655496"/>
        <c:axId val="31898809"/>
      </c:lineChart>
      <c:catAx>
        <c:axId val="3865549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31898809"/>
        <c:crosses val="autoZero"/>
        <c:auto val="1"/>
        <c:lblAlgn val="ctr"/>
        <c:lblOffset val="100"/>
        <c:noMultiLvlLbl val="0"/>
      </c:catAx>
      <c:valAx>
        <c:axId val="31898809"/>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8655496"/>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38133929"/>
        <c:axId val="56982954"/>
      </c:lineChart>
      <c:catAx>
        <c:axId val="3813392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56982954"/>
        <c:crosses val="autoZero"/>
        <c:auto val="1"/>
        <c:lblAlgn val="ctr"/>
        <c:lblOffset val="100"/>
        <c:noMultiLvlLbl val="0"/>
      </c:catAx>
      <c:valAx>
        <c:axId val="56982954"/>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8133929"/>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38466293"/>
        <c:axId val="84413484"/>
      </c:barChart>
      <c:catAx>
        <c:axId val="38466293"/>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84413484"/>
        <c:crosses val="min"/>
        <c:auto val="1"/>
        <c:lblAlgn val="ctr"/>
        <c:lblOffset val="100"/>
        <c:noMultiLvlLbl val="0"/>
      </c:catAx>
      <c:valAx>
        <c:axId val="84413484"/>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38466293"/>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49307506"/>
        <c:axId val="81884288"/>
      </c:barChart>
      <c:catAx>
        <c:axId val="49307506"/>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81884288"/>
        <c:crosses val="min"/>
        <c:auto val="1"/>
        <c:lblAlgn val="ctr"/>
        <c:lblOffset val="100"/>
        <c:noMultiLvlLbl val="0"/>
      </c:catAx>
      <c:valAx>
        <c:axId val="81884288"/>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49307506"/>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84732495"/>
        <c:axId val="60290221"/>
      </c:lineChart>
      <c:catAx>
        <c:axId val="8473249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60290221"/>
        <c:crosses val="autoZero"/>
        <c:auto val="1"/>
        <c:lblAlgn val="ctr"/>
        <c:lblOffset val="100"/>
        <c:noMultiLvlLbl val="0"/>
      </c:catAx>
      <c:valAx>
        <c:axId val="60290221"/>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84732495"/>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5B8568-F9D7-45F7-8430-66A19C88F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3B7EA69B-B768-4EAE-9C13-F4A3201EE6C4}"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FE5CCD1-4031-449D-A413-1F5B1B409E1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81E2037-4BD6-4513-87E6-DE431830EB15}"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3A35A39F-36FB-426B-BCAB-D2EA2DE5B53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883E1B60-8034-4CCA-835D-4887F6E9CB9A}"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1976BD0-1E6F-48D0-8DEE-61FA2F906B7C}"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8FC1AD7F-78B3-4286-8CC8-3A20F965092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9E04F30-0F7B-4121-95F3-8A967ED8FE0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681C0-B7E0-4C03-8AFC-02688BCFA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9B1E8-AFE0-4218-8A51-EE6D6C08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C62AC-9B6B-4CA5-99B6-51152C28E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FB7ED-01DC-443F-B4DC-41642404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D3A2D-803F-478A-AAA1-B702F7F6D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EB948-B38F-4929-8625-F36CBB375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BF9EF-42F5-4EBB-8D89-76D885B85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40A11-00F1-4218-BA5D-9F5C3634D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46D56-EE44-41A7-A203-FA807990B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8B79F-8BB9-4783-81E8-7811F04C8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5F8CA-1179-464F-BD3A-EFCEC701C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F6609-206E-441F-9171-D7FCCDDD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39A4D-8E11-456A-9D75-EA0438C94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D081-E11B-43A6-9EE8-3689B8C95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B5DDC-944E-45AC-A7AF-4EC9CD28E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88ABA-5A48-4131-919B-ACDFEBAB3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156EA-45D1-4DE0-8CE0-743DD8C47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82B9E-B6FC-4CC4-BDD7-A6FF188C9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6887B-A1A4-461F-BF2F-08C1B6886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4165-539B-458F-B00F-A163F305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F6F6-031A-4EF9-B272-58BD96267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37528-044D-4B14-92B5-A3F89AD52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F021-D791-414D-A772-DCC8D76C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F8AB-D8D7-45E6-8AA3-40654CFC5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C17E67CD-5355-48ED-AA2F-A1B05D1365F8}"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7812382-8603-45A1-A065-16D9D06C14AB}"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CE201C6-4AB6-41FF-9F38-7BE8F1C101DD}"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DB5C5E9-9967-444A-B5BA-CD3A2649AF1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E1C99D4-5CDA-42C5-996A-E3E31C10E5D8}"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51F0D2A-5FAC-49CE-BFFA-3D1DA98FF13F}"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95642B2-3787-4E3D-87D4-1255057E3265}"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9DF648D2-EF6A-4BBD-BFBB-CF4152EFBF3A}"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5C97F39-871D-4C66-AB92-2754CDC182D4}"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