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40945386"/>
        <c:axId val="16931986"/>
      </c:lineChart>
      <c:catAx>
        <c:axId val="4094538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16931986"/>
        <c:crosses val="autoZero"/>
        <c:auto val="1"/>
        <c:lblAlgn val="ctr"/>
        <c:lblOffset val="100"/>
        <c:noMultiLvlLbl val="0"/>
      </c:catAx>
      <c:valAx>
        <c:axId val="16931986"/>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40945386"/>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42684229"/>
        <c:axId val="1838626"/>
      </c:lineChart>
      <c:catAx>
        <c:axId val="42684229"/>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1838626"/>
        <c:crosses val="autoZero"/>
        <c:auto val="1"/>
        <c:lblAlgn val="ctr"/>
        <c:lblOffset val="100"/>
        <c:noMultiLvlLbl val="0"/>
      </c:catAx>
      <c:valAx>
        <c:axId val="1838626"/>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42684229"/>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42498437"/>
        <c:axId val="54838664"/>
      </c:barChart>
      <c:catAx>
        <c:axId val="42498437"/>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54838664"/>
        <c:crosses val="min"/>
        <c:auto val="1"/>
        <c:lblAlgn val="ctr"/>
        <c:lblOffset val="100"/>
        <c:noMultiLvlLbl val="0"/>
      </c:catAx>
      <c:valAx>
        <c:axId val="54838664"/>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42498437"/>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45975584"/>
        <c:axId val="69955931"/>
      </c:barChart>
      <c:catAx>
        <c:axId val="45975584"/>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69955931"/>
        <c:crosses val="min"/>
        <c:auto val="1"/>
        <c:lblAlgn val="ctr"/>
        <c:lblOffset val="100"/>
        <c:noMultiLvlLbl val="0"/>
      </c:catAx>
      <c:valAx>
        <c:axId val="69955931"/>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45975584"/>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37085922"/>
        <c:axId val="27591720"/>
      </c:lineChart>
      <c:catAx>
        <c:axId val="3708592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27591720"/>
        <c:crosses val="autoZero"/>
        <c:auto val="1"/>
        <c:lblAlgn val="ctr"/>
        <c:lblOffset val="100"/>
        <c:noMultiLvlLbl val="0"/>
      </c:catAx>
      <c:valAx>
        <c:axId val="27591720"/>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37085922"/>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B5560ED-44C3-4553-B5E7-AC4AD624A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0FEFD9E4-55E3-4930-9FEF-29A929484C07}"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7A351936-A205-4A44-81D8-BF6B8382CCA0}"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853ECEF8-5801-44F9-A5B2-123283E2E192}"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3B4686D8-0BFF-4B3B-BF93-AF51BF30621F}"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66177AFF-0A0C-4D85-8BD2-554F4C21CE5F}"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646717F7-B435-4AF4-A25F-6D316388E05B}"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F4BDFD56-ACFC-456A-AB65-D2C8E4ACB90D}"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338CE560-EF0F-468C-8B9A-7D9FEC89ABCF}"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EB126-831B-4B77-AF0B-1BF94E937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B5AA9-903D-4B9F-BC06-E46287DD3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D41C6-4633-43A1-8B03-07A0BE040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89CA5-9FAA-4F46-A843-A339D41BA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4C68F-729E-416B-AB82-9D8E05838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2DBFF-98D8-453C-93D3-9463C3EC6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979A1-05C3-4308-8A5E-F11DA201C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8BAEB-8755-46C2-BF77-C0422B33B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BAA89-E03B-4B7B-A3E6-5F7BD6FED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F027B-4883-4FE8-9FE9-02F424658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134EB-62E9-4DA5-9E7F-D82680F45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060E9-EDBA-4D91-85D1-F9C9F1180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CC843-58C5-44E6-9191-5F3938416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D863E-B900-470E-AAF1-4BDA05F97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29052-2BA0-49E1-999F-AEF1D394E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9FDDB-C0B9-429D-838E-65C85212E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4DEA0-FC7E-4757-A6DE-253D90F3E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1ED58-8DC1-4B05-85F8-5E2DA9148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E8948-CFC7-448E-A6DF-D12CE0BA2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D6F58-CF94-4826-A105-7FEEE4C58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F123D-F5B8-49A9-BB6D-32BE59F0E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E713E-6DCB-4EF7-9C25-4BC9EC0C9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813A-D061-4109-A83C-52BE01AC4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DC3D-0994-488F-AC7B-88F8ADF94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D1D4CADB-5D96-4D08-9BCD-92564A4FEBAB}"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E2329C99-642D-468E-BC51-FCF313265DD3}"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9C473ACB-DA91-498F-B252-574DFFA9592E}"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FA23A0DE-6672-4763-8075-B6EE6FA00C88}"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7F7C6229-EF55-42A9-8441-4CC62D64A730}"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4BCF2170-8D59-4279-9C32-39CE228721EC}"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F04CE07-28C9-47A4-A203-1C252027B571}"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6792EDA-5C09-4BB6-9B6C-66CAA2AB4F10}"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F4EE20C7-9965-4069-B7FD-074A91A5DA9D}"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