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8930523"/>
        <c:axId val="54818823"/>
      </c:lineChart>
      <c:catAx>
        <c:axId val="893052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54818823"/>
        <c:crosses val="autoZero"/>
        <c:auto val="1"/>
        <c:lblAlgn val="ctr"/>
        <c:lblOffset val="100"/>
        <c:noMultiLvlLbl val="0"/>
      </c:catAx>
      <c:valAx>
        <c:axId val="54818823"/>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8930523"/>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36425304"/>
        <c:axId val="31227802"/>
      </c:lineChart>
      <c:catAx>
        <c:axId val="3642530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31227802"/>
        <c:crosses val="autoZero"/>
        <c:auto val="1"/>
        <c:lblAlgn val="ctr"/>
        <c:lblOffset val="100"/>
        <c:noMultiLvlLbl val="0"/>
      </c:catAx>
      <c:valAx>
        <c:axId val="31227802"/>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642530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65287490"/>
        <c:axId val="14756188"/>
      </c:barChart>
      <c:catAx>
        <c:axId val="65287490"/>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14756188"/>
        <c:crosses val="min"/>
        <c:auto val="1"/>
        <c:lblAlgn val="ctr"/>
        <c:lblOffset val="100"/>
        <c:noMultiLvlLbl val="0"/>
      </c:catAx>
      <c:valAx>
        <c:axId val="14756188"/>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65287490"/>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98160212"/>
        <c:axId val="31358759"/>
      </c:barChart>
      <c:catAx>
        <c:axId val="98160212"/>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31358759"/>
        <c:crosses val="min"/>
        <c:auto val="1"/>
        <c:lblAlgn val="ctr"/>
        <c:lblOffset val="100"/>
        <c:noMultiLvlLbl val="0"/>
      </c:catAx>
      <c:valAx>
        <c:axId val="31358759"/>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98160212"/>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70850009"/>
        <c:axId val="83371677"/>
      </c:lineChart>
      <c:catAx>
        <c:axId val="70850009"/>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83371677"/>
        <c:crosses val="autoZero"/>
        <c:auto val="1"/>
        <c:lblAlgn val="ctr"/>
        <c:lblOffset val="100"/>
        <c:noMultiLvlLbl val="0"/>
      </c:catAx>
      <c:valAx>
        <c:axId val="83371677"/>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70850009"/>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CA74F79-AFB1-4B17-9A6A-20A42B779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9106B28E-5768-44AD-B409-CE2C7324553B}"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7B958F1-E23C-4396-8DD6-B5702C8EA937}"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94C31FA6-FC08-4083-96C9-88A8E51ED725}"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ED00995C-3ED0-4271-AA64-34C7B90DF3A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4812FED-0AC1-4EA4-A4CC-B0B818ECAF8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9602272-2B70-4065-890E-42B5C1960AB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E13C3ECF-C598-42F0-B112-3BEFB375A43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BB97625-F4C5-484C-9E0D-BD97CB2EAAA3}"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335B2-DB45-4BF1-97FB-183F69AB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D928-8BD1-4FAF-8AFE-9E663410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86A1E-6558-4D3A-8A8B-247B0252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471C-DF4D-4282-B41B-0BDF40C6C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FC62C-EDF2-4A8A-92AA-2DC6675BE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E0CB7-06AC-4BE0-A0A2-BDBC1F65B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3EF03-A069-4391-81D4-8E1DF46E6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A946D-3B43-488B-B6DC-3BB0981DF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5F3F2-DDE7-4619-855B-B962A4996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AACA3-5F41-4DC1-9265-B23091259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8AF57-DD99-4FA5-98C7-AF490E555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0CBEF-D91E-4A73-A01B-1D763EB2D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EC04-4409-4A4E-BFA7-CA93FC14F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9D40-926B-4116-890C-3FF1D29A5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1E29-8F97-4D39-A0B1-B16801516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88B1F-80D5-47AD-9084-4AB614113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E62EC-FD71-4731-B0BB-39B0266CC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7A388-AABD-48F3-9A6B-B603C15D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44F00-AB49-4A14-A039-E144DC97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B1532-92C5-4943-A0DC-EF8D8A7C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E522-28E1-4F3F-B892-B5919BD15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83C1-23A9-4BC2-A140-58FDB1D6F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762F-9AC9-43ED-B31D-4AC03F6F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C973-747C-4730-8CD5-215531771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74770C67-82B6-4AB1-B038-CC92136B4BB3}"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09219AC9-5B8A-489C-9F17-63539BDFC686}"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1C832559-65DC-4E8D-BAF3-7890ABA0EBC3}"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F9A17AE-9CF8-450D-B491-182DBCEE47E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23810E9-643E-4069-B1A7-3A330B974852}"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84B642D-8D6B-44E9-B08A-2C0E9AD6DE41}"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F5793D5-50E3-47D0-A4EF-9132E78CFD3D}"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11D8D2B-E9FE-4634-A5D5-A840D6C47D59}"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C5C06E4A-009F-4AEC-84A0-172B3C3A13AC}"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