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3824807"/>
        <c:axId val="77478128"/>
      </c:lineChart>
      <c:catAx>
        <c:axId val="382480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77478128"/>
        <c:crosses val="autoZero"/>
        <c:auto val="1"/>
        <c:lblAlgn val="ctr"/>
        <c:lblOffset val="100"/>
        <c:noMultiLvlLbl val="0"/>
      </c:catAx>
      <c:valAx>
        <c:axId val="77478128"/>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824807"/>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9879447"/>
        <c:axId val="48174138"/>
      </c:lineChart>
      <c:catAx>
        <c:axId val="987944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48174138"/>
        <c:crosses val="autoZero"/>
        <c:auto val="1"/>
        <c:lblAlgn val="ctr"/>
        <c:lblOffset val="100"/>
        <c:noMultiLvlLbl val="0"/>
      </c:catAx>
      <c:valAx>
        <c:axId val="48174138"/>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9879447"/>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57604899"/>
        <c:axId val="28946541"/>
      </c:barChart>
      <c:catAx>
        <c:axId val="57604899"/>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28946541"/>
        <c:crosses val="min"/>
        <c:auto val="1"/>
        <c:lblAlgn val="ctr"/>
        <c:lblOffset val="100"/>
        <c:noMultiLvlLbl val="0"/>
      </c:catAx>
      <c:valAx>
        <c:axId val="28946541"/>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57604899"/>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32522302"/>
        <c:axId val="9843629"/>
      </c:barChart>
      <c:catAx>
        <c:axId val="32522302"/>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9843629"/>
        <c:crosses val="min"/>
        <c:auto val="1"/>
        <c:lblAlgn val="ctr"/>
        <c:lblOffset val="100"/>
        <c:noMultiLvlLbl val="0"/>
      </c:catAx>
      <c:valAx>
        <c:axId val="9843629"/>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32522302"/>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32163744"/>
        <c:axId val="44069882"/>
      </c:lineChart>
      <c:catAx>
        <c:axId val="3216374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44069882"/>
        <c:crosses val="autoZero"/>
        <c:auto val="1"/>
        <c:lblAlgn val="ctr"/>
        <c:lblOffset val="100"/>
        <c:noMultiLvlLbl val="0"/>
      </c:catAx>
      <c:valAx>
        <c:axId val="44069882"/>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32163744"/>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68E09CF-3D14-43F8-8B9A-83E64A958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C219E37-2516-4132-97BD-71C0662EF4B2}"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D89130C-CFF1-445D-A63E-E1EABFFEF1B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84F5848-824F-4262-BEFD-94600E9DE90C}"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75EC01A-A6E8-4767-88C0-F0063BBCF5E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0667103-AA07-4E4F-B9A0-529622CF810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906F819-0E9E-425F-A985-655753657A6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EC1A1EB-A80C-4F41-B7F1-B0E2E2E2934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E7F14BB9-241B-48AA-9E28-03DA7C29F0BE}"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30E4F-876A-4D6F-9D73-8FB2B238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945A-F479-46FD-856D-5290C7F1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BBF54-00C1-42C4-A5D8-7E6EB9D43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E9309-71A7-4819-A2F4-7BFF69B38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5F9D3-9398-4259-A7E7-0EC455DB7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962F2-2493-4A69-BCA8-9C48779B2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7C44F-C828-49C3-B91D-2A32EB2E4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FE20C-6826-40A2-80C3-79FC1EB95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F3CD9-827A-43C8-B7B5-FBB8E6992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04F92-9090-4FC6-9B02-64E4C11EB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D20AC-9013-41A1-A2E8-2E377653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B3800-0A95-467E-9028-E20304B4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D498C-87CE-4D51-BC45-1AAA3D268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6EA1-74CE-47AB-A581-AAEA49F5B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B49F-D4B6-4842-B632-DC85B00D4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98871-88CA-498C-A17A-793161377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E93E3-7049-43A3-9C57-C52F2D8BC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104BF-C217-4ED8-A72E-9DC128CC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E2D53-354C-4F6C-B905-EDCB12865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F1DBA-DB6E-4DB3-B353-29DB7716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4020-D9F0-4409-B37D-7DB5F7C0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4E3C-45AE-46A4-8D9E-B339CACC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1E24-6F29-436A-ACB8-C3D5C934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B9912-96C1-42F1-ACC7-101232874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58CFFFF-3C46-4B10-9C74-3E0DDAB9E3B0}"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E92E5A0-9170-4EEE-92CF-358232FF1E5D}"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57A648C-D1BA-4C0B-B424-02511A1FE706}"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52E8906-6C46-44CA-80CF-123EE98ADC4C}"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EC6F5C2-2B0F-4E76-AB78-E923FC319A6F}"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F92335F-167D-4F46-8D8E-DA1B11CC0FEC}"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66821EB-BADF-4A43-AC19-8F096249E3DC}"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6136BAA-E506-40E5-B8B2-97BB24AE6461}"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ABBE4E7-A295-4746-A8A2-79CB7078A315}"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