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E2080-6B33-4271-B467-2797B271D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0D88-77AE-4C07-A39C-FDCEA96D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530FD-2F3D-4503-9D78-BFC1FFDDE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AB104-0645-47E5-97BF-4185DA8F9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B77B3-4E5D-42A1-BE62-FC6204784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95B9C-743A-45DF-8817-C41D65338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801D-F416-4AA3-84E1-F12ED3E7C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754A9-2289-4065-A58E-BA33CBD75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D5FEE-B971-4A09-816E-D9AD0871F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DD898-2A16-45BE-AAAE-D53E065F8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5C9E4-A131-4CB5-8E07-DA9D3B4C0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CDA6F-6A89-4436-8619-7F99CA8E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31C0-9A31-4C43-82EA-72DA5C847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16098-C8F1-4AAA-8064-01E992231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06814-7E6F-4122-B717-15DD568AB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6C015-11CF-47C3-9CAA-E7B7FB949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BB7E3-6015-479B-9A5B-F170ADDF7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ED28BE-3785-46B9-B917-2A216AD22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FCE64-9353-4A40-9841-65661B1DC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2E92A-F5EB-4CED-B1DB-4919FAACE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98A35-BAF8-48D0-8838-99843FC73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CC597-E66C-40A2-98C1-7BC8A51BE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7F0C7-D91F-4AB3-BD65-36762075F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66D32-DF3A-4EB5-B11F-2760F7253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35A0C-9E43-4EC8-BD84-B13189FC7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76221-E4EE-4CB0-A1C5-CA8369655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0F279-C9E5-4663-9E7B-BD73D872E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2B34-3179-468F-81DB-BC68419F9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13D37-7AE0-4D5B-8A55-14E7C4C78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2A90A-BF5C-41A6-A2BE-A9CA7EF40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D5667-B7E2-49F5-A3E4-DBAABA06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BE35-C641-4814-9400-DF833B2A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9982-2A29-4DF1-8976-F1CEE9A6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6B217-E5A3-4DA4-9E54-CE5FD234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56D2-CFA4-4511-8198-CD8ADF053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AF96-2ED3-4C63-8158-95C3C183D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822C51C-8B44-4AFF-BB9D-3ACBEB5E7158}"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D54EC883-FEEC-4401-B724-D105ECD24CF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7C8BCF9-77E8-431C-8930-B753CA942A60}"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F08309F-773E-4241-8463-C01117F3507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735923D1-1314-4A5E-A705-931DDF92F363}" type="datetime">
              <a:rPr b="1" lang="en-US" sz="900" spc="-1" strike="noStrike">
                <a:solidFill>
                  <a:srgbClr val="898989"/>
                </a:solidFill>
                <a:latin typeface="Arial"/>
              </a:rPr>
              <a:t>07/30/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2CFEB092-1475-4C26-B3A2-3B5569A455C7}"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2BF58F9-EABC-48DB-9D01-8BA7CAE2FA8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21681CE-4C64-4751-9B65-4FC9B7F2242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8DDEBB1-12DD-4C8D-A3BA-1D567022CD6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0305109-263D-4C15-B36D-6898317BE5D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