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F0FC9-E5D7-4248-9C31-587E7E37C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AE04C-EEB8-4E4F-A7BB-6AE3DCF8D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6D406-0AFF-431A-9654-A9EDCE46B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3E681-FD29-4C74-AD60-8478CBF04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00BFD-9143-47A8-AEB2-8CA2351A0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BE5CF-2125-462E-931F-5E882F062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B220A-C9ED-4F77-A89D-DDC43455E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E27E1-FD20-46F9-B407-E65D3F44A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0101E-5C6B-40B9-9D15-4576DD14E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04F05-C103-45A0-872B-841DBE850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D07A9-ACA8-455D-8875-40AD00E0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292E0-2277-4B86-A935-25D402D2B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AA5C5-D748-426E-90BE-77CD36D5D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84865-E33A-4727-969E-23521A6CB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C87AB-638A-4403-97C9-B4492A708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F7165-B45B-4B7C-B1E3-CB9E00DA7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A26E6-4686-45FF-97B4-286DDE06F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8663A-F023-4295-8F8E-A68701DFEF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C080E-5B1A-4B38-896A-444B99488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A4963-DE0F-4F17-A6E3-9A66C3A2B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D9CAD-6315-43DC-9FFE-C0CE98CA6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A205B-DEA1-44ED-AA74-1DFD68B1C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B5151-3301-4745-B3A0-39C8D8FDC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94E42-31F4-4FB5-AE59-DCACF7105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5C28A-EC4D-4396-A7B1-77FE45177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B94FC-4857-42C7-9667-4A04B8A04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E3F94-19E8-4A93-B743-0AB1C2AD3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5976D-435A-4EAB-89B9-23DDCDCA6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073611-824B-4777-8EFA-BD8AC968C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66F4B7-D938-4057-A1AA-7849E15EAB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DD7EB-0CA5-4182-A8A0-4A7CF9A5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D8C9E-49CD-40C2-BDB3-73D1455AD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71C2F-068E-4BDA-A412-9DC73227E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289F8-F99E-484F-8551-2FB275AFE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CA4F-2C6B-498C-8CD5-D849DDB34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5292-6EC2-4CFC-A9EE-4D1918AAF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EBBDCE40-E481-4554-AA5D-04AFF88E37A7}"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97921AA9-09DF-4914-AEB8-DC2A5FCC1A3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1EE15C2-A716-422B-97CC-783A73B89D0D}"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899B574-D463-4733-84B0-41432A247A7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B2594830-7CE9-4FE6-9389-4C7863B8322A}" type="datetime">
              <a:rPr b="1" lang="en-US" sz="900" spc="-1" strike="noStrike">
                <a:solidFill>
                  <a:srgbClr val="898989"/>
                </a:solidFill>
                <a:latin typeface="Arial"/>
              </a:rPr>
              <a:t>07/29/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B9572830-EF7A-4A1D-B8F3-45E26FEE799A}"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0226B1B-E11F-4FD1-AE1B-A1563FD005C3}"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9E18BF5-E2D8-45D0-9FCC-D9B131F121F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B213BBF-C36F-48E5-BABD-17C8BEF0B19E}"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078EB82-521F-4CC6-9DFC-36B43F06A36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