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572E3-2B60-46BB-80C6-EE23ACD36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8F7D-BE57-4F4D-87F3-9D6DFBB7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37CC3-F5E8-440C-9BC0-3190694EC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99B67-7FE8-44EE-9732-9190EBCAD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214E1-AFBE-4B9E-AB69-9DC912825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259BF-1A97-49E0-88FD-710D56778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C8758-AA08-4611-9C35-AFDD2E3F8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92601-9533-4A5E-BA7F-6F7DB52A5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73DD4-D0B1-447B-8E99-72D25A743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5A597-864E-4509-B53B-1D7FC6EA4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56C6F-7CDF-42D2-BB69-015B30BBC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B1F0-E6CF-485C-B88A-2339E6849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2A313-7169-42B1-9D66-FFC54DB7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8CD07-AC7C-4305-BB42-C2480633D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67EC6-35B9-4981-B870-84EE5DBC3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A5D50-743C-41F9-BBCF-CF8FE64EE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4E079-8057-46EC-87F5-1B2329269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1ABD04-99FE-458B-AA5D-4F9452A1B7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9E361-54CF-42D7-8D35-D9FD2E129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7B197-1EF2-4D87-AFD9-91CAED4D3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1525E-B7A9-453C-AF6B-7EBF52A6A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3C0CC2-531D-4752-81A8-8C1C8C4DA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44A6-5710-4C1B-B2F7-5AFDC3CA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AC157-960F-48EB-BE2D-F03AF4BAF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F0013-1374-4B46-9BA8-2D59B26AD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08BB7-B4D7-48A6-8EA3-893E2EB69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DCE60-4707-467F-8643-D9CE2D4E8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B1F71-CDE0-4C0D-856C-0A7C69BA7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1CD7A8-2CCD-470B-98C1-159BE5BAA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A34FA-61D8-42F8-A417-EAEA374BE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881E6-B45F-430D-991A-7EF35D4E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EA4B5-2952-464E-86BA-34E53CFA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272D4-0E99-48AC-91A3-B36C87453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9894-2094-4DF9-A3E7-9D8023D6D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4ADE-6570-4A08-997F-B1643B3F8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DE72-45E5-440C-BBF2-78A6BD97B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2DDAE95C-D418-4428-9EC1-45B55F2B1873}" type="datetime">
              <a:rPr b="0" lang="en-US" sz="900" spc="-1" strike="noStrike">
                <a:solidFill>
                  <a:srgbClr val="898989"/>
                </a:solidFill>
                <a:latin typeface="Calibri"/>
              </a:rPr>
              <a:t>07/31/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7F5B93FE-A5B9-4ECA-971F-7CBA7F84692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C58EE89-858B-4293-A3AF-B67FBAF8C787}" type="datetime">
              <a:rPr b="0" lang="en-US" sz="900" spc="-1" strike="noStrike">
                <a:solidFill>
                  <a:srgbClr val="898989"/>
                </a:solidFill>
                <a:latin typeface="Calibri"/>
              </a:rPr>
              <a:t>07/31/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7B9E6A4-1D94-4AB5-A3FB-E6528A84D6E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23306D18-4881-496A-903C-21DB199A5FB4}" type="datetime">
              <a:rPr b="1" lang="en-US" sz="900" spc="-1" strike="noStrike">
                <a:solidFill>
                  <a:srgbClr val="898989"/>
                </a:solidFill>
                <a:latin typeface="Arial"/>
              </a:rPr>
              <a:t>07/31/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4662682-E38C-41E3-BA5A-C5BFA297FAFF}"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ADF9F0C0-F509-4C37-AF28-686FDB71889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9B395A0B-67A1-4F8B-85A6-6F74A141864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C846B1CF-4CB3-456D-A746-CE61579591E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C6B7ECC1-E7B3-4BFC-9278-DA4489F29FF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