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64C0-EDAC-4791-BA28-DD7F39E3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4FDC-91A6-484E-B972-DE0FFD98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A34E-5D09-475A-A23D-A2EA2FDE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88D1-DF24-4423-9C57-A4013E33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35A0-B19B-4F89-8381-5AC50ACD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FE65-46F1-4B2D-B753-C3E20C8A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8E93-E964-43D3-A503-7000540D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BFC3-9571-4E95-8877-B60F6908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3089-A876-48E0-AFDD-4E2A44DE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39A-FCA0-40B5-9068-B7A69221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55E2-8B4E-4C06-BDF0-41AC22AA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19C3-72A0-4289-9CBF-9D8183B4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B864-8C85-454B-B5EC-E9B3FF92844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FE9D7D9-474F-4669-9222-7E4A84910369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:0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951880" y="6326280"/>
            <a:ext cx="27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vember Financial Plan 2006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22A3-7CB3-4FF8-B479-83637508656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25320" y="63421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70280" y="6324480"/>
            <a:ext cx="301680" cy="33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2360" y="54230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vember 16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MTA 2006 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6600"/>
                </a:solidFill>
                <a:latin typeface="Arial"/>
              </a:rPr>
              <a:t>November Financial Plan 2006 –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d4d4d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30B0-829F-45DA-83CF-38ACEF302418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E34E7-68D2-4FFF-9DDF-601BF1233479}" type="datetime8">
              <a:rPr lang="en-US"/>
              <a:t>07/30/26 01:03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52320" y="1409760"/>
          <a:ext cx="7772400" cy="458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409760"/>
                    <a:ext cx="777240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640" y="366480"/>
            <a:ext cx="82663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Policy and Gap Closing Action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630-0313-433F-B4DC-33B13F130354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AEEDF-0781-49C2-9963-EF7769042C42}" type="datetime8">
              <a:rPr lang="en-US"/>
              <a:t>07/30/26 01:03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520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 Closing Actions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2560" y="1566720"/>
          <a:ext cx="776916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566720"/>
                    <a:ext cx="77691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865080" y="5792760"/>
            <a:ext cx="68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Includes additional 5% revenue increases in 2007 and 2009, consistent with prior pla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1416-16DD-4681-AB1A-2AAFC0159DC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7FB1E-A657-46B8-B9A8-8A843A1FD6C4}" type="datetime8">
              <a:rPr lang="en-US"/>
              <a:t>07/30/26 01:03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74680" y="1400040"/>
          <a:ext cx="86122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1400040"/>
                    <a:ext cx="86122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228240"/>
            <a:ext cx="7850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ebruary vs. July Pla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s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Gap Closing and Other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976320" y="5450040"/>
            <a:ext cx="9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5440" y="5451480"/>
            <a:ext cx="96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87880" y="5465880"/>
            <a:ext cx="10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15160" y="5451480"/>
            <a:ext cx="10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48480" y="5443560"/>
            <a:ext cx="10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69F0-8A1D-425E-A5DE-DD9D79064D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5F99D-927E-4071-86BC-F3DAD6A752DA}" type="datetime8">
              <a:rPr lang="en-US"/>
              <a:t>07/30/26 01:03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893960" y="2084400"/>
          <a:ext cx="5357880" cy="360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084400"/>
                    <a:ext cx="535788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4120" y="366480"/>
            <a:ext cx="833112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ree Main Driv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Baseline Net Improv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rom February Plan to July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FD9E-AB20-45D0-AA5C-B8B5F2B5DC2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AC26D-AB0A-4C64-AD4E-3332BFBF3FCB}" type="datetime8">
              <a:rPr lang="en-US"/>
              <a:t>07/30/26 01:0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96960" y="1407960"/>
          <a:ext cx="7707240" cy="42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1407960"/>
                    <a:ext cx="770724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8840" y="366480"/>
            <a:ext cx="84121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n-Recurring Portion of the 2005 Surplu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5A7B-E635-4877-AEB9-C0F7A0C8074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371AB-480F-43A3-BA32-7E14B87A714C}" type="datetime8">
              <a:rPr lang="en-US"/>
              <a:t>07/30/26 01:03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Gap Closing and Other Actions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71400" y="1600200"/>
          <a:ext cx="776916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600200"/>
                    <a:ext cx="77691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865080" y="5826240"/>
            <a:ext cx="68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Includes additional 5% revenue increases in 2007 and 2009, consistent with prior pla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D44-CD94-46BC-8DCD-73D1CE718B5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78153-E980-43A1-A1D1-905513D5C0C1}" type="datetime8">
              <a:rPr lang="en-US"/>
              <a:t>07/30/26 01:03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06560" y="1684440"/>
          <a:ext cx="7097760" cy="282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684440"/>
                    <a:ext cx="70977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of Non-Recurring Fund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4D51-C67A-4FD7-83F1-9D57F6EE4B4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B662B-79F4-4A96-8F75-4C296C81FC2A}" type="datetime8">
              <a:rPr lang="en-US"/>
              <a:t>07/30/26 01:03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98040" y="368280"/>
            <a:ext cx="7759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005 Monthly Real Est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action Tax Receipts*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90480" y="1219320"/>
          <a:ext cx="78138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219320"/>
                    <a:ext cx="78138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100160" y="5843520"/>
            <a:ext cx="718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cludes State MRT and 90% of Urban Tax (excludes paratransit and CDOT portions).  Additional 1/8% in MRT-1 rate is reflected in Mid-Year Update forecast and Actual beginning with July cash, but is not reflected in Adopted Budget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7CE4-4F48-40AC-974E-55B88FA5DAC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15D60F-11BE-4B5A-BEC3-141F8653C949}" type="datetime8">
              <a:rPr lang="en-US"/>
              <a:t>07/30/26 01:03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11120" y="1889280"/>
          <a:ext cx="8309160" cy="345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89280"/>
                    <a:ext cx="830916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sons for Baseline Net Improv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705C-E715-41EB-A383-3D15144D3C6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88343-56A7-4616-B965-97396D3388BC}" type="datetime8">
              <a:rPr lang="en-US"/>
              <a:t>07/30/26 01:03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5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commend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the Non-Recurring $700 mill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9240" y="1433520"/>
            <a:ext cx="795636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 Needs in MTA Capital Security Program ($10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Agency Service Enhancemen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$5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Half Fare Initiative and Holiday Promotions ($50 million in 2005 / $50 million in 2006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Unfunded Pension Liabilities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$45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29A5-ECBE-4CF2-AB44-988BA95A00A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32910-AF97-405F-8D05-AE6701B58659}" type="datetime8">
              <a:rPr lang="en-US"/>
              <a:t>07/30/26 01:03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5-11-16T16:48:21Z</dcterms:modified>
  <cp:revision>643</cp:revision>
  <dc:subject/>
  <dc:title>Preliminary 2005 Budget and Financial Plan</dc:title>
</cp:coreProperties>
</file>