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CC9-61DD-4130-9C84-8EDC4C91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0FC-F01C-4A87-BDC7-4B1664F5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A55-5026-4463-8F40-FFBB6B9D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9F1-7099-42EF-8079-FEC2C970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747-9042-4495-B09D-1C13A6B3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45A-A79E-4B2D-B7A8-06CDCB3F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631-99A7-4A1D-BA5A-390AD4EC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561-0176-4D6B-AB0D-E78B9264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7AE-A754-4FC8-AEE6-7E844EF7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796-71CE-458E-A3AC-33D3AE77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C52-0E51-4E10-B565-E029369E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129-4225-420F-86FD-3B523288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BEA3-F6BE-416B-95A1-E191F4FA58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E3CB996-6348-446E-94EC-76A92E0B4CBB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5188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A73D-E874-4884-979A-A09E4C91BE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320" y="63421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0280" y="6324480"/>
            <a:ext cx="3016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360" y="5423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6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6 –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453-896A-4C17-B248-71A68E9C07AB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6013F-7A39-4E69-B46A-56A394759A2D}" type="datetime8">
              <a:rPr lang="en-US"/>
              <a:t>07/30/26 12:14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2320" y="1409760"/>
          <a:ext cx="77724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09760"/>
                    <a:ext cx="77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366480"/>
            <a:ext cx="82663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BA0-FA20-47EB-BE56-1B0528074C5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AC2B4-57FE-4CE1-BF17-7A87786C6CD4}" type="datetime8">
              <a:rPr lang="en-US"/>
              <a:t>07/30/26 12:14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 Closing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2560" y="156672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6672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65080" y="579276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13B-E2AC-42F5-BC8F-DE29BC80CC9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038AF-4F5C-4FF4-B2BF-C388C2AAD095}" type="datetime8">
              <a:rPr lang="en-US"/>
              <a:t>07/30/26 12: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74680" y="1400040"/>
          <a:ext cx="8612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400040"/>
                    <a:ext cx="8612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228240"/>
            <a:ext cx="7850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bruary vs. July Pl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5450040"/>
            <a:ext cx="9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5440" y="5451480"/>
            <a:ext cx="9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7880" y="54658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5160" y="54514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8480" y="544356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105-95FE-4DE7-9EBE-DAD128CA24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96708-135D-4EA7-A01B-A81031AA0260}" type="datetime8">
              <a:rPr lang="en-US"/>
              <a:t>07/30/26 12:14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93960" y="2084400"/>
          <a:ext cx="5357880" cy="36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084400"/>
                    <a:ext cx="53578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66480"/>
            <a:ext cx="8331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ree Main Driv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Baseline Net Impr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om February Plan to July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6E8-CE3D-4367-9EB2-E330219A985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FDE03-4F9C-43ED-9930-2F6335224E17}" type="datetime8">
              <a:rPr lang="en-US"/>
              <a:t>07/30/26 12:14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6960" y="1407960"/>
          <a:ext cx="770724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07960"/>
                    <a:ext cx="770724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366480"/>
            <a:ext cx="8412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Recurring Portion of the 2005 Surplu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32E-4F4F-498E-A4CE-567C184E222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C7E59-E135-4ABA-B2E1-2C93CE5F00DA}" type="datetime8">
              <a:rPr lang="en-US"/>
              <a:t>07/30/26 12:1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1400" y="160020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60020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5080" y="582624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697-272B-4446-AB0E-5A9DEE92686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A5ED3-0B8F-4BD7-A099-6695BA227EDD}" type="datetime8">
              <a:rPr lang="en-US"/>
              <a:t>07/30/26 12:14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6560" y="1684440"/>
          <a:ext cx="709776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84440"/>
                    <a:ext cx="70977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of Non-Recurring Fund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0D8-DCA6-46FC-B31B-FBA8E564943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19123-6886-4421-8FE1-5383154039A3}" type="datetime8">
              <a:rPr lang="en-US"/>
              <a:t>07/30/26 12:14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8040" y="368280"/>
            <a:ext cx="7759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5 Monthly Real E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Tax Receipts*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0480" y="1219320"/>
          <a:ext cx="78138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219320"/>
                    <a:ext cx="7813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0160" y="5843520"/>
            <a:ext cx="718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s State MRT and 90% of Urban Tax (excludes paratransit and CDOT portions).  Additional 1/8% in MRT-1 rate is reflected in Mid-Year Update forecast and Actual beginning with July cash, but is not reflected in Adopted Budget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90C-7CCC-4D3A-8C07-E38B4B175A1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F265B-A065-4D84-A4C7-F622DD2F67D2}" type="datetime8">
              <a:rPr lang="en-US"/>
              <a:t>07/30/26 12:14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1120" y="1889280"/>
          <a:ext cx="830916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89280"/>
                    <a:ext cx="83091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41C-9476-4ED5-BF8F-7752035A558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BBB07-0146-44F3-B4AC-450E76E00157}" type="datetime8">
              <a:rPr lang="en-US"/>
              <a:t>07/30/26 12:14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Non-Recurring $700 mill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9240" y="1433520"/>
            <a:ext cx="79563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Needs in MTA Capital Security Program ($10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gency Service Enhance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Half Fare Initiative and Holiday Promotions ($50 million in 2005 / $50 million in 2006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Unfunded Pension Liabilit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4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AEE-A3B5-4DB3-A6FE-EDBB737B80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D15EE-CA34-4D3C-A3D0-47791B37B2C6}" type="datetime8">
              <a:rPr lang="en-US"/>
              <a:t>07/30/26 12:14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5-11-16T16:48:21Z</dcterms:modified>
  <cp:revision>643</cp:revision>
  <dc:subject/>
  <dc:title>Preliminary 2005 Budget and Financial Plan</dc:title>
</cp:coreProperties>
</file>