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C355-4B6B-41F7-888D-635A8F25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0235-3172-4CE1-A0F2-541E4C57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83D8-2240-4298-938C-4404CB18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E4F-0A01-4CB0-A524-DFFEE681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8B4E-ACBD-43CB-931E-9C267EEE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D21C-D28E-4B70-B1FE-284C3938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FD43-3849-424F-8A8A-802D3262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B72D-F4B8-4EEA-866D-EFBBCE8A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8296-4997-4B66-B7B8-4E547C44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1B1E-EEE5-4695-8F22-B1D4D354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209C-B59F-4D5D-9928-F655B71C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3325-7A73-49DA-8EFE-C590D0C3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F0F1-D166-4327-826D-3BA5A2FF761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CE765DD-BD73-4EBE-BB18-58BC97BC83F8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:4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951880" y="6326280"/>
            <a:ext cx="27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vember Financial Plan 2006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D8F5-3031-4BC8-B580-E11E2E84998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25320" y="63421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70280" y="6324480"/>
            <a:ext cx="301680" cy="33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2360" y="54230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vember 16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MTA 2006 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6600"/>
                </a:solidFill>
                <a:latin typeface="Arial"/>
              </a:rPr>
              <a:t>November Financial Plan 2006 –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d4d4d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DB7-ECAE-4D8B-A03F-72F2B5374815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5BEA3-144B-448F-8547-B9A7EFBA7B11}" type="datetime8">
              <a:rPr lang="en-US"/>
              <a:t>07/29/26 21:49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52320" y="1409760"/>
          <a:ext cx="7772400" cy="458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409760"/>
                    <a:ext cx="777240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640" y="366480"/>
            <a:ext cx="82663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Policy and Gap Closing Action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B854-DEFA-4284-9A43-3EF948E124C4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60791-4A45-49BE-88D5-4698313D2DB3}" type="datetime8">
              <a:rPr lang="en-US"/>
              <a:t>07/29/26 21:49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520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 Closing Actions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2560" y="1566720"/>
          <a:ext cx="776916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566720"/>
                    <a:ext cx="77691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865080" y="5792760"/>
            <a:ext cx="68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Includes additional 5% revenue increases in 2007 and 2009, consistent with prior pla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873B-F492-448C-A54A-5192701CBB4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E9FAD-0156-449D-96BD-5F98C6BD09A6}" type="datetime8">
              <a:rPr lang="en-US"/>
              <a:t>07/29/26 21:4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74680" y="1400040"/>
          <a:ext cx="86122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1400040"/>
                    <a:ext cx="86122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228240"/>
            <a:ext cx="7850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ebruary vs. July Pla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s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Gap Closing and Other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976320" y="5450040"/>
            <a:ext cx="9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5440" y="5451480"/>
            <a:ext cx="96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87880" y="5465880"/>
            <a:ext cx="10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15160" y="5451480"/>
            <a:ext cx="10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48480" y="5443560"/>
            <a:ext cx="10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51F9-428C-42F1-9CE6-75B0E82A3B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E20AE-4178-4FA2-AB48-5663E6C84345}" type="datetime8">
              <a:rPr lang="en-US"/>
              <a:t>07/29/26 21:49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893960" y="2084400"/>
          <a:ext cx="5357880" cy="360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084400"/>
                    <a:ext cx="535788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4120" y="366480"/>
            <a:ext cx="833112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ree Main Driv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Baseline Net Improv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rom February Plan to July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9429-5910-4123-B5D0-63EFFFA3018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E3AF7-79D3-48F3-925A-1712FBA93511}" type="datetime8">
              <a:rPr lang="en-US"/>
              <a:t>07/29/26 21:49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96960" y="1407960"/>
          <a:ext cx="7707240" cy="42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1407960"/>
                    <a:ext cx="770724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8840" y="366480"/>
            <a:ext cx="84121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n-Recurring Portion of the 2005 Surplu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3B0F-70C4-40BD-9E96-07CEB0B803E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A3A84-DB58-4A15-AF27-28E5D2045E51}" type="datetime8">
              <a:rPr lang="en-US"/>
              <a:t>07/29/26 21:49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Gap Closing and Other Actions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71400" y="1600200"/>
          <a:ext cx="776916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600200"/>
                    <a:ext cx="77691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865080" y="5826240"/>
            <a:ext cx="68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Includes additional 5% revenue increases in 2007 and 2009, consistent with prior pla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7929-5B05-4D66-9DBD-7921A955101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8C487-0358-424D-BA07-1456AEC5E2A1}" type="datetime8">
              <a:rPr lang="en-US"/>
              <a:t>07/29/26 21:49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06560" y="1684440"/>
          <a:ext cx="7097760" cy="282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684440"/>
                    <a:ext cx="70977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of Non-Recurring Fund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85D9-105F-47CA-9E2D-744DBC26207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FBBE7-B959-497E-911D-122B20DCE91D}" type="datetime8">
              <a:rPr lang="en-US"/>
              <a:t>07/29/26 21:49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98040" y="368280"/>
            <a:ext cx="7759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005 Monthly Real Est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action Tax Receipts*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90480" y="1219320"/>
          <a:ext cx="78138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219320"/>
                    <a:ext cx="78138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100160" y="5843520"/>
            <a:ext cx="718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cludes State MRT and 90% of Urban Tax (excludes paratransit and CDOT portions).  Additional 1/8% in MRT-1 rate is reflected in Mid-Year Update forecast and Actual beginning with July cash, but is not reflected in Adopted Budget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4454-6E57-47FE-906D-2B4B9D0FB0B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60FF6-5140-491B-A9FC-8FC13139D54B}" type="datetime8">
              <a:rPr lang="en-US"/>
              <a:t>07/29/26 21:49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11120" y="1889280"/>
          <a:ext cx="8309160" cy="345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89280"/>
                    <a:ext cx="830916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sons for Baseline Net Improv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ABBD-BEA6-4BBA-A185-8006585F387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47F3E-111F-4E6E-A1E5-D338AC6EF79B}" type="datetime8">
              <a:rPr lang="en-US"/>
              <a:t>07/29/26 21:49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5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commend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the Non-Recurring $700 mill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9240" y="1433520"/>
            <a:ext cx="795636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 Needs in MTA Capital Security Program ($10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Agency Service Enhancemen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$5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Half Fare Initiative and Holiday Promotions ($50 million in 2005 / $50 million in 2006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Unfunded Pension Liabilities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$45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3708-030F-40D7-8A7C-0E7A653995D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7043D-BF40-42CB-AB8E-0EC429052356}" type="datetime8">
              <a:rPr lang="en-US"/>
              <a:t>07/29/26 21:4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5-11-16T16:48:21Z</dcterms:modified>
  <cp:revision>643</cp:revision>
  <dc:subject/>
  <dc:title>Preliminary 2005 Budget and Financial Plan</dc:title>
</cp:coreProperties>
</file>