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7E2-AFBA-4715-9A6F-7FD25ADC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4C9-8B31-449A-A731-00485337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E4B-E886-4C2F-B1D2-83D52BAA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9FB-3133-49C1-AFD2-D02A569D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CBF-3CF2-41F4-A722-196416A2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8825-A44A-4434-A6BC-A0139371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FF6-AF69-4B2C-BB18-F679407A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6F3-4706-4B89-B051-5F2CBDC8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DE9-0D03-45CC-AB1C-636BBDE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9EF-5378-41AF-8008-0505B97D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848-9258-4D18-896A-C1494F81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95C-5C2D-4ABE-B744-DB9034F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6D8B-3B84-444A-A5A7-6EBD945F4C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05E0A41-FB4F-4769-A017-43A425E6BC15}" type="datetime10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:4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5188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6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B3D2-6FAA-46A0-B95E-39DEF36A54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25320" y="63421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0280" y="6324480"/>
            <a:ext cx="3016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2360" y="5423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November 16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MTA 2006 </a:t>
            </a:r>
            <a:br>
              <a:rPr sz="4800"/>
            </a:br>
            <a:r>
              <a:rPr b="0" lang="en-US" sz="4800" spc="-1" strike="noStrike">
                <a:solidFill>
                  <a:srgbClr val="006600"/>
                </a:solidFill>
                <a:latin typeface="Arial Black"/>
              </a:rPr>
              <a:t>Final 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6600"/>
                </a:solidFill>
                <a:latin typeface="Arial"/>
              </a:rPr>
              <a:t>November Financial Plan 2006 –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d4d4d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F81-1B76-48CD-BC81-BE038469D5A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49F2D-BEAA-48F0-98C4-8B4FEF33F71F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52320" y="1409760"/>
          <a:ext cx="7772400" cy="458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09760"/>
                    <a:ext cx="777240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366480"/>
            <a:ext cx="82663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B8F-0635-4E3B-9264-544179A1050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D869C-AA9B-4EC0-8CD3-DEA1656A8DC0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 Closing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2560" y="156672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6672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865080" y="579276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5BE-F8BA-4B94-AB21-2142A4031C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388F9-72CA-4A92-9367-3CC6A38411B9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74680" y="1400040"/>
          <a:ext cx="86122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400040"/>
                    <a:ext cx="86122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228240"/>
            <a:ext cx="78501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ebruary vs. July Pl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s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976320" y="5450040"/>
            <a:ext cx="9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5440" y="5451480"/>
            <a:ext cx="96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7880" y="5465880"/>
            <a:ext cx="10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15160" y="545148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8480" y="5443560"/>
            <a:ext cx="10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B6C-F657-45EE-A726-76052F223E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2AF2A-C612-4BAE-B0C9-F99C5F24B843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93960" y="2084400"/>
          <a:ext cx="5357880" cy="36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084400"/>
                    <a:ext cx="53578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4120" y="366480"/>
            <a:ext cx="833112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ree Main Driv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Baseline Net Impr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om February Plan to July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8B4-F7BB-4660-B039-4FA722A4BC7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11023-F565-4478-AEE9-6F3557F76E5D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6960" y="1407960"/>
          <a:ext cx="770724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07960"/>
                    <a:ext cx="770724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366480"/>
            <a:ext cx="84121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n-Recurring Portion of the 2005 Surplu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35A-C557-421B-96D0-CF11D4149A2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63E5A-F089-420A-9E62-D88E3E08A42C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Gap Closing and Other Actions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71400" y="1600200"/>
          <a:ext cx="776916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600200"/>
                    <a:ext cx="77691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5080" y="5826240"/>
            <a:ext cx="686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Includes additional 5% revenue increases in 2007 and 2009, consistent with prior pla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FA8-0727-47C4-A010-C2FDBA09F5D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7EE6C-706F-446F-B000-FCA71EEBBB83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6560" y="1684440"/>
          <a:ext cx="7097760" cy="28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684440"/>
                    <a:ext cx="70977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of Non-Recurring Fund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5A4-DAB1-4442-B6FD-8008BC6E7E3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B044A-7EEE-47E7-A1A8-53A77013DFAB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98040" y="368280"/>
            <a:ext cx="7759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05 Monthly Real E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action Tax Receipts*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90480" y="1219320"/>
          <a:ext cx="781380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219320"/>
                    <a:ext cx="781380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100160" y="5843520"/>
            <a:ext cx="718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cludes State MRT and 90% of Urban Tax (excludes paratransit and CDOT portions).  Additional 1/8% in MRT-1 rate is reflected in Mid-Year Update forecast and Actual beginning with July cash, but is not reflected in Adopted Budget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663-8456-4E22-8381-FA37F971488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20151-1073-47D4-A0B1-B0F2E4985057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11120" y="1889280"/>
          <a:ext cx="8309160" cy="34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889280"/>
                    <a:ext cx="83091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0EB-A791-457B-986E-C644AC9F14F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6FACE-8ABE-4A41-9CAA-FD232BB49345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5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commend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r the Non-Recurring $700 mill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9240" y="1433520"/>
            <a:ext cx="795636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Needs in MTA Capital Security Program ($10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gency Service Enhance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Half Fare Initiative and Holiday Promotions ($50 million in 2005 / $50 million in 2006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Unfunded Pension Liabilities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$450 million)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5D0-D97C-4B65-A525-281A056AF4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75B1-BC48-4259-9403-72861FFD4158}" type="datetime8">
              <a:rPr lang="en-US"/>
              <a:t>07/28/26 22:45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5-11-16T16:48:21Z</dcterms:modified>
  <cp:revision>643</cp:revision>
  <dc:subject/>
  <dc:title>Preliminary 2005 Budget and Financial Plan</dc:title>
</cp:coreProperties>
</file>