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FE8-21C9-43FD-9270-7A24FE5F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5E4-A8E6-40DA-9203-AA38D1C4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305D-232B-4148-A4CC-41967DDD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C61-B0DC-4F16-85D1-B8E759BD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F30-B6FD-40A9-9DBF-12A21610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09E-EDD5-468D-968D-84A8A05F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2BDF-AC69-4724-BE83-676A12B7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DB6F-D8E5-4757-8A74-47F867A7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C82-BA14-4A39-A426-B6DEDF15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BBF5-5F1B-463F-86A4-43939D5D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CEC-9548-46CD-9EB9-DCD25CDE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B3F-BEAB-4B0E-8431-0B21D34A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6101-A1E5-4F24-9CD2-5FA293DA9C1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E2CEFFA-1557-49C3-A269-0047B2EEE73A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:5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51880" y="63262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vember Financial Plan 2006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44AD-9E08-47BC-86F3-2ECA7903FDA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25320" y="63421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70280" y="6324480"/>
            <a:ext cx="301680" cy="33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2360" y="54230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vember 16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MTA 2006 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6600"/>
                </a:solidFill>
                <a:latin typeface="Arial"/>
              </a:rPr>
              <a:t>November Financial Plan 2006 –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d4d4d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773-F667-4D1D-965B-25E21C49E79D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A0B00-13E3-4146-A26E-BEE1873C115B}" type="datetime8">
              <a:rPr lang="en-US"/>
              <a:t>07/31/26 11:52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52320" y="1409760"/>
          <a:ext cx="7772400" cy="45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09760"/>
                    <a:ext cx="77724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366480"/>
            <a:ext cx="82663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Policy and Gap Closing Action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B064-738B-4F5F-8003-0A1C89EADB1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0999A-114C-457C-BC05-C7F31C3BF829}" type="datetime8">
              <a:rPr lang="en-US"/>
              <a:t>07/31/26 11:52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520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 Closing Actions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2560" y="1566720"/>
          <a:ext cx="7769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566720"/>
                    <a:ext cx="7769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865080" y="5792760"/>
            <a:ext cx="68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cludes additional 5% revenue increases in 2007 and 2009, consistent with prior pla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DB5-DFEA-46E7-A431-59876CF04F8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295AE-0E5F-4059-ACD3-C497398682C0}" type="datetime8">
              <a:rPr lang="en-US"/>
              <a:t>07/31/26 11:52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74680" y="1400040"/>
          <a:ext cx="86122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400040"/>
                    <a:ext cx="8612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228240"/>
            <a:ext cx="7850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ebruary vs. July Pl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s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Gap Closing and Other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976320" y="5450040"/>
            <a:ext cx="9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5440" y="5451480"/>
            <a:ext cx="96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87880" y="5465880"/>
            <a:ext cx="10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15160" y="545148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48480" y="544356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5FE-4ACB-4D4F-8E4C-6158CFFEDA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F37BF-3D28-4F7D-BD7B-00D2B5556112}" type="datetime8">
              <a:rPr lang="en-US"/>
              <a:t>07/31/26 11:5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893960" y="2084400"/>
          <a:ext cx="5357880" cy="36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084400"/>
                    <a:ext cx="535788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4120" y="366480"/>
            <a:ext cx="833112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ree Main Driv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Baseline Net Improv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rom February Plan to July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E2C6-590C-4AB2-B087-2048F0AE409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70419-9055-46BB-811D-FAE94F57F476}" type="datetime8">
              <a:rPr lang="en-US"/>
              <a:t>07/31/26 11:52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6960" y="1407960"/>
          <a:ext cx="7707240" cy="42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1407960"/>
                    <a:ext cx="770724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366480"/>
            <a:ext cx="84121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n-Recurring Portion of the 2005 Surplu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BBDC-008A-414F-B225-1195878C098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584D9-1BA6-4DB1-A037-1A5EA3F435F0}" type="datetime8">
              <a:rPr lang="en-US"/>
              <a:t>07/31/26 11:52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Gap Closing and Other Actions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71400" y="1600200"/>
          <a:ext cx="7769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600200"/>
                    <a:ext cx="7769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865080" y="5826240"/>
            <a:ext cx="68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cludes additional 5% revenue increases in 2007 and 2009, consistent with prior pla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84FB-77BE-4CC0-B634-E85E6F532DE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05174-C3A5-4FB5-ADE2-89EDF33AA213}" type="datetime8">
              <a:rPr lang="en-US"/>
              <a:t>07/31/26 11:52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06560" y="1684440"/>
          <a:ext cx="7097760" cy="28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684440"/>
                    <a:ext cx="70977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of Non-Recurring Fund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737-7044-4BD4-A970-614B6797190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D6445-DA4C-440F-BADC-276667B556C8}" type="datetime8">
              <a:rPr lang="en-US"/>
              <a:t>07/31/26 11:52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98040" y="368280"/>
            <a:ext cx="7759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005 Monthly Real Est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action Tax Receipts*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90480" y="1219320"/>
          <a:ext cx="78138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219320"/>
                    <a:ext cx="78138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100160" y="5843520"/>
            <a:ext cx="718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cludes State MRT and 90% of Urban Tax (excludes paratransit and CDOT portions).  Additional 1/8% in MRT-1 rate is reflected in Mid-Year Update forecast and Actual beginning with July cash, but is not reflected in Adopted Budget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916-AF24-47FA-B51E-49D35A8987C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6D0B4-4AAF-42F3-88E4-ADD587A1C244}" type="datetime8">
              <a:rPr lang="en-US"/>
              <a:t>07/31/26 11:52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11120" y="1889280"/>
          <a:ext cx="8309160" cy="345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89280"/>
                    <a:ext cx="830916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sons for Baseline Net Improv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B69-2915-4617-8CB7-DC3B45C0DDE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43173-1ECB-44FA-B156-CD575938D760}" type="datetime8">
              <a:rPr lang="en-US"/>
              <a:t>07/31/26 11:52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5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commend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the Non-Recurring $700 mill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9240" y="1433520"/>
            <a:ext cx="795636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Needs in MTA Capital Security Program ($10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gency Service Enhancemen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5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Half Fare Initiative and Holiday Promotions ($50 million in 2005 / $50 million in 2006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Unfunded Pension Liabilitie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45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CF1-6106-455C-9A55-99995638647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E13E8-0286-4CA3-AD93-4E9E42B15B60}" type="datetime8">
              <a:rPr lang="en-US"/>
              <a:t>07/31/26 11:52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5-11-16T16:48:21Z</dcterms:modified>
  <cp:revision>643</cp:revision>
  <dc:subject/>
  <dc:title>Preliminary 2005 Budget and Financial Plan</dc:title>
</cp:coreProperties>
</file>