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3ED6-2338-4AA4-86BE-74CBEB33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76F5-CF24-45A9-9595-F09DF0DB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9581-726B-40B6-A408-A331CC5F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B83-D3CF-408F-9072-AD09651D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BB75-E0AC-4534-A19F-2B76052C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0385-40A1-48D0-89E4-A1D85CFE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0E74-B622-4AA3-9D39-7AABC75E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5C3C-0BE0-436A-976A-3B12ED00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611D-937B-4975-AEF1-2E685176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A8E2-4795-4770-B083-61D7C522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8051-156B-42C3-9F63-AFBFFEE6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65B0-CD56-49C7-BF3F-33E7A8DC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11B4-0792-4359-9385-F0CB4F23D26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9FEB7B4-3512-4AD2-B793-507A053D30D1}" type="datetime10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:0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951880" y="6326280"/>
            <a:ext cx="27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vember Financial Plan 2006-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8DD9-581B-4874-A458-48DA894C85A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25320" y="63421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70280" y="6324480"/>
            <a:ext cx="301680" cy="33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2360" y="54230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ovember 16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452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MTA 2006 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Final Proposed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006600"/>
                </a:solidFill>
                <a:latin typeface="Arial"/>
              </a:rPr>
              <a:t>November Financial Plan 2006 –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d4d4d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CE07-1B19-4C44-B443-9E4BBB8FEE44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4853F-0CE5-44D5-B3D5-8C5FEC01933C}" type="datetime8">
              <a:rPr lang="en-US"/>
              <a:t>07/30/26 02:04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52320" y="1409760"/>
          <a:ext cx="7772400" cy="458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409760"/>
                    <a:ext cx="777240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640" y="366480"/>
            <a:ext cx="82663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Policy and Gap Closing Action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B78E-A7FF-4455-9493-0AB651A892FF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A002B-C90F-4397-AFA0-A23A39A4F3FD}" type="datetime8">
              <a:rPr lang="en-US"/>
              <a:t>07/30/26 02:04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520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 Closing Actions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2560" y="1566720"/>
          <a:ext cx="776916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566720"/>
                    <a:ext cx="77691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865080" y="5792760"/>
            <a:ext cx="686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Includes additional 5% revenue increases in 2007 and 2009, consistent with prior pla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E537-8E59-4B93-9C6E-BEF7348685C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E4F5C-1FE1-4FC9-B27D-D4AC4C457309}" type="datetime8">
              <a:rPr lang="en-US"/>
              <a:t>07/30/26 02:04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74680" y="1400040"/>
          <a:ext cx="86122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1400040"/>
                    <a:ext cx="86122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228240"/>
            <a:ext cx="7850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ebruary vs. July Pla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s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Befor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Gap Closing and Other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976320" y="5450040"/>
            <a:ext cx="9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5440" y="5451480"/>
            <a:ext cx="96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87880" y="5465880"/>
            <a:ext cx="10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15160" y="5451480"/>
            <a:ext cx="10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48480" y="5443560"/>
            <a:ext cx="10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D99F-7B2D-4B33-981C-F392AC1ED5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C543F-25F1-4F10-89D7-DB7B4B20CEF5}" type="datetime8">
              <a:rPr lang="en-US"/>
              <a:t>07/30/26 02:04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893960" y="2084400"/>
          <a:ext cx="5357880" cy="360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2084400"/>
                    <a:ext cx="535788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4120" y="366480"/>
            <a:ext cx="833112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ree Main Driv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r Baseline Net Improve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rom February Plan to July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6215-C3AD-4ED8-9267-808CE69F8BE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FA6B5-D2A1-445D-B696-28D242AC7D4F}" type="datetime8">
              <a:rPr lang="en-US"/>
              <a:t>07/30/26 02:04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96960" y="1407960"/>
          <a:ext cx="7707240" cy="425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960" y="1407960"/>
                    <a:ext cx="770724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8840" y="366480"/>
            <a:ext cx="84121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n-Recurring Portion of the 2005 Surplu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9D61-E111-4A76-9138-51058282EB0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F02ADB-512D-4C72-985E-6FCEC2E18442}" type="datetime8">
              <a:rPr lang="en-US"/>
              <a:t>07/30/26 02:0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Gap Closing and Other Actions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71400" y="1600200"/>
          <a:ext cx="776916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600200"/>
                    <a:ext cx="77691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865080" y="5826240"/>
            <a:ext cx="686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Includes additional 5% revenue increases in 2007 and 2009, consistent with prior pla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330B-63F5-44B6-8552-660E946C791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DFBFB-8DC2-45CB-ADEC-35763A8E5F1A}" type="datetime8">
              <a:rPr lang="en-US"/>
              <a:t>07/30/26 02:04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06560" y="1684440"/>
          <a:ext cx="7097760" cy="282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684440"/>
                    <a:ext cx="70977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of Non-Recurring Fund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819E-4775-4204-B243-3AFC80E0BF1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EF523-02EB-41FC-9521-794E9C7B5678}" type="datetime8">
              <a:rPr lang="en-US"/>
              <a:t>07/30/26 02:04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98040" y="368280"/>
            <a:ext cx="7759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005 Monthly Real Est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action Tax Receipts*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90480" y="1219320"/>
          <a:ext cx="781380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219320"/>
                    <a:ext cx="781380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100160" y="5843520"/>
            <a:ext cx="718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cludes State MRT and 90% of Urban Tax (excludes paratransit and CDOT portions).  Additional 1/8% in MRT-1 rate is reflected in Mid-Year Update forecast and Actual beginning with July cash, but is not reflected in Adopted Budget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FC96-8C1E-4AA0-862F-AE4995C0091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47793-823B-4AC9-85AA-DF8EC3000800}" type="datetime8">
              <a:rPr lang="en-US"/>
              <a:t>07/30/26 02:04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11120" y="1889280"/>
          <a:ext cx="8309160" cy="345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889280"/>
                    <a:ext cx="830916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sons for Baseline Net Improv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CA1E-30F6-476A-BE83-4AAB7875F2E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A0399-6A62-4651-AE2D-491B8CCCFA3F}" type="datetime8">
              <a:rPr lang="en-US"/>
              <a:t>07/30/26 02:04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5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commend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r the Non-Recurring $700 mill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9240" y="1433520"/>
            <a:ext cx="795636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 Needs in MTA Capital Security Program ($10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Agency Service Enhancemen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$5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Half Fare Initiative and Holiday Promotions ($50 million in 2005 / $50 million in 2006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Unfunded Pension Liabilities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$45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F143-6523-418E-A2D9-2B99702CAB7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81242-AA61-4151-9BFE-8B05D310FAA3}" type="datetime8">
              <a:rPr lang="en-US"/>
              <a:t>07/30/26 02:04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5-11-16T16:48:21Z</dcterms:modified>
  <cp:revision>643</cp:revision>
  <dc:subject/>
  <dc:title>Preliminary 2005 Budget and Financial Plan</dc:title>
</cp:coreProperties>
</file>