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0C9F-D2AB-4BF0-B8FB-70298781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7A4C-5552-4D54-A344-AA09CBB6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36D-3D1C-4B93-8316-811036F1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A13D-301C-4F39-9BCF-30C855C9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8BE-A5E9-4AA8-83D1-92762C71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189-2264-4C06-89C9-95BB55D0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336-2408-41E1-BAD0-4D2711FB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614-CBBF-4E63-AA57-FAA26A00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694F-37B7-4501-96DE-811A3F8A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8CD-3A82-4F32-947F-6E67274C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B4BD-C62C-4513-BB8E-61FEB5A8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421-B67A-4E68-BE4F-1F93FAB8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70960" y="63262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vember Financial Plan 2007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3B9E-EF90-4323-AD3B-A92AFBB5B50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4200" y="5641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 29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MTA 2007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0000"/>
                </a:solidFill>
                <a:latin typeface="Arial"/>
              </a:rPr>
              <a:t>November Financial Plan 2007 –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B1AA-BF12-410F-A8AF-20204639D11D}" type="slidenum">
              <a:t>1</a:t>
            </a:fld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F1C-071E-41F1-9359-4CC89E143C5F}" type="slidenum">
              <a:t>2</a:t>
            </a:fld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hanges to the Basel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7280" y="1071360"/>
            <a:ext cx="8020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Estate Tax Revenue Projections Re-estimat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.0 billion more over Plan period: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176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01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14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33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49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Proposed 5% Fare and Toll Yield Increases for 2007 and 2009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.3 billion less over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l Subway and Bus Off-Peak Service Adjustmen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75 million less over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A8E5-7059-4CEE-950F-6BD14B94489D}" type="slidenum">
              <a:t>3</a:t>
            </a:fld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w Initiativ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9200" y="952200"/>
            <a:ext cx="82393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ed Emergency Preparedness Training for Operating Personn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5 million over 4 years based on Kroll Associates recommendat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Security Contingencies, Including MTA Police Radio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$50 million for a total of $150 mill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Contribution to GASB Fun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$80 million for a total of $577 mill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YCT Subway Station Paint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8 Stations (12 per year) funded through Capital Program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 million annually from Operating Budget for remaining 350 stations over 10 year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2 Million from Stuyvesant Town / Peter Cooper Village sale will fund 200 of the remaining 350 station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33F-DA8B-413A-9A29-D9C60908E219}" type="slidenum">
              <a:t>4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F64-C85C-411A-B04D-4D531FC8B0B2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6040" y="35532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ed to Address Out-Year Defici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252080"/>
            <a:ext cx="8175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Savings Expected from Shared Services and MTA Reorgan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5 million per year by end of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81 Million to Cover One-Time Costs Associated with Downsiz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759-786A-4DDC-8EBE-B92FC8663DD4}" type="slidenum">
              <a:t>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6-11-28T20:21:42Z</dcterms:modified>
  <cp:revision>690</cp:revision>
  <dc:subject/>
  <dc:title>Preliminary 2005 Budget and Financial Plan</dc:title>
</cp:coreProperties>
</file>