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09692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9FF7E0-CFAB-477F-B00C-B82ABD263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96920" y="343080"/>
            <a:ext cx="4673520" cy="3504960"/>
          </a:xfrm>
          <a:prstGeom prst="rect">
            <a:avLst/>
          </a:prstGeom>
          <a:ln w="0">
            <a:noFill/>
          </a:ln>
        </p:spPr>
      </p:sp>
      <p:graphicFrame>
        <p:nvGraphicFramePr>
          <p:cNvPr id="92" name=""/>
          <p:cNvGraphicFramePr/>
          <p:nvPr/>
        </p:nvGraphicFramePr>
        <p:xfrm>
          <a:off x="3168720" y="4451400"/>
          <a:ext cx="520560" cy="243000"/>
        </p:xfrm>
        <a:graphic>
          <a:graphicData uri="http://schemas.openxmlformats.org/drawingml/2006/table">
            <a:tbl>
              <a:tblPr/>
              <a:tblGrid>
                <a:gridCol w="52056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049400" y="228600"/>
            <a:ext cx="4705200" cy="3530520"/>
          </a:xfrm>
          <a:prstGeom prst="rect">
            <a:avLst/>
          </a:prstGeom>
          <a:ln w="0">
            <a:noFill/>
          </a:ln>
        </p:spPr>
      </p:sp>
      <p:sp>
        <p:nvSpPr>
          <p:cNvPr id="94" name=""/>
          <p:cNvSpPr/>
          <p:nvPr/>
        </p:nvSpPr>
        <p:spPr>
          <a:xfrm>
            <a:off x="289080" y="5200560"/>
            <a:ext cx="634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7EC-9D41-4276-8D8C-AA943C8F1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23B-608B-4D9F-A6AB-A319793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65E-D3F3-495F-B7D0-B07C2DDD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FA7C-065B-4AA2-8899-3D1A2340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F691-B6B8-4B1D-B3A4-4D823D30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9E6-AF5A-429D-8698-C59F543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3CDD-1538-484B-A0B6-B8B8BA12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EAD5-C67B-4D5D-9D93-917EA60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C2E-CDC7-4D0C-9A37-D08B82C1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1AB-2304-490A-9062-B4A81D3C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8036-87FB-4FCE-AC64-4F6BBC7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55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6C5-553F-4FD2-8284-F30CC954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248520"/>
            <a:ext cx="86868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9840" y="6324480"/>
            <a:ext cx="29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ropolitan Transportation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80880" y="6307200"/>
            <a:ext cx="301680" cy="333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334920" y="6326280"/>
            <a:ext cx="223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July Financial Plan 2007-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19720" y="6496200"/>
            <a:ext cx="97164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C500-24C8-4B8E-8EDC-1FD437788E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7440" y="228600"/>
            <a:ext cx="8686800" cy="228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2473200"/>
            <a:ext cx="4267440" cy="306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4200" y="5432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uly 26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4520" y="614520"/>
            <a:ext cx="8534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MTA 2007 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Arial Black"/>
              </a:rPr>
              <a:t>Preliminary Budg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4000">
                <a:solidFill>
                  <a:srgbClr val="333399"/>
                </a:solidFill>
                <a:latin typeface="Arial"/>
              </a:rPr>
              <a:t>July Financial Plan 2007 – 20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1720" y="3965400"/>
            <a:ext cx="38916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 Narrow"/>
              </a:rPr>
              <a:t>DJC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61D2-14C7-4974-89D2-7600B8A45179}" type="slidenum">
              <a:t>1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Februar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7240" y="1522440"/>
          <a:ext cx="7777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" y="1522440"/>
                    <a:ext cx="777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E080-AABF-4E49-802D-946FB2A121C0}" type="slidenum">
              <a:t>2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Baseline Before Policy and Gap-Closing Action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5D7-701C-423C-87AD-4A4EECBC9BD3}" type="slidenum">
              <a:t>3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8600" y="1652760"/>
          <a:ext cx="8118360" cy="3697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652760"/>
                    <a:ext cx="811836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8920" y="36648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Reasons for Baseline Net Improvements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B33-E422-4E64-86EC-4F8A7C41C421}" type="slidenum">
              <a:t>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84160" y="1058760"/>
          <a:ext cx="7345440" cy="532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1058760"/>
                    <a:ext cx="734544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0480" y="128160"/>
            <a:ext cx="82659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Agency Baseline Changes 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258-6F73-499E-AE8C-E6D2672C2D77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8680" y="228600"/>
            <a:ext cx="78073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Year-to-Year Changes in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‘Uncontrollable’ and ‘Controllable’ Operating Expenses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77880" y="134136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34136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746280" y="5056200"/>
            <a:ext cx="761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ratransit Service Contracts, Fuel for Buses &amp; Trains, Traction &amp; Propulsion Power, Debt Service, Health &amp; Welfare, Pensions, Insurance, and Cla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able’ Operating Expen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clude Payroll, Overtime, Other-Fringe Benefits, Reimbursable Overhead, Maintenance &amp; Other Operating Contracts, Professional Service Contracts, and Materials &amp; Supp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ACA-E447-4E62-9C7F-67B33DA868B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5640" y="1325520"/>
          <a:ext cx="7083360" cy="431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325520"/>
                    <a:ext cx="708336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8920" y="160200"/>
            <a:ext cx="82659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With Policy and Gap Closing Actions</a:t>
            </a: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283-0113-4406-B3D4-FCB61D36FCA9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0880" y="334440"/>
            <a:ext cx="7842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July Financial Plan</a:t>
            </a:r>
            <a:br>
              <a:rPr sz="2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Closing Cash Balance After Policy and Gap-Closing Actions *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Arial Black"/>
              </a:rPr>
              <a:t>($ in millions)</a:t>
            </a:r>
            <a:endParaRPr b="0" lang="en-US" sz="18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76440" y="1522440"/>
          <a:ext cx="7777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1522440"/>
                    <a:ext cx="7777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865080" y="5770440"/>
            <a:ext cx="74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* Consistent with prior plans, includes additional 5% revenue increases - September 2007 and January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C16-FC46-41CF-9844-93BF0F521D3B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1440" y="142920"/>
            <a:ext cx="78613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If the Board Does Not Continue Its Polic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f Small Bi-Annual Fare &amp; Toll Increases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Out-Year Deficits Will Increase</a:t>
            </a:r>
            <a:br>
              <a:rPr sz="2800"/>
            </a:br>
            <a:endParaRPr b="0" lang="en-US" sz="2400" spc="-1" strike="noStrike">
              <a:solidFill>
                <a:srgbClr val="333399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88880" y="1322280"/>
          <a:ext cx="8137440" cy="48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322280"/>
                    <a:ext cx="81374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00120" y="5064120"/>
            <a:ext cx="169920" cy="1602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00120" y="5283360"/>
            <a:ext cx="169920" cy="16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5120" y="5032440"/>
            <a:ext cx="40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July Plan Closing Cash Balance, After Policy &amp; Gap-Closing 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9800" y="5275440"/>
            <a:ext cx="422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Gap if 2007 &amp; 2009 Fare &amp; Toll Yields Are Not Increa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40120" y="2894040"/>
            <a:ext cx="7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40280" y="4165560"/>
            <a:ext cx="843120" cy="307080"/>
          </a:xfrm>
          <a:prstGeom prst="rect">
            <a:avLst/>
          </a:prstGeom>
          <a:solidFill>
            <a:srgbClr val="ff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14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24840" y="5030640"/>
            <a:ext cx="8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98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1200" y="4633920"/>
            <a:ext cx="8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$1,62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104-A7AF-4400-8124-185517CE6605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8:18:55Z</dcterms:created>
  <dc:creator>David Keller</dc:creator>
  <dc:description/>
  <dc:language>en-US</dc:language>
  <cp:lastModifiedBy>MTA</cp:lastModifiedBy>
  <cp:lastPrinted>2004-07-16T15:55:26Z</cp:lastPrinted>
  <dcterms:modified xsi:type="dcterms:W3CDTF">2006-07-26T13:58:14Z</dcterms:modified>
  <cp:revision>650</cp:revision>
  <dc:subject/>
  <dc:title>Preliminary 2005 Budget and Financial Plan</dc:title>
</cp:coreProperties>
</file>