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56F-81D4-491B-AE72-7EAA90A40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1F41-F2CA-4ADF-8AD5-02D6F2C0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51C-49FD-4BAB-8C0F-A559B5ED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2E7-B929-496D-B8C7-317A32E5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1214-AF0D-4DBB-B0E9-69A0EEE7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6D74-0235-4164-9DB1-685EE74D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7A6-7BF7-4264-BDE4-32A81E68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2A8-EE7A-4754-8F77-9AE869A3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BE4-58A2-45E8-8807-61A8364C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410-8891-4B27-A9F9-15AB2419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10F-C5F6-4FD8-82C1-DBAF7AB0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1AB-93BD-45A7-BBF7-2EDC652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970960" y="6326280"/>
            <a:ext cx="27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vember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3D3F-00F2-4021-A0D5-73E05F6B647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4200" y="5641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mber 29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Proposed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000000"/>
                </a:solidFill>
                <a:latin typeface="Arial"/>
              </a:rPr>
              <a:t>November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CB6-19A9-4A5E-89EA-BCC0D32806B6}" type="slidenum">
              <a:t>1</a:t>
            </a:fld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57F-3643-47CF-B67E-47B414A94C32}" type="slidenum">
              <a:t>2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hanges to the Baseline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7280" y="1071360"/>
            <a:ext cx="8020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Estate Tax Revenue Projections Re-estimate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0 billion more over Plan period: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176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01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14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33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49 million</a:t>
            </a:r>
            <a:endParaRPr b="1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Proposed 5% Fare and Toll Yield Increases for 2007 and 2009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.3 b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l Subway and Bus Off-Peak Service Adjustment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buClr>
                <a:srgbClr val="8c0832"/>
              </a:buClr>
              <a:buFont typeface="Arial"/>
              <a:buChar char="♦"/>
              <a:tabLst>
                <a:tab algn="l" pos="2233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75 million less over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5BF-6E8C-4353-8032-7C623B319DA3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w Initiative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9200" y="952200"/>
            <a:ext cx="823932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d Emergency Preparedness Training for Operating Personnel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5 million over 4 years based on Kroll Associates recommendat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Security Contingencies, Including MTA Police Radios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50 million for a total of $150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Contribution to GASB Fund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$80 million for a total of $577 million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YCT Subway Station Paint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8 Stations (12 per year) funded through Capital Program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 million annually from Operating Budget for remaining 350 stations over 10 year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2 Million from Stuyvesant Town / Peter Cooper Village sale will fund 200 of the remaining 350 stations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47B-4FE9-4BD9-86AF-B0ADD86546F8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vember Financial Plan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losing Cash Balance After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440-0F5F-4019-BE0B-0D036790FC55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6040" y="35532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ed to Address Out-Year Deficits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252080"/>
            <a:ext cx="8175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avings Expected from Shared Services and MTA Reorganization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0832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5 million per year by end of Plan period</a:t>
            </a:r>
            <a:endParaRPr b="1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c0832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81 Million to Cover One-Time Costs Associated with Downsizing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A16-18B8-4C33-B3D6-449EA27D20F0}" type="slidenum">
              <a:t>6</a:t>
            </a:fld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David E. Keller</cp:lastModifiedBy>
  <cp:lastPrinted>2004-07-16T15:55:26Z</cp:lastPrinted>
  <dcterms:modified xsi:type="dcterms:W3CDTF">2006-11-28T20:21:42Z</dcterms:modified>
  <cp:revision>690</cp:revision>
  <dc:subject/>
  <dc:title>Preliminary 2005 Budget and Financial Plan</dc:title>
</cp:coreProperties>
</file>