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D286-0710-4DA4-BC2A-DB577362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437-16EC-445B-A977-D3404D71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DAF-F331-4322-B91B-B887C088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177-236B-4A56-B7F5-E15A0655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DC2-0D4D-4F14-8922-36F9B1E2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4ED-9008-4D93-914D-90ABCEB9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1DF-0653-4C8E-8836-53CDE248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A47-8D64-49F9-81CE-F47653C4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280-4547-4606-A6D5-D5C37BE3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948-E6A1-4AE2-925E-D14E2E13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2EE-28CF-4EA0-80FC-18BF3900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23A-B6A8-41CC-A94B-EA0324BD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7096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E569-F5E6-4848-89A8-88BE63E2299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4200" y="5641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29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0000"/>
                </a:solidFill>
                <a:latin typeface="Arial"/>
              </a:rPr>
              <a:t>November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CC0-E206-4362-BFC9-A514CC7C3A83}" type="slidenum">
              <a:t>1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139-1683-444F-AC27-0A03CFF95947}" type="slidenum">
              <a:t>2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anges to the Basel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7280" y="1071360"/>
            <a:ext cx="8020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Estate Tax Revenue Projections Re-estimat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0 billion more over Plan period: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176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01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14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33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49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Proposed 5% Fare and Toll Yield Increases for 2007 and 2009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3 b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 Subway and Bus Off-Peak Service Adjust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75 m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A69-9A6C-40DD-833B-619A228E4900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w Initiativ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9200" y="952200"/>
            <a:ext cx="82393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d Emergency Preparedness Training for Operating Personn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 million over 4 years based on Kroll Associates recommendat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Security Contingencies, Including MTA Police Radio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50 million for a total of $150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Contribution to GASB Fun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80 million for a total of $577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YCT Subway Station Paint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8 Stations (12 per year) funded through Capital Program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 million annually from Operating Budget for remaining 350 stations over 10 year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2 Million from Stuyvesant Town / Peter Cooper Village sale will fund 200 of the remaining 350 station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220-1D9E-4F1A-98AC-27D0D4359DF7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097-229B-4429-80C5-45ECA506C01D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6040" y="35532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ed to Address Out-Year Defici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252080"/>
            <a:ext cx="8175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avings Expected from Shared Services and 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5 million per year by end of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81 Million to Cover One-Time Costs Associated with Downsiz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490-ACD8-49CB-9F42-03FA16A74CAC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6-11-28T20:21:42Z</dcterms:modified>
  <cp:revision>690</cp:revision>
  <dc:subject/>
  <dc:title>Preliminary 2005 Budget and Financial Plan</dc:title>
</cp:coreProperties>
</file>